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5F94-3336-4041-843B-E87386F361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9E5-C57A-4FD7-AA84-FF525BA3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45D-6CA8-476C-9DA1-54AEE90D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6BA-3A17-4A8F-B2F8-A1CCEE6C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A86-46D4-4AC4-8C0D-FF3CF06C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C50C-3758-4A7D-89AD-82D687DA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1673-FEF7-4EDF-A3BF-EB89E894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09E6-6994-4668-91B5-FC2B397A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3F62-C6F8-4DDF-9DFA-6C8D5AE6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FFDF-6DE7-42F0-A61F-ACEBE069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47A8-C3C3-4717-8773-D5428F01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5AAB-A3A1-461D-9301-CB976B01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14E-9F27-467F-A823-43F3B66B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2A16-933C-4BFA-97B3-2682CEF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1C97-B04E-45C0-B1DB-8284DCA4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85A0-D001-4F56-8C84-373BE092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D349-1A2E-4E28-9412-DD1582A8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7896-D680-457A-B5C2-8E26CE86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E40-69C7-4113-A24B-BC23C323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7C7-7F70-41C5-A28E-8B5EB26F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1E2-B304-4C6E-A7EB-EA018A02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7C6-A32F-477A-8D4A-D628CD7E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48B-8E54-4CB1-B3C5-1FA017AC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5B5-EA9C-4881-BD9F-7BB0FD8C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845-0653-4BD1-B53B-44BB5C3B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05A4-83D4-433C-A258-FCFAD78A13F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4FB9-D03F-4E46-BD73-4D040B3D491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LEGION</cp:lastModifiedBy>
  <dcterms:modified xsi:type="dcterms:W3CDTF">2017-07-03T10:43:17Z</dcterms:modified>
  <cp:revision>75</cp:revision>
  <dc:subject/>
  <dc:title>Units 4 &amp; 5 </dc:title>
</cp:coreProperties>
</file>