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C509-9950-4A4B-9730-D8A60D0E44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F32-2027-434D-80E7-8B4C5459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0F6-47A7-4D7A-A55F-32133C44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119-F8EF-477A-AA38-E85E3C3F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821-D330-44BC-A463-8BB42035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2EDE-5782-4FDA-A211-F663F858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C2A9-CBEF-4C90-B113-3EBB73B4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7C6D-B648-4B26-9BE8-255276D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A632-2C96-4F61-9002-0B29D1FB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0180-887C-47E8-B728-5C1CEDCC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917F-AB1B-4761-A9A0-D9F46F97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60D1-DB54-4237-94AF-41ADFE21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B18-7B35-4E49-BE64-358F819D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4331-D8A4-4965-96F1-57B269F0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C3C5-FC44-434B-A6F5-BA55F7E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C46B-4622-4CC3-84E9-DAB0FCB7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A13E-9B95-4596-B2B6-DF1EC2C8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336E-D395-431A-B9B9-8B93BE7B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47C-4340-4849-89A9-87E9457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1AB-87CF-4672-AEE5-9596AE3A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1D4-3757-4DE2-9DD9-7A077CAD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667-01C0-4887-BD81-05C7C420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AB5-33E6-482F-A015-E467F603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9E3-5B82-4FF9-A9E5-BE94E09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523-5CC9-4C06-853F-7E7D9FE6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B80B-1CF4-4350-A07E-40D9E0CBB67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8D73-9E6C-4F4E-B702-DDEA98E2DB9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LEGION</cp:lastModifiedBy>
  <dcterms:modified xsi:type="dcterms:W3CDTF">2017-07-03T10:43:17Z</dcterms:modified>
  <cp:revision>75</cp:revision>
  <dc:subject/>
  <dc:title>Units 4 &amp; 5 </dc:title>
</cp:coreProperties>
</file>