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CA84-8941-490F-A33F-B735614863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B7C-4427-44DF-9ED9-30796130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E58-4E27-4BD1-B6C3-6D871462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88D-4916-4437-99C3-A1AAE267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C0B-348C-417C-B688-F8BFBF25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95F0-8E13-438D-9FD1-D80F20B8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C1A7-13DF-4BDE-B8EC-31FC7A1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4E7C-4D62-4FDB-8BB4-37F48E96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BF8F-4946-43A3-920A-D83E6C93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F1C5-94C5-4A96-B44C-BE85877B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ECEA-1DE4-42E9-9BF6-79AB5E91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39B8-1C1D-4AAB-9246-87F0F060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897-907B-4E55-995B-F40A2A9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EC97-A106-4800-B796-28651ACB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4334-D1A1-414E-90D9-0FF21C5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118A-0191-4972-979E-63FDB18D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D40F-637F-4075-BAE9-019EFD0C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A838-CC43-4EBF-A5CC-644165A0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CC4-BF1E-43BC-A398-1F6A0E10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41B-1DAD-4D3D-ADA5-A7FCB29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6A6-E418-4405-BDDA-F82ADD2F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E63-F0CA-4149-84EE-1F0A32F5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090-BFD7-4E1A-9E79-3D258AA5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8F8-3FC1-4096-AF9D-51CE2566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2A4-C37A-4194-B6B8-0D37498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787B-5E06-4735-B6FC-4693ABF70ED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7C8F-F9F1-4CF2-8DA7-0ED73F747FE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LEGION</cp:lastModifiedBy>
  <dcterms:modified xsi:type="dcterms:W3CDTF">2017-07-03T10:43:17Z</dcterms:modified>
  <cp:revision>75</cp:revision>
  <dc:subject/>
  <dc:title>Units 4 &amp; 5 </dc:title>
</cp:coreProperties>
</file>