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A070-5E0A-4759-88F2-4A0022248F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 - 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LEGION</cp:lastModifiedBy>
  <dcterms:modified xsi:type="dcterms:W3CDTF">2017-07-03T11:26:20Z</dcterms:modified>
  <cp:revision>16</cp:revision>
  <dc:subject>Dr Martin Luther King</dc:subject>
  <dc:title>Dr Martin Luther King</dc:title>
</cp:coreProperties>
</file>