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8EA0-C869-4B82-9D91-3C18DAEEB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F8F-3DB5-4D39-A6FA-558C7EE4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EA4-3F9F-447A-856A-88AB0AAE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F02-70E5-4A81-846D-0C760629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C98-2A66-40CF-8E50-C5274211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7F1-DF91-4735-BF83-3320710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B23-C0F8-43B1-B1B2-D765971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099-2F07-4E33-957F-1A47B4F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B52-9AC9-4931-B74F-544BC77E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91A-CA98-49E9-944B-8208B83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BDA-799C-4358-A1DA-B61E7B2C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768-F953-4D34-A7F9-2F6B657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872-8FAC-4F6F-A6F1-850FF801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057F-F79A-41FB-8F4D-C7719FC2EE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8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7-07-03T10:10:37Z</dcterms:modified>
  <cp:revision>10</cp:revision>
  <dc:subject>England in 1060 hastings 1066</dc:subject>
  <dc:title>England in 1060 hastings 1066</dc:title>
</cp:coreProperties>
</file>