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671A-F0B0-427B-9BE1-CD9C987A20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DE9-2021-47F8-8C94-B64FFD2C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4DB-84C3-434E-B7BF-DE807E77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224C-EDC3-4DD5-B8F9-7F99E851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52B4-7E92-45E5-BE81-3671AD5D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7B1-58CE-4C98-AAE6-6688FAFD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3DE-FB0F-4B49-A008-0C00C5EA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9743-4E7B-40E1-81F3-C68C36C8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69A2-812E-405C-BCE4-BF664507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6014-33FD-4237-9BB6-45B21C4D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3E3A-B365-42E1-B8DE-E71FCEA5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054B-08FD-4A4F-94A0-A32B19C4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C5C-BAD0-402D-8F10-A9AD08CB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EE9D-04C8-4363-A2AB-DA49B6E05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3C62-48F9-40BB-B776-EC7A77D8A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io001.jpg"/>
          <p:cNvPicPr/>
          <p:nvPr/>
        </p:nvPicPr>
        <p:blipFill>
          <a:blip r:embed="rId1"/>
          <a:stretch/>
        </p:blipFill>
        <p:spPr>
          <a:xfrm>
            <a:off x="304920" y="0"/>
            <a:ext cx="8553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bio01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bio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bio01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bio01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bio01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bio01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bio01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bio01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bio01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bio01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io00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bio02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bio02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bio02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bio02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bio02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bio02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bio02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bio02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bio02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bio03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io00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bio03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bio03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bio03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bio03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bio03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bio03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bio03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io03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bio04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bio04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bio00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bio04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bio04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bio04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bio00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bio00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bio00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bio0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bio00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36:26Z</dcterms:created>
  <dc:creator>User</dc:creator>
  <dc:description/>
  <dc:language>en-US</dc:language>
  <cp:lastModifiedBy>LEGION</cp:lastModifiedBy>
  <dcterms:modified xsi:type="dcterms:W3CDTF">2017-07-03T11:22:42Z</dcterms:modified>
  <cp:revision>5</cp:revision>
  <dc:subject/>
  <dc:title>Photo Album</dc:title>
</cp:coreProperties>
</file>