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3D9E-AF1B-45B0-8BAA-B7E79FBD21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7A8A-EFA5-4979-BD63-41EF426F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E665-C598-4E6F-B743-DB8953D6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D55-66E2-4FC4-BC27-0C2B0174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4E5-EECD-4371-8529-E1D41406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FEF-2178-468C-B46B-B62189BB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A9E-CC27-4DD8-98CB-3D59F96F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B6D-4E78-44F8-A00E-5DD07AFE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2A9A-0297-496B-B3AB-D09D9292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479-1849-4054-BABB-CDF80BDB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02F-A27C-4247-B230-00281B61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E05-0107-4C03-A888-7AF02904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A803-A2D7-429A-93EC-FA6D2E27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A5DF-1917-405F-9817-98FAF63998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6B43-7B3A-4813-B626-57FB67E77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bio001.jpg"/>
          <p:cNvPicPr/>
          <p:nvPr/>
        </p:nvPicPr>
        <p:blipFill>
          <a:blip r:embed="rId1"/>
          <a:stretch/>
        </p:blipFill>
        <p:spPr>
          <a:xfrm>
            <a:off x="304920" y="0"/>
            <a:ext cx="8553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bio01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bio01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bio01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bio01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bio01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bio01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bio01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bio01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bio01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bio01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bio00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bio02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bio02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bio02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bio02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bio02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bio02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bio02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bio02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bio02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bio03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bio00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bio03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bio03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bio03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bio03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bio03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bio03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bio03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bio03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bio04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bio04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bio00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bio04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bio04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bio04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bio00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bio00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bio00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bio00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bio00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36:26Z</dcterms:created>
  <dc:creator>User</dc:creator>
  <dc:description/>
  <dc:language>en-US</dc:language>
  <cp:lastModifiedBy>LEGION</cp:lastModifiedBy>
  <dcterms:modified xsi:type="dcterms:W3CDTF">2017-07-03T11:22:42Z</dcterms:modified>
  <cp:revision>5</cp:revision>
  <dc:subject/>
  <dc:title>Photo Album</dc:title>
</cp:coreProperties>
</file>