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FCE6-657C-4EBA-9F1E-59041B4DCA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8F3E-CBC4-4BB3-9192-2B4E2965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BA92-2712-4BAA-9A91-B933B13B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09B-961F-4851-9F60-6B91E8B8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0B39-F78F-4B76-BF1F-7B5069CF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CEBB-FA8D-4524-9C87-86DC63C1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C8A8-804E-454D-99A6-3446CAED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427E-BE87-4006-BDDC-A8AEBD28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A040-7578-4764-BF4F-8071E09D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898E-FA0B-4CFA-8099-76467A7F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1E41-956D-4744-947F-94FA4BE3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E562-7CAC-4981-A1C9-A276B21D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8465-7F4F-42B8-8464-01833E5E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7313-3359-4674-9DE9-5665342D7C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9011-53D1-4602-9B14-C96EF86B7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bio001.jpg"/>
          <p:cNvPicPr/>
          <p:nvPr/>
        </p:nvPicPr>
        <p:blipFill>
          <a:blip r:embed="rId1"/>
          <a:stretch/>
        </p:blipFill>
        <p:spPr>
          <a:xfrm>
            <a:off x="304920" y="0"/>
            <a:ext cx="85532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bio01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bio01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bio01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bio01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bio01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bio01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bio016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bio01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bio01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bio019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bio00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bio02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bio02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bio02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bio02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bio02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bio02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bio026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bio02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bio02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bio03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bio00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bio03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bio03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bio03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bio03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bio03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bio03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bio03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bio039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bio04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bio04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bio00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bio04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bio04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bio04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bio00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bio006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bio00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bio00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bio009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2:36:26Z</dcterms:created>
  <dc:creator>User</dc:creator>
  <dc:description/>
  <dc:language>en-US</dc:language>
  <cp:lastModifiedBy>LEGION</cp:lastModifiedBy>
  <dcterms:modified xsi:type="dcterms:W3CDTF">2017-07-03T11:22:42Z</dcterms:modified>
  <cp:revision>5</cp:revision>
  <dc:subject/>
  <dc:title>Photo Album</dc:title>
</cp:coreProperties>
</file>