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FEA1-6E47-4A81-8841-5A1A8661CF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8ED7-E24E-4411-A981-6E4D4F66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5BCB-8122-4615-94B2-FCF6B08C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139A-9F10-48BC-B381-3B068CB4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5B70-C553-4F88-A9DD-AADD26DD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225-844F-4F26-968F-5CAC6DD7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8F79-CA5C-41E4-A54A-E433D3D7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42DA-E2A1-401F-A15F-C54395D2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D267-303B-4D5B-8B35-946006D5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4311-805A-47BD-B837-9F2ABC5E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6199-8AF6-4B88-AC6F-662E1DE9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817A-ED2C-4DD1-984A-909DEB98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43F1-2487-48EF-92C4-78AAF0AC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B45E-27A9-4089-95EC-00D5F29A34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C25B-FF60-47F7-8592-6A2D7C0F1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bio001.jpg"/>
          <p:cNvPicPr/>
          <p:nvPr/>
        </p:nvPicPr>
        <p:blipFill>
          <a:blip r:embed="rId1"/>
          <a:stretch/>
        </p:blipFill>
        <p:spPr>
          <a:xfrm>
            <a:off x="304920" y="0"/>
            <a:ext cx="85532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bio01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bio01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bio01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bio01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bio01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bio01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bio01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bio01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bio01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bio01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bio00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bio02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bio02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bio02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bio02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bio02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bio02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bio02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bio02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bio02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bio03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bio00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bio03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bio03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bio03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bio03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bio03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bio03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bio03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bio03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bio04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bio04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bio00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bio04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bio04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bio04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bio00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bio00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bio00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bio00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bio00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36:26Z</dcterms:created>
  <dc:creator>User</dc:creator>
  <dc:description/>
  <dc:language>en-US</dc:language>
  <cp:lastModifiedBy>LEGION</cp:lastModifiedBy>
  <dcterms:modified xsi:type="dcterms:W3CDTF">2017-07-03T11:22:42Z</dcterms:modified>
  <cp:revision>5</cp:revision>
  <dc:subject/>
  <dc:title>Photo Album</dc:title>
</cp:coreProperties>
</file>