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8FE2-9C95-425F-9FCF-3AA8E06D93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A85-D910-420E-9FB8-2C56D7D2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087-5F99-48A6-AD44-CA2FAC69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A57-DE8A-4FF9-AFDD-3A59E2CD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166-B6FC-4317-9E38-76962E30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01CB-766E-4A69-9274-8344AB6D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F5D7-02DD-4681-B309-B4D11EC7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32B7-9435-425E-9F5D-82CD0884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160-AAEC-4C3F-92A6-8153BBE9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4D80-F6DD-4044-9D67-2DE6D216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4F3-11FD-495C-990D-E725FF6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7F1-DE52-4591-9C27-F96D7D5E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909-F6EF-4BA3-94E1-8B239CA5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862B-A01A-4674-A4FE-F1BB9B12267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LEGION</cp:lastModifiedBy>
  <dcterms:modified xsi:type="dcterms:W3CDTF">2017-07-03T11:22:12Z</dcterms:modified>
  <cp:revision>7</cp:revision>
  <dc:subject>How did Life in Egypt affect Medicine?</dc:subject>
  <dc:title>How did Life in Egypt affect Medicine?</dc:title>
</cp:coreProperties>
</file>