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voltage.wav" ContentType="audio/x-wav"/>
  <Override PartName="/ppt/media/coin.wav" ContentType="audio/x-wav"/>
  <Override PartName="/ppt/media/bomb.wav" ContentType="audio/x-wav"/>
  <Override PartName="/ppt/media/camera.wav" ContentType="audio/x-wav"/>
  <Override PartName="/ppt/media/wind.wav" ContentType="audio/x-wav"/>
  <Override PartName="/ppt/media/image2.jpeg" ContentType="image/jpeg"/>
  <Override PartName="/ppt/media/image3.png" ContentType="image/png"/>
  <Override PartName="/ppt/media/breeze.wav" ContentType="audio/x-wav"/>
  <Override PartName="/ppt/media/image4.jpeg" ContentType="image/jpeg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09A9-3473-40F0-93F9-041F98D57E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in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immigrants moved to the United States in the late 1800’s &amp; early 1900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in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immigrants moved to the United States in the late 1800’s &amp; early 1900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 Against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2 Congress passed Chinese Exclus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Chinese immigrants were kept out of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1 &amp; 1924 Congress passed laws that lowered  the number of Europeans &amp; As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immigrants faced prejudice upon arr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 Against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2 Congress passed Chinese Exclus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Chinese immigrants were kept out of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1 &amp; 1924 Congress passed laws that lowered  the number of Europeans &amp; As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immigrants faced prejudice upon arr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helped the U.S. become one of the richest and fastest-growing countries in the world.  They built railroads, dug mines, and worked i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helped the U.S. become one of the richest and fastest-growing countries in the world.  They built railroads, dug mines, and worked i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B79D-6156-45DF-B2DF-981314D62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4596-B785-4F09-8C36-42457078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B2C7-37C3-4F7A-B416-BC73120A8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CBCE-50F5-44AB-B673-0D92ECACA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C16F-32CF-405C-A4D0-CAF177A8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97C1-2041-4953-9FA8-8B9C6540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9379-8E6C-49C3-B4CB-8823EA34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FE21-4A8A-4FBA-8577-DB2869EC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4D25-4820-48C7-9413-06A40D88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CBB3-EEC2-464B-A6E2-EAE3F735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DA96-0B8E-4B3A-B0AA-08162474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FE5B-625E-4FD9-BF89-A69E5844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A073-0599-491D-A91A-03CEC3DAF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psites.net/gotham01/webpages/isaacs/Immigrants%2520seeing%2520Statue.jpg&amp;imgrefurl=http://www.mapsites.net/gotham01/webpages/isaacs/index.htm&amp;h=514&amp;w=640&amp;sz=86&amp;hl=en&amp;start=5&amp;tbnid=-hGJN2xi_QjhTM:&amp;tbnh=110&amp;tbnw=137&amp;prev=/images%3Fq%3Dimmigrants%26svnum%3D10%26hl%3Den%26lr%3D%26sa%3DG" TargetMode="External"/><Relationship Id="rId2" Type="http://schemas.openxmlformats.org/officeDocument/2006/relationships/image" Target="../media/image1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1960" y="914400"/>
            <a:ext cx="6553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Berlin Sans FB Demi"/>
              </a:rPr>
              <a:t>Immigrants in Americ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Berlin Sans FB"/>
              </a:rPr>
              <a:t>Millions of immigrants moved to the United States in the late 1800’s &amp; early 190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Immigrants%2520seeing%2520Statu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762120"/>
            <a:ext cx="2209680" cy="23922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  <p:sndAc>
      <p:stSnd>
        <p:snd r:embed="rId3" name="voltag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ff"/>
                </a:solidFill>
                <a:latin typeface="Berlin Sans FB Demi"/>
              </a:rPr>
              <a:t>Immigration S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Berlin Sans FB Demi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  <p:sndAc>
      <p:stSnd>
        <p:snd r:embed="rId1" name="bomb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228600"/>
          <a:ext cx="9144000" cy="62946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471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33"/>
                          </a:solidFill>
                          <a:latin typeface="Berlin Sans FB Demi"/>
                        </a:rPr>
                        <a:t>New immigrants arriving at Ellis Island. At Ellis they will be "processed" before they are allowed to continue their journey to find a new hom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Picture 5" descr="Photo of immigrants arriving at Ellis Island"/>
          <p:cNvPicPr/>
          <p:nvPr/>
        </p:nvPicPr>
        <p:blipFill>
          <a:blip r:embed="rId1"/>
          <a:stretch/>
        </p:blipFill>
        <p:spPr>
          <a:xfrm>
            <a:off x="1981080" y="685800"/>
            <a:ext cx="4762800" cy="41911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2" name="breez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growthcenters-big"/>
          <p:cNvPicPr/>
          <p:nvPr/>
        </p:nvPicPr>
        <p:blipFill>
          <a:blip r:embed="rId1"/>
          <a:stretch/>
        </p:blipFill>
        <p:spPr>
          <a:xfrm>
            <a:off x="914400" y="781200"/>
            <a:ext cx="7848720" cy="568296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erlin Sans FB Demi"/>
              </a:rPr>
              <a:t>Laws Against 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1882 Congress passed Chinese Exclusion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Almost all Chinese immigrants were kept out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1921 &amp; 1924 Congress passed laws that lowered  the number of Europeans &amp; As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All immigrants faced prejudice upon arr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1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Berlin Sans FB Demi"/>
              </a:rPr>
              <a:t>Immigrants helped the U.S. become one of the richest and fastest-growing countries in the world.  They built railroads, dug mines, and worked in factor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day_without_immigrants"/>
          <p:cNvPicPr/>
          <p:nvPr/>
        </p:nvPicPr>
        <p:blipFill>
          <a:blip r:embed="rId1"/>
          <a:stretch/>
        </p:blipFill>
        <p:spPr>
          <a:xfrm>
            <a:off x="2666880" y="3124080"/>
            <a:ext cx="3581640" cy="347508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coin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im2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56272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6:16:47Z</dcterms:created>
  <dc:creator>Your User Name</dc:creator>
  <dc:description/>
  <dc:language>en-US</dc:language>
  <cp:lastModifiedBy>LEGION</cp:lastModifiedBy>
  <dcterms:modified xsi:type="dcterms:W3CDTF">2017-07-03T11:22:33Z</dcterms:modified>
  <cp:revision>8</cp:revision>
  <dc:subject/>
  <dc:title>Immigrants in America</dc:title>
</cp:coreProperties>
</file>