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2851-31DA-4630-BD8F-C27B4F273E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3C4-0A65-49ED-9B5F-AFB0FB71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635-4D9D-4B14-B58D-4882E79B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172-751D-4E82-9D7D-16D4A7B0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570-4549-4235-A802-4C98EDE9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0A24-A0EE-4411-BF2E-D9F19CDD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E20D-CF24-4AE6-BEA4-CC0582A4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3BA2-4080-41DB-BC19-1C44F1D7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DEBF-FDDC-4CD1-B54B-78705D86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C31B-C998-485F-AC74-672DB62D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B410-89CB-44D3-ABDE-EFA82071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50B7-FBA4-4D86-B604-024A75DC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D03-FF5C-44DF-A345-DA347E0B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DC5C-FA99-4B6A-BCC1-E507A327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5B90-4963-480F-8E5C-81013375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C202-6AA9-4453-AD43-4562EA33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0089-348B-46DC-B68C-687FE4F6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89AD-47AF-44AA-86A1-9114CF2A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917-37F8-407F-B518-564DBA74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769-47E6-4A22-8E8A-86F626FB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C5C6-4938-42F2-84DD-34351C48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52E-F28C-40CA-83F9-B82ED37F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9F6-0F88-4D9C-9F29-D81439A1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8FD-2CAF-42B3-9100-78CB4592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AFA-F447-4BEC-9D91-B421C9EB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AF54-28D2-42D1-B794-7A9D7E0C19E6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62BF-BB9B-4F84-A23A-F673FEA3977D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LEGION</cp:lastModifiedBy>
  <dcterms:modified xsi:type="dcterms:W3CDTF">2017-07-03T11:23:03Z</dcterms:modified>
  <cp:revision>9</cp:revision>
  <dc:subject/>
  <dc:title>No Slide Title</dc:title>
</cp:coreProperties>
</file>