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CD40-DC9A-4CE3-9A95-40D1509488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F251-D076-4E54-8204-6970844D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5DC-3E79-4AA3-9C5D-06BE58AF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02A-32DB-4178-84D2-0D739D75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F79-7BF0-46BA-96E2-A894F10A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2D48-F4E3-4C3E-8FA8-B1208994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DD26-6B60-4FDB-92E4-16A85969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7155-C51F-45B8-A346-CCDD3246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0EA2-CF06-4C8E-9478-BD3021DC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3D85-C15F-4B00-8A1E-1AC4274E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61EB-9DEE-4076-AAB0-F8EC0EC9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C11E-8549-4FED-B234-0A252CF5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26E-9521-4CDB-908C-C792BA38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5538-8785-4E88-92A3-F37D4447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3D11-CAE2-4457-BC41-9E54C4B9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EFAC-D4A4-41D6-9217-E4A0315E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4C58-B090-45BA-A5C7-E75B33C5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044A-1EDC-4519-AE52-2EC87D7C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3FB-8135-447C-95D0-486C6C2C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D72D-08A8-4B3C-AC81-59C757BB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1C79-AF27-4878-B668-97999A49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D53-172C-4FF4-8670-F42EB75D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657-900F-42A3-8586-5C16CC4E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3F3-1D22-41C3-B9A0-44D6BB6D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4E3-599F-4A3B-B88E-EAFD2985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03F4-AD00-4817-8E7A-FF6CAC4712D0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DC57-B8AF-46CA-AFAD-FCE77A116772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1137600" y="1219320"/>
            <a:ext cx="67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st your knowledge of who’s who in the Ireland in Confli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pic with the following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257800" y="57895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Click here t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987480" y="45720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RELAND IN CONFLICT 1909 -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4680" y="205740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As the images of historical personalities from the topic app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try to work out who they are and what view they held over Ireland’s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-10800" y="2768760"/>
            <a:ext cx="9135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            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Home Rule = limited government/self-rule for Ireland still linked to Britis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	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(perhaps with Northern Ireland still part of United King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Nationalist= the whole of Ireland having self-government (including No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Republican= Ireland being independent and totally self-governing (no link to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      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Cr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Socialist= workers/people governing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MIc Collins in general's outfit"/>
          <p:cNvPicPr/>
          <p:nvPr/>
        </p:nvPicPr>
        <p:blipFill>
          <a:blip r:embed="rId1"/>
          <a:stretch/>
        </p:blipFill>
        <p:spPr>
          <a:xfrm>
            <a:off x="3059280" y="1197000"/>
            <a:ext cx="3538440" cy="486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53964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 CANNOT AFFORD YOU GOING AROUND RIDDL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James Craig"/>
          <p:cNvPicPr/>
          <p:nvPr/>
        </p:nvPicPr>
        <p:blipFill>
          <a:blip r:embed="rId1"/>
          <a:stretch/>
        </p:blipFill>
        <p:spPr>
          <a:xfrm>
            <a:off x="3059280" y="1268280"/>
            <a:ext cx="3803400" cy="460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NOTHING WRONG WITH A STIFF WHI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WE WILL DO A DEAL WITH YOU MR ASQUITH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John Redmond"/>
          <p:cNvPicPr/>
          <p:nvPr/>
        </p:nvPicPr>
        <p:blipFill>
          <a:blip r:embed="rId1"/>
          <a:stretch/>
        </p:blipFill>
        <p:spPr>
          <a:xfrm>
            <a:off x="3203640" y="907920"/>
            <a:ext cx="2849400" cy="52578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I DID NOT HAVE</a:t>
            </a:r>
            <a:r>
              <a:rPr b="0" lang="en-US" sz="38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A HAPPY EASTER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THEY DID NOT TELL ME THE TRU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Picture 4" descr="Eoin MacNeill"/>
          <p:cNvPicPr/>
          <p:nvPr/>
        </p:nvPicPr>
        <p:blipFill>
          <a:blip r:embed="rId1"/>
          <a:stretch/>
        </p:blipFill>
        <p:spPr>
          <a:xfrm>
            <a:off x="3203640" y="1557360"/>
            <a:ext cx="3041640" cy="46069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NOT SHOT IN 19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Picture 4" descr="Eammon De Valera"/>
          <p:cNvPicPr/>
          <p:nvPr/>
        </p:nvPicPr>
        <p:blipFill>
          <a:blip r:embed="rId1"/>
          <a:stretch/>
        </p:blipFill>
        <p:spPr>
          <a:xfrm>
            <a:off x="3635280" y="1341360"/>
            <a:ext cx="1716120" cy="48243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HIMSELF STARTED IT</a:t>
            </a:r>
            <a:r>
              <a:rPr b="0" lang="en-US" sz="4200" spc="-1" strike="noStrike">
                <a:solidFill>
                  <a:srgbClr val="006633"/>
                </a:solidFill>
                <a:latin typeface="Franklin Gothic Demi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Picture 4" descr="Griffith image"/>
          <p:cNvPicPr/>
          <p:nvPr/>
        </p:nvPicPr>
        <p:blipFill>
          <a:blip r:embed="rId1"/>
          <a:stretch/>
        </p:blipFill>
        <p:spPr>
          <a:xfrm>
            <a:off x="2616120" y="1125360"/>
            <a:ext cx="3441960" cy="49626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-6840" y="2209680"/>
            <a:ext cx="300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dward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Ulster Unionist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81560" y="2590920"/>
            <a:ext cx="196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Arthur GRIFF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Foun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29840" y="5791320"/>
            <a:ext cx="23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atrick PE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IRB member and lea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aster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32400" y="5867280"/>
            <a:ext cx="27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James CONNO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Founder of Irish Citizens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SO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5858640" y="5715000"/>
            <a:ext cx="30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avid LLOYD GEO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British Prime Minister 1916 - 19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854080" y="274320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Michael 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Leader of IRA forces and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carson face only"/>
          <p:cNvPicPr/>
          <p:nvPr/>
        </p:nvPicPr>
        <p:blipFill>
          <a:blip r:embed="rId1"/>
          <a:stretch/>
        </p:blipFill>
        <p:spPr>
          <a:xfrm>
            <a:off x="533520" y="3049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Griffith image"/>
          <p:cNvPicPr/>
          <p:nvPr/>
        </p:nvPicPr>
        <p:blipFill>
          <a:blip r:embed="rId2"/>
          <a:stretch/>
        </p:blipFill>
        <p:spPr>
          <a:xfrm>
            <a:off x="6705720" y="152280"/>
            <a:ext cx="1577880" cy="2274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MIc Collins in general's outfit"/>
          <p:cNvPicPr/>
          <p:nvPr/>
        </p:nvPicPr>
        <p:blipFill>
          <a:blip r:embed="rId3"/>
          <a:stretch/>
        </p:blipFill>
        <p:spPr>
          <a:xfrm>
            <a:off x="3200400" y="152280"/>
            <a:ext cx="1830240" cy="2514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Patrick Pearse"/>
          <p:cNvPicPr/>
          <p:nvPr/>
        </p:nvPicPr>
        <p:blipFill>
          <a:blip r:embed="rId4"/>
          <a:stretch/>
        </p:blipFill>
        <p:spPr>
          <a:xfrm>
            <a:off x="533520" y="3505320"/>
            <a:ext cx="2133360" cy="195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Connolly face"/>
          <p:cNvPicPr/>
          <p:nvPr/>
        </p:nvPicPr>
        <p:blipFill>
          <a:blip r:embed="rId5"/>
          <a:stretch/>
        </p:blipFill>
        <p:spPr>
          <a:xfrm>
            <a:off x="3581280" y="3809880"/>
            <a:ext cx="1435320" cy="2108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dlgsmallphoto"/>
          <p:cNvPicPr/>
          <p:nvPr/>
        </p:nvPicPr>
        <p:blipFill>
          <a:blip r:embed="rId6"/>
          <a:stretch/>
        </p:blipFill>
        <p:spPr>
          <a:xfrm>
            <a:off x="6553080" y="3809880"/>
            <a:ext cx="1160640" cy="15145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82680" y="2819520"/>
            <a:ext cx="200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ammon DE VA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740200" y="2590920"/>
            <a:ext cx="286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John R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Leader of Irish National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18520" y="5791320"/>
            <a:ext cx="281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oin MAC NE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Leader of Irish Volunteer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406680" y="5867280"/>
            <a:ext cx="174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oger CA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Member of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402160" y="5715000"/>
            <a:ext cx="344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James CRA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eputy Leader of Ulster Union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662920" y="27432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Herbert ASQU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British Prime Min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Eammon De Valera"/>
          <p:cNvPicPr/>
          <p:nvPr/>
        </p:nvPicPr>
        <p:blipFill>
          <a:blip r:embed="rId1"/>
          <a:stretch/>
        </p:blipFill>
        <p:spPr>
          <a:xfrm>
            <a:off x="990720" y="304920"/>
            <a:ext cx="888840" cy="2504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Herbert Asquith"/>
          <p:cNvPicPr/>
          <p:nvPr/>
        </p:nvPicPr>
        <p:blipFill>
          <a:blip r:embed="rId2"/>
          <a:stretch/>
        </p:blipFill>
        <p:spPr>
          <a:xfrm>
            <a:off x="2895480" y="152280"/>
            <a:ext cx="1578240" cy="25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John Redmond"/>
          <p:cNvPicPr/>
          <p:nvPr/>
        </p:nvPicPr>
        <p:blipFill>
          <a:blip r:embed="rId3"/>
          <a:stretch/>
        </p:blipFill>
        <p:spPr>
          <a:xfrm>
            <a:off x="6553080" y="304920"/>
            <a:ext cx="1189080" cy="2193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Eoin MacNeill"/>
          <p:cNvPicPr/>
          <p:nvPr/>
        </p:nvPicPr>
        <p:blipFill>
          <a:blip r:embed="rId4"/>
          <a:stretch/>
        </p:blipFill>
        <p:spPr>
          <a:xfrm>
            <a:off x="990720" y="3657600"/>
            <a:ext cx="1371600" cy="207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Roger Casement"/>
          <p:cNvPicPr/>
          <p:nvPr/>
        </p:nvPicPr>
        <p:blipFill>
          <a:blip r:embed="rId5"/>
          <a:stretch/>
        </p:blipFill>
        <p:spPr>
          <a:xfrm>
            <a:off x="3505320" y="3276720"/>
            <a:ext cx="1554120" cy="2504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James Craig"/>
          <p:cNvPicPr/>
          <p:nvPr/>
        </p:nvPicPr>
        <p:blipFill>
          <a:blip r:embed="rId6"/>
          <a:stretch/>
        </p:blipFill>
        <p:spPr>
          <a:xfrm>
            <a:off x="6172200" y="3429000"/>
            <a:ext cx="1785960" cy="21636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erbert Asquith"/>
          <p:cNvPicPr/>
          <p:nvPr/>
        </p:nvPicPr>
        <p:blipFill>
          <a:blip r:embed="rId1"/>
          <a:stretch/>
        </p:blipFill>
        <p:spPr>
          <a:xfrm>
            <a:off x="2987640" y="981000"/>
            <a:ext cx="3214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Y BUDGET WAS REJECTED BY THE HOUSE OF 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Patrick Pearse"/>
          <p:cNvPicPr/>
          <p:nvPr/>
        </p:nvPicPr>
        <p:blipFill>
          <a:blip r:embed="rId1"/>
          <a:stretch/>
        </p:blipFill>
        <p:spPr>
          <a:xfrm>
            <a:off x="1547640" y="765000"/>
            <a:ext cx="5545440" cy="507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FOOLS, THE FOOLS, THE F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carson face only"/>
          <p:cNvPicPr/>
          <p:nvPr/>
        </p:nvPicPr>
        <p:blipFill>
          <a:blip r:embed="rId1"/>
          <a:stretch/>
        </p:blipFill>
        <p:spPr>
          <a:xfrm>
            <a:off x="2340000" y="836640"/>
            <a:ext cx="4089240" cy="5184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539640" y="189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RULE? OVER MY DEAD 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Roger Casement"/>
          <p:cNvPicPr/>
          <p:nvPr/>
        </p:nvPicPr>
        <p:blipFill>
          <a:blip r:embed="rId1"/>
          <a:stretch/>
        </p:blipFill>
        <p:spPr>
          <a:xfrm>
            <a:off x="2814480" y="907920"/>
            <a:ext cx="3262320" cy="52578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684360" y="260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Y GOODNESS, I HATE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OCIALIST REVOLUTION WILL SOLVE IRELAND’S PROBLEM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Picture 3" descr="Connolly face"/>
          <p:cNvPicPr/>
          <p:nvPr/>
        </p:nvPicPr>
        <p:blipFill>
          <a:blip r:embed="rId1"/>
          <a:stretch/>
        </p:blipFill>
        <p:spPr>
          <a:xfrm>
            <a:off x="2700360" y="1052640"/>
            <a:ext cx="3478320" cy="51116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dlgsmallphoto"/>
          <p:cNvPicPr/>
          <p:nvPr/>
        </p:nvPicPr>
        <p:blipFill>
          <a:blip r:embed="rId1"/>
          <a:stretch/>
        </p:blipFill>
        <p:spPr>
          <a:xfrm>
            <a:off x="2987640" y="1341360"/>
            <a:ext cx="3640320" cy="4751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53964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LL BOYO, YOU WILL HAVE TO SPLIT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6:45:49Z</dcterms:created>
  <dc:creator>O'Brien</dc:creator>
  <dc:description/>
  <dc:language>en-US</dc:language>
  <cp:lastModifiedBy>LEGION</cp:lastModifiedBy>
  <dcterms:modified xsi:type="dcterms:W3CDTF">2017-07-03T11:23:03Z</dcterms:modified>
  <cp:revision>9</cp:revision>
  <dc:subject/>
  <dc:title>No Slide Title</dc:title>
</cp:coreProperties>
</file>