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A837-E5F4-4F2D-A5A1-64D43B4895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A77-E6DC-418B-B2BD-B260B741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020-30B4-4FD9-B763-8C015320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F12-6D45-4192-BC02-C7F9D80C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B3CD-7EF5-4826-8CB2-CFA4378D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40B1-3C91-4106-A710-FB5DEBED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08C3-DDAC-4ED1-A901-8BE5549D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C825-3AF3-44A2-9EAE-3A101C26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F2EF-CB05-45EB-BDCD-1401C055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5BC0-A9DF-41E8-B38B-817E393F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E8EC-EA09-45E3-A812-7A27B343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162C-0116-4A1E-92B5-EF7F773D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7A2-7B2F-4BE2-8C75-BF40ED84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0E1E-F274-4BDE-84DA-700B2512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9549-3CE4-4EDA-9EBC-3CB110B2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36E6-A4E8-41DB-8938-80887A3D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1D79-428C-48CB-AA0D-89140ADD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BF75-56BA-440D-847F-AD052EC1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EC7-D2CB-4E37-AC91-BA42807C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1B5-5E98-460F-B011-F2910899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439-8CE2-43DA-88B8-2ADE96B9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910-96BB-47EF-BE6A-C7B98FFF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C5E1-3FAD-47F0-B450-5FD066B2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5AB-DBEE-4839-83BF-7023C896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11C7-47C2-4EBC-B74E-D29A767A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7144-46F8-48D9-A6F1-720BD17DD2A7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01DC-1280-4E36-AFED-57A9890A62A6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LEGION</cp:lastModifiedBy>
  <dcterms:modified xsi:type="dcterms:W3CDTF">2017-07-03T11:23:03Z</dcterms:modified>
  <cp:revision>9</cp:revision>
  <dc:subject/>
  <dc:title>No Slide Title</dc:title>
</cp:coreProperties>
</file>