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0AB9D5-014C-4C7F-A521-D9CD76FB0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63A-8536-4312-9264-B0DFE67B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EA5-D398-4D1F-88C6-E27623E6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169-CB45-4AF7-A0D4-02B58B11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CE6-4C92-4F77-94EE-7EF04765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6A9-567D-4387-A7EF-15659138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6D6-053D-4641-836F-BD559994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DCE-70F5-4E32-B998-41DE1EE1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E34-73BE-42E3-B63C-00A71851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3E7-41BF-4CA1-8CEC-6541259D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7B6-0A06-453D-A7CD-2DB93187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C30-6844-4A03-A6DF-D2E00F75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A14-0D5A-455B-B8F6-D3C81D91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822C-FD7B-4EB3-886B-02E93DB53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6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77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LEGION</cp:lastModifiedBy>
  <cp:lastPrinted>2002-01-16T21:03:42Z</cp:lastPrinted>
  <dcterms:modified xsi:type="dcterms:W3CDTF">2017-07-03T11:23:14Z</dcterms:modified>
  <cp:revision>39</cp:revision>
  <dc:subject/>
  <dc:title>No Slide Title</dc:title>
</cp:coreProperties>
</file>