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43529-A4AB-490A-966D-A846FD626B4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coln and the Emancipation Proclam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ce Relations in the South 1863-19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t 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coln and the Emancipation Procla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Relations in the South 1863-19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motives lay behind Lincoln’s issuing of the Emancipation Proclamati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derlying question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was the Emancipation Proclamati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effects did the Emancipation Proclamation have on slave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was the Emancipation Proclamation issu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motives lay behind Lincoln’s issuing of the Emancipation Proclam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lying ques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as the Emancipation Proclam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effects did the Emancipation Proclamation have on slav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as the Emancipation Proclamation issu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handou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car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rm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in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og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lloughby p.19-2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paratcus.schoolnet.co.uk/USASproclamation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archives.gov/exhibits/featured_documents/emancipation_proclamation/index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hand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ca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i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oughby p.19-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paratcus.schoolnet.co.uk/USASproclamation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rchives.gov/exhibits/featured_documents/emancipation_proclamation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tcom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d ma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ssay ques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what extent was Lincoln’s Emancipation Proclamation (1863) the result of a genuine desire to free black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anuary 200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d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say 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what extent was Lincoln’s Emancipation Proclamation (1863) the result of a genuine desire to free black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nuary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was the Emancipation Proclam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liminary proclamation issued  22nd Sept 186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eed all slaves who were in Confederate states fighting against the Un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d not free all slaves!  Was very limit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as the Emancipation Procla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 proclamation issued  22nd Sept 18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d all slaves who were in Confederate states fighting against the Un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not free all slaves!  Was very limi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ime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861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tbreak of Civil W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ly 1861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ittenden Resolu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March 186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nulment of Fugitive Slave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w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 April 186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gress agree to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ensate slave own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 June 186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gress rule slavery is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llegal in U.S. territor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6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break of Civil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186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tenden Re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 March 18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ulment of Fugitive Slav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April 18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ess agree t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ensate slave ow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 June 18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ess rule slavery i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egal in U.S. terri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ime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ly 186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fiscation A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7 Sept 186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on victory at Antiet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2 Sept 186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liminary Emancip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clamation issu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 Jan 186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mancipation Proclamation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su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1 Jan 1865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th Amendment to the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itu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18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scation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 Sept 18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on victory at Antiet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 Sept 18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 Emancip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lamation issu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Jan 18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ancipation Proclamat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su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1 Jan 186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th Amendment to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did Lincoln issue the Emancipation Proclamation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coln’s view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al view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litical st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coln’s ideas on slave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avery and the Civil W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id Lincoln issue the Emancipation Proclamation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coln’s vi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al vi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itical 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coln’s ideas on sla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ry and the Civil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ing extracts from Lincoln’s letters and speeches brainstorm his views on slavery and the rights of Blacks under the following heading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al view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litical st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coln’s views on slave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avery and the Civil W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extracts from Lincoln’s letters and speeches brainstorm his views on slavery and the rights of Blacks under the following heading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al vi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itical 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coln’s views on sla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ry and the Civil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8483-05FD-4F42-92B4-EE4BFA541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E7F4-7559-4A47-962C-8AD6E12F4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ABA6-FB0C-4EA4-A631-2872570DC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E09E-A3CC-4356-8B9B-6B874D231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279B5-4B6D-4EE8-BB1B-BD8CCAF8C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F6A00-D411-4454-BA0A-46410D6CE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1C54E-0BBE-4387-B9F2-D3B552108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B30A5-B58E-47B0-B1B9-7399FC0DB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2A1DD-8EBD-49AC-ACF6-60C3D0FAC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7252D-27D5-43B3-978D-03A8E2ADE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F28AE-E043-40A2-8677-B541A17DB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DE3C-542C-48CF-B7AF-F5F198388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FE733-F202-48EB-92E4-792AE1D4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BB479-4A72-4C4F-8CDF-C09E8489B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7999F-2D93-4855-86AD-38668E999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EBCD0-1C65-4181-BB65-12B7E2BEA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42DBF-AB49-4D7F-907E-083DB53EB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22EB-43E2-486A-A512-8650DB1E2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0DB6-1963-4B78-BE8C-8692022F2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332C-C745-41DB-AA2F-64B0FD747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688E-CC88-47D9-8DCE-AFE82030F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C60E-F612-4FA6-AB39-513F83475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6AC9-2ACE-4D70-A1FC-77F5522C3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905F-3B46-4454-9E0E-25C5CCAD6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8E18E-3FAD-4FDD-AE22-3AFDFC90EA89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27F5A-29E6-497C-93B9-03D860DE6F12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Lincoln and the Emancipation Proclam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Race Relations in the South 1863-19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Unit 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What motives lay behind Lincoln’s issuing of the Emancipation Proclam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2278080"/>
            <a:ext cx="8229600" cy="38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nderlying ques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at was the Emancipation Proclama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at effects did the Emancipation Proclamation have on slav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y was the Emancipation Proclamation issu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4 handou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ncar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rm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Zin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rog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illoughby p.19-2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ww.sparatcus.schoolnet.co.uk/USASproclamation.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ww.archives.gov/exhibits/featured_documents/emancipation_proclamation/index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Outcom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ind ma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ssay ques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what extent was Lincoln’s Emancipation Proclamation (1863) the result of a genuine desire to free black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January 200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What was the Emancipation Proclam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eliminary proclamation issued  22</a:t>
            </a:r>
            <a:r>
              <a:rPr b="0" lang="en-GB" sz="2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Sept 186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reed all slaves who were in Confederate states fighting against the Un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d not free all slaves!  Was very limi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6" descr="Emancipation Proclamation, page 1"/>
          <p:cNvPicPr/>
          <p:nvPr/>
        </p:nvPicPr>
        <p:blipFill>
          <a:blip r:embed="rId4"/>
          <a:stretch/>
        </p:blipFill>
        <p:spPr>
          <a:xfrm>
            <a:off x="684360" y="1557360"/>
            <a:ext cx="3527280" cy="460836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ime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861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utbreak of Civil W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July 1861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rittenden Resolu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3 March 186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nulment of Fugitive Slave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a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0 April 186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gress agree to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mpensate slave own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9 June 186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gress rule slavery is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llegal in U.S. territo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ime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July 186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fiscation 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7 Sept 186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nion victory at Antiet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22 Sept 186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eliminary Emancip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clamation issu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 Jan 186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mancipation Proclamation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ssu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31 Jan 1865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3</a:t>
            </a:r>
            <a:r>
              <a:rPr b="0" lang="en-GB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Amendment to the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stitu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Why did Lincoln issue the Emancipation Proclamation?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Lincoln’s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403848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onal vie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litical 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incoln’s ideas on slav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lavery and the Civil W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8" descr="Abraham%20Lincoln%20(06-1831a)"/>
          <p:cNvPicPr/>
          <p:nvPr/>
        </p:nvPicPr>
        <p:blipFill>
          <a:blip r:embed="rId5"/>
          <a:stretch/>
        </p:blipFill>
        <p:spPr>
          <a:xfrm>
            <a:off x="4859280" y="2133720"/>
            <a:ext cx="3060720" cy="396396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as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sing extracts from Lincoln’s letters and speeches brainstorm his views on slavery and the rights of Blacks under the following heading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onal vie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litical 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incoln’s views on slav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lavery and the Civil W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7T10:09:19Z</dcterms:created>
  <dc:creator>cjames</dc:creator>
  <dc:description>Lincoln and the Emancipation Proclamation</dc:description>
  <cp:keywords>Lincoln and the Emancipation Proclamation</cp:keywords>
  <dc:language>en-US</dc:language>
  <cp:lastModifiedBy>LEGION</cp:lastModifiedBy>
  <dcterms:modified xsi:type="dcterms:W3CDTF">2017-07-03T11:24:00Z</dcterms:modified>
  <cp:revision>11</cp:revision>
  <dc:subject>Lincoln and the Emancipation Proclamation</dc:subject>
  <dc:title>Lincoln and the Emancipation Proclamation</dc:title>
</cp:coreProperties>
</file>