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9904-F94A-4323-BCA9-86FC7D6EA9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 and the Emancipation Procla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ce Relations in the South 1863-19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 and the Emancipation Procla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Relations in the South 1863-19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motives lay behind Lincoln’s issuing of the Emancipation Proclam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erlying question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was the Emancipation Proclam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effects did the Emancipation Proclamation have on slav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was the Emancipation Proclamation issu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otives lay behind Lincoln’s issuing of the Emancipation Procla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lying 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as the Emancipation Procla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ffects did the Emancipation Proclamation have on slav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the Emancipation Proclamation issu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handou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car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in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lloughby p.19-2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paratcus.schoolnet.co.uk/USASproclamation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archives.gov/exhibits/featured_documents/emancipation_proclamation/index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a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oughby p.19-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aratcus.schoolnet.co.uk/USASproclama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rchives.gov/exhibits/featured_documents/emancipation_proclamation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d ma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ssay ques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what extent was Lincoln’s Emancipation Proclamation (1863) the result of a genuine desire to free black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nuary 20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ay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what extent was Lincoln’s Emancipation Proclamation (1863) the result of a genuine desire to free black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was the Emancipation Procla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liminary proclamation issued  22nd Sept 186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ed all slaves who were in Confederate states fighting against the Un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d not free all slaves!  Was very limi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as the Emancipation Procla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 proclamation issued  22nd Sept 18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d all slaves who were in Confederate states fighting against the U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not free all slaves!  Was very limi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61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break of Civil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y 1861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ittenden Re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March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ulment of Fugitive Slav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 April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ess agree to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ensate slave own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 June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ess rule slavery is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egal in U.S. territo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6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break of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186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tenden Re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March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lment of Fugitive Slav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April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agree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e slave ow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June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rule slavery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egal in U.S. terri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y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fiscation A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7 Sept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on victory at Antiet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2 Sept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liminary Emancip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clamation issu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Jan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ancipation Proclamatio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su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1 Jan 1865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th Amendment to th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itu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scat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Sept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on victory at Antiet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Sept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 Emancip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lamation iss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Jan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ncipation Proclam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s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 Jan 186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th Amendment to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id Lincoln issue the Emancipation Proclamation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’s 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’s ideas on slav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Lincoln issue the Emancipation Proclamation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’s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’s ideas on 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ing extracts from Lincoln’s letters and speeches brainstorm his views on slavery and the rights of Blacks under the following heading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’s views on slav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extracts from Lincoln’s letters and speeches brainstorm his views on slavery and the rights of Blacks under the following head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’s views on 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6BAA-31EB-4FB4-976F-71F928120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8396-FB69-4D46-A757-9CB72F93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484F-7C88-4FCD-8E09-78DDD7FAF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B4E2-B7D4-4831-AC87-DD13C4225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D6F4-4AB9-4917-BEBE-5515F98F2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E8B4-5520-4657-9E5F-AFFC5A9E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E2C0-7FB7-4D06-B77A-288DFB61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0AC2-B0CF-4F70-BE5C-62891089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AFB8-23A1-4C81-96B7-C4305A6B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0C2E-2C09-4014-9969-041763CB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43A0-617A-4DF7-97C6-D63EC18E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EDF2-48D3-42B1-904E-AB2C5094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520D-7FED-4125-8CE2-CB99743E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17AB-3CBB-449A-ADD7-B7B0EE79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6E2A-0990-49B4-BE67-321C339A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0557-7531-4BA7-A5FE-A0CFE116A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368C-400D-488F-92BC-1FA1523BE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1D5C-B232-43B9-A048-FFEEC8DD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A2A0-64A6-4C33-A343-8AA43245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ECB5-B0DD-482E-A642-96849DC3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A057-91DD-46B6-A549-8E1527C6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9D42-0CB3-4823-BB45-B024B776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D722-73FE-4EC6-A646-B136473D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0E4A-8843-4E2F-A179-7F978D81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9D69-5FF1-4D24-B381-B8F71A1C1EF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DC06-1849-42F7-80AC-765E259F2AD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Lincoln and the Emancipation Proclam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ace Relations in the South 1863-19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Unit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motives lay behind Lincoln’s issuing of the Emancipation Proclam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278080"/>
            <a:ext cx="822960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derlying ques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was the Emancipation Proclam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effects did the Emancipation Proclamation have on slav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 was the Emancipation Proclamation issu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4 hando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ca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Zi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og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lloughby p.19-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ww.sparatcus.schoolnet.co.uk/USASproclamation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ww.archives.gov/exhibits/featured_documents/emancipation_proclamation/index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ind ma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ssay qu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what extent was Lincoln’s Emancipation Proclamation (1863) the result of a genuine desire to free blac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anuary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was the Emancipation Proclam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liminary proclamation issued  22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Sept 186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reed all slaves who were in Confederate states fighting against the Un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d not free all slaves!  Was very limi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6" descr="Emancipation Proclamation, page 1"/>
          <p:cNvPicPr/>
          <p:nvPr/>
        </p:nvPicPr>
        <p:blipFill>
          <a:blip r:embed="rId4"/>
          <a:stretch/>
        </p:blipFill>
        <p:spPr>
          <a:xfrm>
            <a:off x="684360" y="1557360"/>
            <a:ext cx="3527280" cy="460836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861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utbreak of Civil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uly 1861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rittenden Re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3 March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nulment of Fugitive Slave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 April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gress agree to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pensate slave ow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9 June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gress rule slavery is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llegal in U.S. terri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uly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fiscation 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7 Sept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ion victory at Antiet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2 Sept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liminary Emancip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clamation issu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 Jan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mancipation Proclamation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ssu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1 Jan 1865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GB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Amendment to the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stit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y did Lincoln issue the Emancipation Proclamation?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Lincoln’s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3848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coln’s ideas on sla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8" descr="Abraham%20Lincoln%20(06-1831a)"/>
          <p:cNvPicPr/>
          <p:nvPr/>
        </p:nvPicPr>
        <p:blipFill>
          <a:blip r:embed="rId5"/>
          <a:stretch/>
        </p:blipFill>
        <p:spPr>
          <a:xfrm>
            <a:off x="4859280" y="2133720"/>
            <a:ext cx="3060720" cy="396396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ing extracts from Lincoln’s letters and speeches brainstorm his views on slavery and the rights of Blacks under the following heading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coln’s views on sla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0:09:19Z</dcterms:created>
  <dc:creator>cjames</dc:creator>
  <dc:description>Lincoln and the Emancipation Proclamation</dc:description>
  <cp:keywords>Lincoln and the Emancipation Proclamation</cp:keywords>
  <dc:language>en-US</dc:language>
  <cp:lastModifiedBy>LEGION</cp:lastModifiedBy>
  <dcterms:modified xsi:type="dcterms:W3CDTF">2017-07-03T11:24:00Z</dcterms:modified>
  <cp:revision>11</cp:revision>
  <dc:subject>Lincoln and the Emancipation Proclamation</dc:subject>
  <dc:title>Lincoln and the Emancipation Proclamation</dc:title>
</cp:coreProperties>
</file>