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39F0-704F-4A90-A739-0CD85B434E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C4C-61ED-4D40-BA0D-BD5B8903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52F-4E2E-4FE4-8C46-AFD498DA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D00-0B2C-4F41-BC01-4877106F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9A2-8203-448D-83A7-EA4C9CF3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7436-48A1-45E3-BA71-865D1455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90D1-C1AC-493F-AB2E-787F8E6D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A127-3D44-43A9-BA41-83F4E36A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6690-9FC9-42FA-868D-D9867DC4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F3E3-C119-4A06-8A99-41F8F587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C43B-48E4-4D39-AE5C-1F049606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B903-DDD5-46A4-A22E-950B6D6F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B26-75B9-452D-A8AF-71848EA7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09AF-2661-4219-A0CA-AB954FA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409B-3321-46BC-B63A-F58E73B8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3B69-88A1-4181-A0E3-DF08BAF2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6AE7-5176-4DF0-AD09-1395AE4D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9086-935E-4A7F-AD02-78D8323C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65E-5432-4063-8E73-EC0F2CF6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947-7EB0-4A20-B50C-EE5B1475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6A2-86ED-473E-976C-13BE4EEB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900-B515-4D3C-AACD-90D972B1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EAA-F5C7-42FB-AA5A-FAA0B4AF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CF7-EF32-483E-A275-CF33C9CA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3A7-22C4-4CB7-90B8-F0F56106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491E-9DB3-46AD-A256-F9CC29A2D1D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B896-C3CC-43B6-A791-3DCDB87B112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LEGION</cp:lastModifiedBy>
  <dcterms:modified xsi:type="dcterms:W3CDTF">2017-07-03T11:24:00Z</dcterms:modified>
  <cp:revision>11</cp:revision>
  <dc:subject>Lincoln and the Emancipation Proclamation</dc:subject>
  <dc:title>Lincoln and the Emancipation Proclamation</dc:title>
</cp:coreProperties>
</file>