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22B0-F30F-48F6-87AE-AF5AFC3B33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183-E5D4-41F6-9455-E64A01DC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7D2-490F-4925-9A5E-3E2BE3F9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4F2-FC39-4A2A-8C24-4ACD4005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28F-FA38-4924-8BC1-AA56E170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75B-A6FD-48C6-8FB2-9EE92B29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441-155F-48B1-BC68-AF1DC86C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BA5-7795-4500-BF4C-BEB8F5DD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4D1-883B-469A-9B1E-038A07CD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33E-279A-4275-8FC2-13C50537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72F-9B0C-45C7-8097-FC6E80C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681-84B6-4EC5-9E7D-BE777E4C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FDD-93E5-48B9-A4ED-14F0403B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005F-95CD-4D7E-82F4-3ECBC1F5906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LEGION</cp:lastModifiedBy>
  <dcterms:modified xsi:type="dcterms:W3CDTF">2017-07-03T11:24:11Z</dcterms:modified>
  <cp:revision>10</cp:revision>
  <dc:subject>Louis Pasteur &amp; Germ Theory</dc:subject>
  <dc:title>Louis Pasteur &amp; Germ Theory</dc:title>
</cp:coreProperties>
</file>