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D8F7-A169-479A-81C7-8EC97E38DA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234-2E61-4706-A081-56F1F9FB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59A-9B6E-4870-AD6B-4212C88D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B7C-4473-4A98-B301-FB1900AF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387-F2A3-4948-9E7A-29B084A7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31C-7F55-4FF6-AD42-E8DCCDD6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EEE-E3CE-46BD-935B-5F83A0CA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CFA-D3CB-4080-A15B-5A0CA6A9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C2D-093F-4AE2-960C-45CA4FB0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4F7-1B7D-49E3-A9AE-86F4CC82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3F3-6029-4B95-A72A-9A2A8380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8DB-AC94-4736-9651-E0AD740D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8D2-8EB3-4FCE-9271-411EF959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FA27-B9B8-4B25-8F5E-47EC2E0051A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LEGION</cp:lastModifiedBy>
  <dcterms:modified xsi:type="dcterms:W3CDTF">2017-07-03T11:24:11Z</dcterms:modified>
  <cp:revision>10</cp:revision>
  <dc:subject>Louis Pasteur &amp; Germ Theory</dc:subject>
  <dc:title>Louis Pasteur &amp; Germ Theory</dc:title>
</cp:coreProperties>
</file>