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B5134-ABE4-4BA5-A2C2-6EC8C2D0A32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Louis Pasteur &amp; Germ Theo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ouis Pasteur &amp; Germ The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eliefs about disease in19th Centu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eople knew there was a link between dirt and disease, but could not explain the link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eople explained disease as seeds bad seeds in the air known as miasma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850s &amp;1860s breakthrough in the cause of diseas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liefs about disease in19th Centu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ew there was a link between dirt and disease, but could not explain the lin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explained disease as seeds bad seeds in the air known as miasm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50s &amp;1860s breakthrough in the cause of disea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tep 1: Discovery of Micro-organism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nthony Van Leeuwenhoek made one of the earliest microscope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iscovered micro-organisms which he called animalcule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icroscopes not as good as today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1: Discovery of Micro-organis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thony Van Leeuwenhoek made one of the earliest microscop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overed micro-organisms which he called animalcu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roscopes not as good as tod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tep 2: Improved microscop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800s purer glass produced = better lenses for microscop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830 Joseph Lister develops a microscope which can magnify x1000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2: Improved microsco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00s purer glass produced = better lenses for microscop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30 Joseph Lister develops a microscope which can magnify x1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tep 3: Louis Pasteur’s germ theo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Old Theory: spontaneous generati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icro-organisms are the result of decaying matter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ew Theory: germ theo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icro-organisms cause decaying matter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asteur showed you could kill the micro-organisms by applying heat - PASTEURISATION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3: Louis Pasteur’s germ the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ld Theory: spontaneous gen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ro-organisms are the result of decaying mat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Theory: germ the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ro-organisms cause decaying mat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steur showed you could kill the micro-organisms by applying heat - PASTEURIS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tep 4: Germ theory vs spontaneous generati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asteur now had to prove his theory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n competition with French scientist Pouchet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nducted an experiment showing that microbes in the air caused decay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861 published his ‘germ theory’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4: Germ theory vs spontaneous gen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steur now had to prove his theo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competition with French scientist Pouche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ducted an experiment showing that microbes in the air caused dec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61 published his ‘germ theory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tep 5: Linking micro-organisms to diseas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asteur showed micro-organisms made wine and beer go bad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uld germs cause disease?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nother experiment!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roved that a micro-organism was causing disease in silk worm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5: Linking micro-organisms to dise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steur showed micro-organisms made wine and beer go ba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ld germs cause diseas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other experimen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ved that a micro-organism was causing disease in silk wor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tep 6: Proving the link between bacteria and human diseas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asteur never showed the link between bacteria and human diseas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is was left to Robert Koch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6: Proving the link between bacteria and human disea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steur never showed the link between bacteria and human disea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was left to Robert Ko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Your Task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You need to create a flow chart with the title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6 steps to discovering the causes of diseas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Use the slides to help you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or each step you must explain how this helped to discover the cause of disease. 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You cannot use more then three sentences per step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dditional information can be found on p.128 - 129 of the textbook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r Ta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need to create a flow chart with the titl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 steps to discovering the causes of disea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the slides to help you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ach step you must explain how this helped to discover the cause of disease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cannot use more then three sentences per ste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itional information can be found on p.128 - 129 of the text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02B3E-37BF-4FE5-82D6-BCCB761C9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09ACF-E41C-41A9-9C0D-7391575D5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4442F-008F-42F7-BB16-5921994D1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E19E0-79F1-4F38-9424-E8714F821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D985B-2FD0-4146-990A-D7DBC7862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6F618-673F-49E7-AB74-23F08CB41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CC0E1-8CDE-4A26-B502-31608C064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767F7-0375-464E-A10E-D1635863A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93E7C-19C0-4915-900B-3C67B7065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10B1E-8B60-4A2A-B6AC-185BD3DC3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354FF-52A3-418F-8101-A4DECFC87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EAFCF-F331-4174-990E-AB8D57CEA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5038E-4483-4AA9-8A47-80D2AB03385C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uis Pasteur &amp; Germ The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liefs about disease in19th Centu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eople knew there was a link between dirt and disease, but could not explain the link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eople explained disease as seeds bad seeds in the air known as miasma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1850s &amp;1860s breakthrough in the cause of diseas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1: Discovery of Micro-organis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3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3809880" cy="411480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nthony Van Leeuwenhoek made one of the earliest microscope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Discovered micro-organisms which he called animalcule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icroscopes not as good as today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2: Improved microsco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1800s purer glass produced = better lenses for microscope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1830 Joseph Lister develops a microscope which can magnify x1000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59" name="Picture 4" descr=""/>
          <p:cNvPicPr/>
          <p:nvPr/>
        </p:nvPicPr>
        <p:blipFill>
          <a:blip r:embed="rId1"/>
          <a:stretch/>
        </p:blipFill>
        <p:spPr>
          <a:xfrm>
            <a:off x="4648320" y="1981080"/>
            <a:ext cx="3809880" cy="4114800"/>
          </a:xfrm>
          <a:prstGeom prst="rect">
            <a:avLst/>
          </a:prstGeom>
          <a:ln w="0">
            <a:noFill/>
          </a:ln>
        </p:spPr>
      </p:pic>
      <p:sp>
        <p:nvSpPr>
          <p:cNvPr id="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3: Louis Pasteur’s germ the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Old Theory: spontaneous generat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icro-organisms are the result of decaying matter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New Theory: germ theor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icro-organisms cause decaying matter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asteur showed you could kill the micro-organisms by applying heat - PASTEURISATION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4: Germ theory vs spontaneous gene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Pasteur now had to prove his theory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In competition with French scientist Pouche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Conducted an experiment showing that microbes in the air caused decay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1861 published his ‘germ theory’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66" name="Picture 4" descr=""/>
          <p:cNvPicPr/>
          <p:nvPr/>
        </p:nvPicPr>
        <p:blipFill>
          <a:blip r:embed="rId1"/>
          <a:stretch/>
        </p:blipFill>
        <p:spPr>
          <a:xfrm>
            <a:off x="4648320" y="1981080"/>
            <a:ext cx="3809880" cy="4114800"/>
          </a:xfrm>
          <a:prstGeom prst="rect">
            <a:avLst/>
          </a:prstGeom>
          <a:ln w="0">
            <a:noFill/>
          </a:ln>
        </p:spPr>
      </p:pic>
      <p:sp>
        <p:nvSpPr>
          <p:cNvPr id="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5: Linking micro-organisms to dise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asteur showed micro-organisms made wine and beer go bad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ould germs cause disease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nother experiment!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roved that a micro-organism was causing disease in silk worm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6: Proving the link between bacteria and human diseas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asteur never showed the link between bacteria and human diseas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s was left to Robert Koch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73" name="Picture 4" descr=""/>
          <p:cNvPicPr/>
          <p:nvPr/>
        </p:nvPicPr>
        <p:blipFill>
          <a:blip r:embed="rId1"/>
          <a:stretch/>
        </p:blipFill>
        <p:spPr>
          <a:xfrm>
            <a:off x="5105520" y="2133720"/>
            <a:ext cx="3047760" cy="3562200"/>
          </a:xfrm>
          <a:prstGeom prst="rect">
            <a:avLst/>
          </a:prstGeom>
          <a:ln w="0">
            <a:noFill/>
          </a:ln>
        </p:spPr>
      </p:pic>
      <p:sp>
        <p:nvSpPr>
          <p:cNvPr id="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Your Tas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685800" y="1752480"/>
            <a:ext cx="7848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914400" y="1600200"/>
            <a:ext cx="7620120" cy="50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You need to create a flow chart with the title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6 steps to discovering the causes of disease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Use the slides to help you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For each step you must 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explain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how this helped to discover the cause of disease.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You cannot use more then three sentences per step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dditional information can be found on p.128 - 129 of the textbook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03T12:13:33Z</dcterms:created>
  <dc:creator>Ben Leach</dc:creator>
  <dc:description>Louis Pasteur &amp; Germ Theory</dc:description>
  <cp:keywords>Louis Pasteur &amp; Germ Theory</cp:keywords>
  <dc:language>en-US</dc:language>
  <cp:lastModifiedBy>LEGION</cp:lastModifiedBy>
  <dcterms:modified xsi:type="dcterms:W3CDTF">2017-07-03T11:24:11Z</dcterms:modified>
  <cp:revision>10</cp:revision>
  <dc:subject>Louis Pasteur &amp; Germ Theory</dc:subject>
  <dc:title>Louis Pasteur &amp; Germ Theory</dc:title>
</cp:coreProperties>
</file>