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5F9C-490F-4DF3-BBDA-75D523A6D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OUBLE REPLACEMENT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LABORATORY EXAMINATION OF DOUBLE REPLACEMENT REAC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REPLACEMENT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BORATORY EXAMINATION OF DOUBLE REPLACEMEN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DD 1 GRAM OF EACH “SALT” TO 20 mL OF WATER IN TWO SEPARATE BEAKERS AND DISSOLVE, THEN MIX SOLUTIONS IN COMMON BEAK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1 GRAM OF EACH “SALT” TO 20 mL OF WATER IN TWO SEPARATE BEAKERS AND DISSOLVE, THEN MIX SOLUTIONS IN COMMON BE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ROCEDURE CONTINU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UR THE CONTENTS OF THE BEAKER THROUGH THE FILTER PAPER FUNNEL ASSEMBL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R THE CONTENTS OF THE BEAKER THROUGH THE FILTER PAPER FUNNE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RE PROCEDUR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MEMBER, PRE-MASS THE DRY FILTER PAPER BEFORE FILTER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PRE-MASS THE DRY FILTER PAPER BEFORE FILT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ATA AND CONCLUSIO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STRUCT A DATA TAB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SCRIBE WHY THE LAB RESULTS OCCURRED IN CONCLUS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ALCULATE THEORETICAL YIELD,  THEN PERCENT YIELD AND PERCENT ERROR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AND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RUCT A DATA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WHY THE LAB RESULTS OCCURRED IN 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ORETICAL YIELD,  THEN PERCENT YIELD AND PERCENT ERR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ECHNICAL WRITING PORTFOLIO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ING FOR A SPECIFIC PURPOS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NO FLOWERY PROSE, GET TO THE POIN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TH IS A LANGUAGE, CALCULATIONS ARE VITAL TO WRITEUP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WRITING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FOR A SPECIFIC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LOWERY PROSE, GET TO THE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IS A LANGUAGE, CALCULATIONS ARE VITAL TO WRITE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ING TO INFORM, MAKE A DECISION OR LEARN HOW TO DO SOMETH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TO INFORM, MAKE A DECISION OR LEARN HOW TO DO SOME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UDIE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ARGET A SPECIFIC GROUP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UR GROUP IS MIXED AUDIENCE, IF YOU CAN WRITE DIRECTIONS TO PUT A SWING SET TOGETHER YOU CAN WRITE ANYTH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GET A SPECIFIC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GROUP IS MIXED AUDIENCE, IF YOU CAN WRITE DIRECTIONS TO PUT A SWING SET TOGETHER YOU CAN WRITE ANY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RGANIZ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E WILL FOLLOW THE PROBLEM, CAUSE, SOLUTION FORMA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IS LENDS ITSELF TO THE LABORATORY ORGANIZ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FOLLOW THE PROBLEM, CAUSE, SOLUTION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ENDS ITSELF TO THE LABORATORY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HOOSE THE DETAIL, AMOUNT OF DESCRIP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RAPHICS ENHANCE THE IMPACT OF A PAP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THE DETAIL, AMOUNT OF DESCRIP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S ENHANCE THE IMPACT OF A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MPON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ITLE. TO THE POINT, DESCRIPTIVE OF THE LAB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NTRODUCTION. STATES CLEARLY THE QUESTION/PROBLEM AND WHY LAB WAS PERFORM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XPERIMENTAL DETAILS/RESULTS: EXPLAINS WHAT YOU DID AND WHY, AND LISTS RESUL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. TO THE POINT, DESCRIPTIVE OF THE LA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. STATES CLEARLY THE QUESTION/PROBLEM AND WHY LAB WAS PER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DETAILS/RESULTS: EXPLAINS WHAT YOU DID AND WHY, AND LISTS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AFET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OGGL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AIR TIED BACK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PRO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G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IR TIED 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RE COMPON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CLUSIONS &amp; DISCUSSION ANALYZE THE RESULTS AND EXPLAIN WHAT HAPPENED IN THE LAB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XTENSIONS: “REAL WORLD” USES OF THIS REACTION AND LI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S &amp; DISCUSSION ANALYZE THE RESULTS AND EXPLAIN WHAT HAPPENED IN THE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ONS: “REAL WORLD” USES OF THIS REACTION AND 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ILL MORE COMPON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CKNOWLEDGMENTS. LIST WHO CONTRIBUTED TO THE COMPLETION OF THE LAB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FERENCES. LIST ANY TEXTS OR MATERIAL USED IN THE WRITING OF YOUR PAP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MORE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NOWLEDGMENTS. LIST WHO CONTRIBUTED TO THE COMPLETION OF THE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. LIST ANY TEXTS OR MATERIAL USED IN THE WRITING OF YOUR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NUTS &amp; BOL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APER IN BLUE OR BLACK INK OR WORD PROCESS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RONT OF PAPER ONL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ITLE PAG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RAWINGS/ILLUSTRATIONS REQUIR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OALPOSTS, GOALPOSTS, GOALPOS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S &amp; BO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IN BLUE OR BLACK INK OR WORD PROC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 OF PAPER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INGS/ILLUSTRATIONS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POSTS, GOALPOSTS, GOALP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HEMICAL THEOR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RE ARE MANY TYPES DOUBLE REPLACEMENT REACTIONS, SUCH AS ACID-BASE NEUTRALIZATION AND PRECIPITATION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ANY TYPES DOUBLE REPLACEMENT REACTIONS, SUCH AS ACID-BASE NEUTRALIZATION AND PRECIPI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RECIPITATE REACTIO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SE ARE REACTIONS IN WHICH AN INSOLUBLE SOLID IS FORMED AND SETTLES OUT OF SOLUTION, THE PRECIPITAT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IPITAT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REACTIONS IN WHICH AN INSOLUBLE SOLID IS FORMED AND SETTLES OUT OF SOLUTION, THE PRECIPI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XAMPLE/FORM EQUATION</a:t>
            </a:r>
            <a:br>
              <a:rPr sz="1200"/>
            </a:b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B + CD ----&gt; AD + 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B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CATIONS “TRADE” PLAC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/FORM EQU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 + CD ----&gt; AD +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TIONS “TRADE” PL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AC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E THE BALANCED REACTION: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aCl2(aq) + Na2CO3(aq) -----&gt; 2NaCl(aq) + CaCO3(s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BALANCED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l2(aq) + Na2CO3(aq) -----&gt; 2NaCl(aq) + CaCO3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INGSTAND/WIRE TRIANG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UNNEL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# 1 WHATMAN FILTER PAP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INGSTAND/WIRE TRI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# 1 WHATMAN FILTER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SORTED BEAK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SORTED FLASK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LASS STIRRING RO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RYING OVE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RTED BEA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RTED FL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STIRRING R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ING O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8f8f8"/>
                </a:solidFill>
                <a:latin typeface="Times New Roman"/>
              </a:rPr>
              <a:t>REAG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8f8f8"/>
                </a:solidFill>
                <a:latin typeface="Times New Roman"/>
              </a:rPr>
              <a:t>Na2CO3  SODIUM CARBONAT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8f8f8"/>
                </a:solidFill>
                <a:latin typeface="Times New Roman"/>
              </a:rPr>
              <a:t>CaCl2  CALCIUM CHLORID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a2CO3  SODIUM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aCl2  CALCIUM 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013A-78BB-44AD-A7D8-5409665D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A1C2-1D6B-4EBF-B7D9-8C5361B3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A833-3494-4D0B-B2CD-F53AE52D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7CFA-93E9-4695-A367-79F99BCD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EB5D-2AFD-4F20-9094-FED6D4DB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6463-ADCB-4612-96D1-C24C2887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AA81-ACC2-4136-8925-9B941BBE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135D-5E08-4A06-8E7E-591EAD2E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2820-B4D4-4DA5-82E3-A857F731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089B-8F91-43FA-88C0-70D91065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CC06-1989-45EB-8BE9-CBABD0B2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1272-E9FF-4608-87D2-871CACE5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474F-20B6-4745-874A-7FA2722B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937C-2D58-4D18-A0B4-5D74283C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FF70-5083-4738-A28D-1F0F7B85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CF7F-73D7-4EC6-B694-3B8A26204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6A92-A8BF-4456-B256-DB263E2C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1315-47FD-4769-B6FC-853F6C86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D8ED-82EC-4EDB-A792-34873994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931E-1244-4732-B245-84DA90A2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6A3F-F681-41E7-B750-77F9C827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746B-1E87-4688-B1B7-46DEA9B4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01B5-8109-4F9E-8C30-1CEB3756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B246-65B0-45D4-A7AC-7A0BFFCD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084C-5C2C-4164-9BB6-164FC133D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CB6B-3FCC-437C-A20B-8327EFAA9D0D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OUBLE REPLAC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7960" y="91440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A LABORATORY EXAMINATION OF DOUBLE REPLACEMENT REACT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Picture 5" descr="9"/>
          <p:cNvPicPr/>
          <p:nvPr/>
        </p:nvPicPr>
        <p:blipFill>
          <a:blip r:embed="rId1"/>
          <a:stretch/>
        </p:blipFill>
        <p:spPr>
          <a:xfrm>
            <a:off x="685800" y="19432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CEDU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ADD 1 GRAM OF EACH “SALT” TO 20 mL OF WATER IN TWO SEPARATE BEAKERS AND DISSOLVE, THEN MIX SOLUTIONS IN COMMON BEAKER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CEDURE CONTINU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POUR THE CONTENTS OF THE BEAKER THROUGH THE FILTER PAPER FUNNEL ASSEMBLY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RE PROCEDU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REMEMBER, PRE-MASS THE DRY FILTER PAPER BEFORE FILTERING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ATA AND CONCLU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CONSTRUCT A DATA TABL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DESCRIBE WHY THE LAB RESULTS OCCURRED IN CONCLUS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CALCULATE THEORETICAL YIELD,  THEN PERCENT YIELD AND PERCENT ERROR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CHNICAL WRITING PORTFOLI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WRITING FOR A SPECIFIC PURPOS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NO FLOWERY PROSE, GET TO THE POIN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MATH IS A LANGUAGE, CALCULATIONS ARE VITAL TO WRITEUP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URPO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WRITING TO </a:t>
            </a:r>
            <a:r>
              <a:rPr b="1" lang="en-US" sz="4800" spc="-1" strike="noStrike">
                <a:solidFill>
                  <a:srgbClr val="f8f8f8"/>
                </a:solidFill>
                <a:latin typeface="Tahoma"/>
              </a:rPr>
              <a:t>INFORM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, MAKE A DECISION OR LEARN HOW TO DO SOMETHING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UDIE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ARGET A SPECIFIC GROUP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OUR GROUP IS MIXED AUDIENCE, IF YOU CAN WRITE DIRECTIONS TO PUT A SWING SET TOGETHER YOU CAN WRITE ANYTHING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RGANIZ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WE WILL FOLLOW THE PROBLEM, CAUSE, SOLUTION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HIS LENDS ITSELF TO THE LABORATORY ORGANIZAT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RIT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CHOOSE THE DETAIL, AMOUNT OF DESCRIPI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GRAPHICS ENHANCE THE IMPACT OF A PAPER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MPON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TITLE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. TO THE POINT, DESCRIPTIVE OF THE LAB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INTRODUCTION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. STATES CLEARLY THE QUESTION/PROBLEM AND WHY LAB WAS PERFORMED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EXPERIMENTAL DETAILS/RESULTS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: EXPLAINS WHAT YOU DID AND WHY, AND LISTS RESULT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SAFE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GOGGLES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HAIR TIED BACK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APRONS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RE COMPON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CONCLUSIONS &amp; DISCUSSION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 ANALYZE THE RESULTS AND EXPLAIN WHAT HAPPENED IN THE LAB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EXTENSIONS: “REAL WORLD” USES OF THIS REACTION AND LIM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ILL MORE COMPON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ACKNOWLEDGMENTS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. LIST WHO CONTRIBUTED TO THE COMPLETION OF THE LAB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REFERENCES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. LIST ANY TEXTS OR MATERIAL USED IN THE WRITING OF YOUR PAPE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UTS &amp; BOL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PAPER IN BLUE OR BLACK INK OR WORD PROCESSE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FRONT OF PAPER ONLY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ITLE PAG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DRAWINGS/ILLUSTRATIONS REQUIRE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GOALPOSTS, GOALPOSTS, GOALPOST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HEMICAL THEO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THERE ARE MANY TYPES DOUBLE REPLACEMENT REACTIONS, SUCH AS ACID-BASE NEUTRALIZATION AND PRECIPITATION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ECIPITATE REAC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THESE ARE REACTIONS IN WHICH AN INSOLUBLE SOLID IS FORMED AND SETTLES OUT OF SOLUTION, TH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PRECIPITATE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AMPLE/FORM EQU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B + </a:t>
            </a:r>
            <a:r>
              <a:rPr b="0" lang="en-US" sz="5400" spc="-1" strike="noStrike">
                <a:solidFill>
                  <a:srgbClr val="3333ff"/>
                </a:solidFill>
                <a:latin typeface="Tahoma"/>
              </a:rPr>
              <a:t>C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D ----&gt; </a:t>
            </a: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D +  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n-US" sz="5400" spc="-1" strike="noStrike">
                <a:solidFill>
                  <a:srgbClr val="3333ff"/>
                </a:solidFill>
                <a:latin typeface="Tahoma"/>
              </a:rPr>
              <a:t>C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B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THE CATIONS “TRADE” PLACES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REAC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WRITE THE BALANCED REACTION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6699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CaCl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2(aq)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 + Na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2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CO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3(aq) 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-----&gt; 2NaCl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(aq)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 + </a:t>
            </a:r>
            <a:r>
              <a:rPr b="1" lang="en-US" sz="5400" spc="-1" strike="noStrike">
                <a:solidFill>
                  <a:srgbClr val="0000ff"/>
                </a:solidFill>
                <a:latin typeface="Courier New"/>
              </a:rPr>
              <a:t>CaCO</a:t>
            </a:r>
            <a:r>
              <a:rPr b="1" lang="en-US" sz="5400" spc="-1" strike="noStrike" baseline="-25000">
                <a:solidFill>
                  <a:srgbClr val="0000ff"/>
                </a:solidFill>
                <a:latin typeface="Courier New"/>
              </a:rPr>
              <a:t>3(s)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TERI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RINGSTAND/WIRE TRIANGLE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FUNNEL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# 1 WHATMAN FILTER PAPER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TERI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ASSORTED BEAKERS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ASSORTED FLASKS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GLASS STIRRING ROD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DRYING OVEN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AG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Na</a:t>
            </a:r>
            <a:r>
              <a:rPr b="1" lang="en-US" sz="4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CO</a:t>
            </a:r>
            <a:r>
              <a:rPr b="1" lang="en-US" sz="4000" spc="-1" strike="noStrike" baseline="-25000">
                <a:solidFill>
                  <a:srgbClr val="f8f8f8"/>
                </a:solidFill>
                <a:latin typeface="Tahoma"/>
              </a:rPr>
              <a:t>3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  SODIUM CARBONAT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CaCl</a:t>
            </a:r>
            <a:r>
              <a:rPr b="1" lang="en-US" sz="4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  CALCIUM CHLOR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14:42:34Z</dcterms:created>
  <dc:creator>Graves County High School</dc:creator>
  <dc:description/>
  <dc:language>en-US</dc:language>
  <cp:lastModifiedBy>RomaK</cp:lastModifiedBy>
  <dcterms:modified xsi:type="dcterms:W3CDTF">2015-09-02T05:53:52Z</dcterms:modified>
  <cp:revision>23</cp:revision>
  <dc:subject/>
  <dc:title>DOUBLE REPLACEMENT reaction</dc:title>
</cp:coreProperties>
</file>