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0E5D-CFF9-4E5B-9C28-80E2CBAF9F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BE9-A589-4715-84BC-4908C214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EB3-DEAE-43DB-83C3-932BCBD2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997-B5A7-4B6D-84C2-CD4111A4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B2D-024A-40D4-921A-85B4530F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C9BA-D226-4763-96F7-9D89F700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71B4-F63F-489F-A4EA-A5B21A1E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C5BE-9149-4A5E-98B0-F41278D7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E3E1-5F0E-4E33-BE34-7420AEC9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795D-1F01-4D5F-82C6-F4C41545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0965-9B46-443F-9831-25E675FA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8893-5439-4DF7-820A-8C03C362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81E-98AA-493B-9120-4D35F875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7619-3357-40E5-AA84-2A722B07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8456-C9C7-4BDF-A268-E024F90C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296E-2D12-4E56-9703-8BC37393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CCDA-B76D-4AB4-A1D1-29053DB6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21D5-6BC2-46AA-9541-CA80929B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8A6-9F26-4B14-8967-AB74EF1F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90D-D1C2-4185-874A-4BF60573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4CB-E03C-418A-ACDD-EADB9E7A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624-B64D-40E7-B700-C8B30E36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967-47D1-4A62-BC53-DFE46A5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016-2C0A-4C13-BF4C-98897574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977-8317-462E-BA20-D48748D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205B-E289-424C-9EC2-83DF448630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244D-2265-4B93-BECA-5F9FB9AC782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LEGION</cp:lastModifiedBy>
  <dcterms:modified xsi:type="dcterms:W3CDTF">2017-07-03T11:27:24Z</dcterms:modified>
  <cp:revision>9</cp:revision>
  <dc:subject>The Drugs Revolution and the Development of Penicillin</dc:subject>
  <dc:title>The Drugs Revolution and the Development of Penicillin</dc:title>
</cp:coreProperties>
</file>