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373A-406E-4945-9F51-AAFB3DD25F9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rugs Revolution and the Development of 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vention and 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e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Germ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Vaccin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mallp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06 Tubercul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913 Diphth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och discovered that he could sta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evelopment of ‘magic bullets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r example - Salvarsan 606 and Prontos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icil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8 – Alexander Fleming discovers mould which kills germs –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29 – Fleming publishes an article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in an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7 – Chain and Florey do research on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0 – Experiment on m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1 – successful tests on hum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39 - British government fund Florey’s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2 – U.S. government fund production of penicil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4 – mass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Fle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ard Flo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nst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earch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erica was not interested in penicillin until she entered the war in 194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5 American Army using 2 million doses of penicillin a mon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th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cientific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dus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h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4453-3F5C-4101-B7E9-D2079EB5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013C-B928-42D4-97ED-93AABE86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1574-FC27-446D-8D1D-A1E22EF7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FA0A-CC01-4093-9DE7-A570BCAC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5C8C-7E71-4479-B366-517BE656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DCD2-7DE9-41A3-A2A5-4023B383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7551-E378-4156-BF15-79AC1021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2F46B-9970-411D-BF38-82376AF9C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19BA-7826-4F90-AB26-59890B2B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ADD1-5E28-4572-9EE8-82F12F9E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86306-BC2D-4875-8D11-4A4E1DF6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8D5D-AC0D-498D-869D-416FE387D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35F5-8493-4C2A-A43C-0ACE970A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1D00-A7E6-4E03-9728-B5928CDE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0031-F201-4F12-A870-B97142B06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DC06-EA71-4E5F-8D22-95B776AC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9787-B65A-4A92-AF6F-3A503703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7B1F-043B-4499-BBB0-DEC9C2AB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86D3-DC57-43BF-A5B0-1E9AA859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7611-5E42-4A5E-A864-917A7576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39D-4B67-4130-B5FB-19796F4A5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49D2-F6E3-4A57-B7E4-05EDE19C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FDBA-EF1A-44BE-90A1-4C51E65A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D54C-6990-493D-8DBC-C978B17FB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AD1B-BECB-4A30-84D6-96B74ABCE0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26344-8C11-4B0E-8A89-8C76F2F0A63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ecff"/>
                </a:solidFill>
                <a:latin typeface="Arial"/>
              </a:rPr>
              <a:t>The Drugs Revolution and the Development of Penicilli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revention and Cur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8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ffff"/>
                </a:solidFill>
                <a:uFillTx/>
                <a:latin typeface="Arial"/>
              </a:rPr>
              <a:t>Preven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erm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accin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mallp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06 Tubercul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13 Diphth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och discovered that he could stain bacte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velopment of ‘magic bullet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or example - Salvarsan 606 and Pronto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enicilli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8 – Alexander Fleming discovers mould which kills germs –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29 – Fleming publishes an article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8" descr="Alexander-fleming"/>
          <p:cNvPicPr/>
          <p:nvPr/>
        </p:nvPicPr>
        <p:blipFill>
          <a:blip r:embed="rId1"/>
          <a:stretch/>
        </p:blipFill>
        <p:spPr>
          <a:xfrm>
            <a:off x="5508720" y="1700280"/>
            <a:ext cx="3166920" cy="4392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57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hain and Flor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13" descr="penicil2"/>
          <p:cNvPicPr/>
          <p:nvPr/>
        </p:nvPicPr>
        <p:blipFill>
          <a:blip r:embed="rId1"/>
          <a:stretch/>
        </p:blipFill>
        <p:spPr>
          <a:xfrm>
            <a:off x="468360" y="2131920"/>
            <a:ext cx="4038480" cy="173196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7 – Chain and Florey do research on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0 – Experiment on mi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1 – successful tests on huma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AutoShape 11"/>
          <p:cNvSpPr/>
          <p:nvPr/>
        </p:nvSpPr>
        <p:spPr>
          <a:xfrm>
            <a:off x="1738440" y="2214720"/>
            <a:ext cx="5667120" cy="24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1752480" y="1752480"/>
            <a:ext cx="61722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0" spc="-1" strike="noStrike">
                <a:solidFill>
                  <a:srgbClr val="ffffff"/>
                </a:solidFill>
                <a:latin typeface="Times New Roman"/>
              </a:rPr>
              <a:t>Factors</a:t>
            </a:r>
            <a:endParaRPr b="0" lang="en-US" sz="1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Governmen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9 - British government fund Florey’s re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2 – U.S. government fund production of penicill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4 – mass produ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11" descr="money"/>
          <p:cNvPicPr/>
          <p:nvPr/>
        </p:nvPicPr>
        <p:blipFill>
          <a:blip r:embed="rId1"/>
          <a:stretch/>
        </p:blipFill>
        <p:spPr>
          <a:xfrm>
            <a:off x="4788000" y="1773360"/>
            <a:ext cx="3024000" cy="381636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Individual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Alexander Fleming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Howard Flore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rnst Chai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Research Team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a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rman bombing stopped Florey and Chain being able to mass produce penicillin in Britai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rica was not interested in penicillin until she entered the war in 1941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945 American Army using 2 million doses of penicillin a mon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Other Factor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cientific experi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dust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mun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67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2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07:06:46Z</dcterms:created>
  <dc:creator>cpa1</dc:creator>
  <dc:description>The Drugs Revolution and the Development of Penicillin</dc:description>
  <cp:keywords>The Drugs Revolution and the Development of Penicillin</cp:keywords>
  <dc:language>en-US</dc:language>
  <cp:lastModifiedBy>LEGION</cp:lastModifiedBy>
  <dcterms:modified xsi:type="dcterms:W3CDTF">2017-07-03T11:27:24Z</dcterms:modified>
  <cp:revision>9</cp:revision>
  <dc:subject>The Drugs Revolution and the Development of Penicillin</dc:subject>
  <dc:title>The Drugs Revolution and the Development of Penicillin</dc:title>
</cp:coreProperties>
</file>