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4007-65B0-4012-B7B7-21D611007B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083-AC7F-462C-8724-09740E62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C86-B698-4E83-8DF7-85D289A2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416-CC3F-426B-B6DC-CE5BBA7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EA9-E960-4EE1-A23D-EE8ECC56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953B-923F-4496-B079-B34841AA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F691-8C6E-41A4-84DC-8A0F4071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88EE-C0A1-490E-BDFC-FD326EE8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BBC5-C5CB-4C5D-A852-7E6C07A9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F932-F505-4DD7-A392-39062542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5B7F-5DA1-4755-A523-86585888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575F-5AEB-4B74-9305-C5C9ADD9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484-58E2-4062-85FC-3C9D81D0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C300-AC8B-482C-B60F-623A73B2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F75A-6D84-4E87-A30E-6D250E3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4699-D418-4486-AFE9-3D042C0D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6E52-3743-4C5E-BAFA-3A06718D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6927-3951-4E7F-A599-D016008A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D92-20CC-426C-B36C-8BE45C2E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497-B38E-465A-90A5-BC525DE6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D67-AEAE-448C-8147-ACAB2942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C95-1237-479F-BFC6-CA0BC97C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945-71C0-46F6-9D01-AA85357E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173-0FEA-4F09-AE9E-C18E470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F28-BAD9-4563-8415-F7DF474E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9DF8-A6CF-4B54-91F3-20829BD68C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9E2B-1F18-44BF-82B0-694C223329F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LEGION</cp:lastModifiedBy>
  <dcterms:modified xsi:type="dcterms:W3CDTF">2017-07-03T11:27:24Z</dcterms:modified>
  <cp:revision>9</cp:revision>
  <dc:subject>The Drugs Revolution and the Development of Penicillin</dc:subject>
  <dc:title>The Drugs Revolution and the Development of Penicillin</dc:title>
</cp:coreProperties>
</file>