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FC2D-A2A9-4CC7-B339-9FB66198B6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and Indian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nd the French are like two edges of a pair of shears, and we are the cloth that is cut to pieces between them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to an English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egins and Spr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British out of the valley, they destroy a British trading post (Pickawill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then built forts to protect the region linking their Canadian and Louisiana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ginia Re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d major George Washington to ask the French to le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build a fort close to present day Pittsbu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seize the fort before they were done and name it Fort Duques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 Neces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was on his way to Fort Duquesne when he heard of its surr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, he built a small fort but was attacked and forced to surrender (July 3, 17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lbany Plan of U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fighting was beginning, representatives were trying to get the Iroquois to fight with the colonists (Engl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en Franklin was trying to get the colonists to join together for defensive purpo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cil that could collect taxes, make treaties, raise an army, and make new sett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ddock’s Def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9, 1755: Marched on Fort Duquesne with 2 regiments and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ambushed and destroy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English men were killed or wou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new it would take more to defeat the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tish Take Queb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Pitt – Sec. of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Philosophy o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 more troops, nations top generals and more money to wi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– cliff 300 feet above the St. Lawrence River loaded with cannons and tr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2 months sailed around looking for a way to capture it – eventually found an unguarded path up the cli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night fall 4,000 British snuck up the cliff and wa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prised the French in the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real falls within th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do you think Battle of Quebec is a turning point  in the w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of Paris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ain received all land east of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in received all land west of the Mississippi and New Orleans for its 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ritain got Florida from Spain in exchange for Cuba and the Philipp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ended the war as well as French power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 Claims Western 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exploring interior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 1600’s – France had claimed the Ohio River Valley, the Mississippi River Valley, and the great lake re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isiana (La Salle) stretched from the Appalachian Mountains to the Rocky Mount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132 and 1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tiac’s Rebe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Proclamation of 1763 – forbid colonists to settle west of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/C new they couldn’t protect them against Natives or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sts are not happy about this; feel it is their right to settle the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Main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and Mont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along the St. Lawrenc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Orleans – Mississippi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are these settlements so import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60 – NEW FRANCE had about 80,000 people (England had over 1 mill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is their such a difference in popul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were mostly fur trappers who traded with the Na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, guns, knives, iron pots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nglish competed with the French for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Native American groups competed to supply Europeans with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e fur trade created economic and military rivalries and alliances between the Native Americans and the Europe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lliances between the Natives and Europeans led to their involvement in the w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onquin and Huron sided with the French while the Iroquois became divi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onflict in the Ohio River Val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ds of war planted by when British fur traders moved into the Ohio River Valley in the 1750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land companies were also planning to settle colonists the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793-6851-4FBD-ABAD-4F6E289D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AD48-91FA-49C2-AC9A-45E4DE29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71EC-D5B4-44DB-9044-635062BE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0834-F503-4091-B720-E02E818B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DE8B-23B1-47A7-905F-7F58DAFD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C7EB-E682-4F27-9AD3-473FBB84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A247-EC2F-4C14-B062-018B6AEF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A5C1-49CA-4055-9510-95F42982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C23B-E36A-4AF0-98E7-A496FA9A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3747-E8F8-4335-9E77-493859CC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5C97-0A2A-4079-9FF5-73CF7237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0E96-BA13-4D52-817C-20188000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6F8D-2569-4214-AECE-41E58833C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lordnelsons.com/gallery/frontier/wright/images/Shawnee.jpg"/>
          <p:cNvPicPr/>
          <p:nvPr/>
        </p:nvPicPr>
        <p:blipFill>
          <a:blip r:embed="rId1"/>
          <a:stretch/>
        </p:blipFill>
        <p:spPr>
          <a:xfrm>
            <a:off x="0" y="4068720"/>
            <a:ext cx="2057400" cy="278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00200" y="220968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the French are like two edges of a pair of shears, and we are the cloth that is cut to pieces between them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to an English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ngland indian france"/>
          <p:cNvPicPr/>
          <p:nvPr/>
        </p:nvPicPr>
        <p:blipFill>
          <a:blip r:embed="rId2"/>
          <a:stretch/>
        </p:blipFill>
        <p:spPr>
          <a:xfrm>
            <a:off x="5867280" y="3936960"/>
            <a:ext cx="3276720" cy="29210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Begins and Sp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British out of the valley, they destroy a British trading post (Pickawill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then built forts to protect the region linking their Canadian and Louisiana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ginia Re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major George Washington to ask the French to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build a fort close to present day Pitt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seize the fort before they were done and nam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duquesne_diorama"/>
          <p:cNvPicPr/>
          <p:nvPr/>
        </p:nvPicPr>
        <p:blipFill>
          <a:blip r:embed="rId1"/>
          <a:stretch/>
        </p:blipFill>
        <p:spPr>
          <a:xfrm>
            <a:off x="4238640" y="3927600"/>
            <a:ext cx="4905360" cy="2930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457200" y="4267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Neces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was on his way to Fort Duquesne when he heard of its sur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he built a small fort but was attacked and forced to surrender (July 3, 17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858"/>
          <p:cNvPicPr/>
          <p:nvPr/>
        </p:nvPicPr>
        <p:blipFill>
          <a:blip r:embed="rId1"/>
          <a:stretch/>
        </p:blipFill>
        <p:spPr>
          <a:xfrm>
            <a:off x="4314960" y="4667400"/>
            <a:ext cx="4829040" cy="2190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FtNecessity"/>
          <p:cNvPicPr/>
          <p:nvPr/>
        </p:nvPicPr>
        <p:blipFill>
          <a:blip r:embed="rId2"/>
          <a:stretch/>
        </p:blipFill>
        <p:spPr>
          <a:xfrm>
            <a:off x="0" y="3581280"/>
            <a:ext cx="4876920" cy="26514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Albany Plan of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fighting was beginning, representatives were trying to get the Iroquois to fight with the colonists (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 Frankl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rying to get the colonists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 together for defensive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that could collect taxes, make treaties, raise an army, and make new sett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www.benfranklin300.org/exhibition/_html/5_1/_images/a457.jpg"/>
          <p:cNvPicPr/>
          <p:nvPr/>
        </p:nvPicPr>
        <p:blipFill>
          <a:blip r:embed="rId1"/>
          <a:stretch/>
        </p:blipFill>
        <p:spPr>
          <a:xfrm>
            <a:off x="990720" y="4343400"/>
            <a:ext cx="3124080" cy="2208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http://www.ben1776.com/images/Ben_ok2_sharp.jpg"/>
          <p:cNvPicPr/>
          <p:nvPr/>
        </p:nvPicPr>
        <p:blipFill>
          <a:blip r:embed="rId2"/>
          <a:stretch/>
        </p:blipFill>
        <p:spPr>
          <a:xfrm>
            <a:off x="6726240" y="4114800"/>
            <a:ext cx="2417760" cy="27432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ddock’s Def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9, 1755: March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2 regiments and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mbush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English men were killed or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new it would take more to defeat the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mage, Source: digital file from b&amp;w film copy neg."/>
          <p:cNvPicPr/>
          <p:nvPr/>
        </p:nvPicPr>
        <p:blipFill>
          <a:blip r:embed="rId1"/>
          <a:stretch/>
        </p:blipFill>
        <p:spPr>
          <a:xfrm>
            <a:off x="5486400" y="4132440"/>
            <a:ext cx="3657600" cy="2725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uquesne_diorama"/>
          <p:cNvPicPr/>
          <p:nvPr/>
        </p:nvPicPr>
        <p:blipFill>
          <a:blip r:embed="rId2"/>
          <a:stretch/>
        </p:blipFill>
        <p:spPr>
          <a:xfrm>
            <a:off x="0" y="4719600"/>
            <a:ext cx="3581280" cy="21384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Take Quebe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Pitt – Sec.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hilosophy on th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more troops, nations top generals and more money to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WilliamPittLg"/>
          <p:cNvPicPr/>
          <p:nvPr/>
        </p:nvPicPr>
        <p:blipFill>
          <a:blip r:embed="rId1"/>
          <a:stretch/>
        </p:blipFill>
        <p:spPr>
          <a:xfrm>
            <a:off x="0" y="3352680"/>
            <a:ext cx="2673360" cy="3505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– cliff 300 feet above the St. Lawrence River loaded with cannons and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 months sailed around looking for a way to capture it – eventually found an unguarded path up the cl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600Map"/>
          <p:cNvPicPr/>
          <p:nvPr/>
        </p:nvPicPr>
        <p:blipFill>
          <a:blip r:embed="rId1"/>
          <a:stretch/>
        </p:blipFill>
        <p:spPr>
          <a:xfrm>
            <a:off x="5181480" y="3768840"/>
            <a:ext cx="3962520" cy="30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flower+156"/>
          <p:cNvPicPr/>
          <p:nvPr/>
        </p:nvPicPr>
        <p:blipFill>
          <a:blip r:embed="rId2"/>
          <a:stretch/>
        </p:blipFill>
        <p:spPr>
          <a:xfrm>
            <a:off x="0" y="3862440"/>
            <a:ext cx="4495680" cy="29955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ing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fall 4,000 British snuck up the cliff and 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ed the French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al falls within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do you think Battle of Quebec is a turning point  in the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post-1374-1184537522"/>
          <p:cNvPicPr/>
          <p:nvPr/>
        </p:nvPicPr>
        <p:blipFill>
          <a:blip r:embed="rId1"/>
          <a:stretch/>
        </p:blipFill>
        <p:spPr>
          <a:xfrm>
            <a:off x="4419720" y="3959280"/>
            <a:ext cx="4724280" cy="2898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c000355k"/>
          <p:cNvPicPr/>
          <p:nvPr/>
        </p:nvPicPr>
        <p:blipFill>
          <a:blip r:embed="rId1"/>
          <a:stretch/>
        </p:blipFill>
        <p:spPr>
          <a:xfrm>
            <a:off x="838080" y="733320"/>
            <a:ext cx="7620120" cy="52866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eaty of Pari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it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east of the Mississi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west of the Mississipp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ew Orleans for its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Britain got Florida from Spain in exchange for Cuba and the Philipp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rea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ed the w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nch po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ttp://www.american.edu/TED/ice/images4/kckbritish-era-1763-75.png"/>
          <p:cNvPicPr/>
          <p:nvPr/>
        </p:nvPicPr>
        <p:blipFill>
          <a:blip r:embed="rId1"/>
          <a:stretch/>
        </p:blipFill>
        <p:spPr>
          <a:xfrm>
            <a:off x="5562720" y="3797280"/>
            <a:ext cx="3581280" cy="30607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Claims Western 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exploring interior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1600’s – France had claimed the Ohio River Valley, the Mississippi River Valley, and the great lak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(La Salle) stretched from the Appalachian Mountains to the Rocky Mount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32 and 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iac’s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Proclamation of 1763 – forbid colonists to settle west of Appalachian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/C new they couldn’t protect them against Natives or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sts are not happy about this; feel it is their right to settle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map-british-north-america1775"/>
          <p:cNvPicPr/>
          <p:nvPr/>
        </p:nvPicPr>
        <p:blipFill>
          <a:blip r:embed="rId1"/>
          <a:stretch/>
        </p:blipFill>
        <p:spPr>
          <a:xfrm>
            <a:off x="5638680" y="3276720"/>
            <a:ext cx="3505320" cy="35812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600Map"/>
          <p:cNvPicPr/>
          <p:nvPr/>
        </p:nvPicPr>
        <p:blipFill>
          <a:blip r:embed="rId1"/>
          <a:stretch/>
        </p:blipFill>
        <p:spPr>
          <a:xfrm>
            <a:off x="99072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Main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and Mont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along the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rleans –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are these settlements so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60 – NEW FRANCE had about 80,000 people (England had over 1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is their such a difference in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were mostly fur trappers who traded with the Na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s, guns, knives, iron pot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icture"/>
          <p:cNvPicPr/>
          <p:nvPr/>
        </p:nvPicPr>
        <p:blipFill>
          <a:blip r:embed="rId1"/>
          <a:stretch/>
        </p:blipFill>
        <p:spPr>
          <a:xfrm>
            <a:off x="0" y="2514600"/>
            <a:ext cx="4724280" cy="434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al_mhc_mhm_birchbark_canoe_sm_93335_7"/>
          <p:cNvPicPr/>
          <p:nvPr/>
        </p:nvPicPr>
        <p:blipFill>
          <a:blip r:embed="rId2"/>
          <a:stretch/>
        </p:blipFill>
        <p:spPr>
          <a:xfrm>
            <a:off x="4876920" y="2438280"/>
            <a:ext cx="4267080" cy="44197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English competed with the French for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Native American groups competed to supply Europeans with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arquette"/>
          <p:cNvPicPr/>
          <p:nvPr/>
        </p:nvPicPr>
        <p:blipFill>
          <a:blip r:embed="rId1"/>
          <a:stretch/>
        </p:blipFill>
        <p:spPr>
          <a:xfrm>
            <a:off x="1371600" y="3352680"/>
            <a:ext cx="6477120" cy="33037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r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 and military rivalries and alli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Native Americans and the Europe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lliances between the Natives and Europeans led to their involvement in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nquin and Huron sided with the French while the Iroquois became di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Conflict in the Ohio River Val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of war planted by when British fur traders moved into the Ohio River Valley in the 175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land companies were also planning to settle colonists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6da20ecd-5b25-47ae-8a51-7030ade4b170"/>
          <p:cNvPicPr/>
          <p:nvPr/>
        </p:nvPicPr>
        <p:blipFill>
          <a:blip r:embed="rId1"/>
          <a:stretch/>
        </p:blipFill>
        <p:spPr>
          <a:xfrm>
            <a:off x="0" y="3362400"/>
            <a:ext cx="3809880" cy="3495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1600Map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50:12Z</dcterms:created>
  <dc:creator>M. Dexheimer</dc:creator>
  <dc:description/>
  <dc:language>en-US</dc:language>
  <cp:lastModifiedBy>LEGION</cp:lastModifiedBy>
  <dcterms:modified xsi:type="dcterms:W3CDTF">2017-07-03T10:45:40Z</dcterms:modified>
  <cp:revision>23</cp:revision>
  <dc:subject/>
  <dc:title>The French and Indian War</dc:title>
</cp:coreProperties>
</file>