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27F8-74ED-4F22-8B7A-5387D53686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9F97-12E2-4877-A6E4-C944BE40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190-C480-4179-B062-679A9636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A98-4C5E-4B19-B5CD-12178340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B44-6BD1-42C2-8318-01750A0E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D36-15F4-46A6-99A5-0AF77D31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16B-925C-42BC-8EF5-C60F9266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128-9A92-46E3-B796-58C26C83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BE0-551B-4836-88CA-A2D0C559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124-C173-42AC-8C5D-AB03C82D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959-475A-453A-901F-96FB6A46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590-D08A-4CE0-9C0A-A0A8760B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547-20E3-415A-BD8B-F587957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2635-838D-463D-A2D5-73AF5663F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3T10:45:40Z</dcterms:modified>
  <cp:revision>23</cp:revision>
  <dc:subject/>
  <dc:title>The French and Indian War</dc:title>
</cp:coreProperties>
</file>