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9DE3-412E-454A-9BED-1D79C3D34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38D-A3C8-4CDB-B0D2-F4B2D574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EA7-0938-4455-913B-D3AC4374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9F9-E23D-4A3F-BB62-A9DBD690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C49-656E-41DA-9326-3D7AD848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9E7A-82E2-4D00-9B06-BBCEF5BE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D878-7F89-49F5-BF94-23ABA3E2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FF19-9999-438F-BB73-0B8EC6F0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620A-40CF-4388-A27E-36BCDB00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0F60-9468-4422-A370-1B680643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26AC-0506-459D-B32F-26C3BAB3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152B-4F48-48C6-9034-126FFFA4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8634-276E-4CB3-A4C2-E22E8FDB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5A5A-07A6-493B-B95C-D153CF79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881C-7EE4-4765-B99B-87F83F74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2E84-FA2E-4FD0-A1CB-BD2C13E8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E984-51AE-479B-844F-2F01D220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EDCB-2990-4E4E-A0A5-3443FC7F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BED-7ACD-4F71-ABF9-4A871E91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1D5-4124-4FFD-819A-5C026EA0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47E-1D51-47AF-BC4C-1FB4AC02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0487-9C03-41C5-A687-F907A761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ECEF-B6AB-432B-B082-22F2D16A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D99-7D2B-4C73-B293-40B898D3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C53-6594-4F1B-ACAB-16861B48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4674-9C57-49CB-A02A-62A21B748FD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C142-7724-4F43-BAE6-7E85A08B1BF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8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LEGION</cp:lastModifiedBy>
  <dcterms:modified xsi:type="dcterms:W3CDTF">2017-07-03T10:45:19Z</dcterms:modified>
  <cp:revision>22</cp:revision>
  <dc:subject/>
  <dc:title>The French Revolution</dc:title>
</cp:coreProperties>
</file>