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wmf" ContentType="image/x-wmf"/>
  <Override PartName="/ppt/media/image12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13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E7726-FEF7-4590-A5A3-8CA5EB806E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e French Revolution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1789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French R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78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Events continued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French created their own Declaration of the Rights of Man and Citizen modeled after TJ’s Declaration of Independence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ts continu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nch created their own Declaration of the Rights of Man and Citizen modeled after TJ’s Declaration of Independ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Effects of the French Revolution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Both the King and Queen were beheaded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French monarchy no more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In addition to the Royal family, 17,000 people were executed with the guillotine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ects of the French R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the King and Queen were behea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nch monarchy no m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ddition to the Royal family, 17,000 people were executed with the guillot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Effects continued. . 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Napoleon Bonaparte was elected leader, then appoints himself emperor of France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Sold Louisiana to TJ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ects continued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poleon Bonaparte was elected leader, then appoints himself emperor of Fra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d Louisiana to T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Causes of French Revolution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Ideas of liberty and equality from the American Revolution (note: Constitution was signed 2 yrs before in 1787)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Enlightenment ideas of John Locke 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uses of French R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as of liberty and equality from the American Revolution (note: Constitution was signed 2 yrs before in 1787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lightenment ideas of John Lock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Causes of French Revolution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Vast majority of people were broke and hungry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Vast majority were in the lowest estate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uses of French R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st majority of people were broke and hung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st majority were in the lowest est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ree Estates 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ree Estat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bourgeoisie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Part of the third estate, they were the “middle class” of France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ey were bankers, merchants, factory owners (educated people)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Led the revolution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rgeois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of the third estate, they were the “middle class” of Fra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were bankers, merchants, factory owners (educated peop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d the r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Revolution - beginnings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Although people were starving and the country was broke, the royal family flaunted their wealth and uncaring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olution - beginn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though people were starving and the country was broke, the royal family flaunted their wealth and uncar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Bread riots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People were hungry; the country was broke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is picture is from an all-woman bread riot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Marie Antionette said “let them eat cake”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ead rio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were hungry; the country was brok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icture is from an all-woman bread rio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ie Antionette said “let them eat cak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King Louis XVI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His grandfather Louis XIV was the ultimate “absolutist” king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is king was weak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He had so little control, he called for the French congress to fix some problems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ng Louis XV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 grandfather Louis XIV was the ultimate “absolutist” k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king was wea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had so little control, he called for the French congress to fix some probl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Estates General meets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e part of the French Congress representing the third estate left and declared themselves THE congress of France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tates General me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art of the French Congress representing the third estate left and declared themselves THE congress of Fra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5267-7D04-4FBC-8CF5-2C49F59C8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D243-E5AA-43E8-B4CE-EFAD72713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42B9-8BEB-4ECC-A01C-141D53CAB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40FC-A472-434D-A35E-B6CF98A35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1A29D-462F-47A2-958B-3E69A5ADA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019BB-20CC-413C-A7F0-66F62B50C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464C3-DE18-41AD-BD34-B7EC08822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0ACD5-4C9C-49EC-A380-E22EEC6DC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682CF-2DFB-46DD-AB9E-860F47500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E3708-901E-4D58-953E-7C55D8646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D25DD-DC08-4CC1-831E-6D0B6E499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DE5F-CA81-4AAA-8BC5-C80B8B0AE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AFFC6-3505-4166-9237-8FE8B9E53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DD859-C4B8-4672-9E47-F18BB20A7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F492C-969B-4375-92DA-FC37A447D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DB728-F5CA-4DE9-BD0D-9D2A967C9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AD166-F32B-42C8-8BC3-42A380514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6812-152D-4BE0-A4BB-DFBDFDB3B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5005-200A-4275-BF28-75E063AEE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51F4-9E3F-4188-80C4-6AAA96F3C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8137-7A11-4EB6-8EBF-EC48C0301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9DEF-370B-44FE-B25B-E83CAAA5A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6B4B-5432-4BC6-8F40-D5117AF66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8C20-F589-489A-AFD0-9B6D0BBAF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9" descr="anabnr2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0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1112A-EE68-410B-94C0-209BE9206A27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Picture 3" descr="ANABNR2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4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59DB7-B116-4238-AA5D-7868B802DD14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The French Revolution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ctr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1789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0" name="Picture 4" descr="travel-france-pic-liberte"/>
          <p:cNvPicPr/>
          <p:nvPr/>
        </p:nvPicPr>
        <p:blipFill>
          <a:blip r:embed="rId1"/>
          <a:stretch/>
        </p:blipFill>
        <p:spPr>
          <a:xfrm>
            <a:off x="3505320" y="2895480"/>
            <a:ext cx="2514600" cy="3006720"/>
          </a:xfrm>
          <a:prstGeom prst="rect">
            <a:avLst/>
          </a:prstGeom>
          <a:ln w="0">
            <a:noFill/>
          </a:ln>
        </p:spPr>
      </p:pic>
      <p:sp>
        <p:nvSpPr>
          <p:cNvPr id="101" name="Місце для нижнього колонтитула 1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Events continued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8600" y="2101680"/>
            <a:ext cx="3276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b0a09"/>
                </a:solidFill>
                <a:latin typeface="Times New Roman"/>
              </a:rPr>
              <a:t>French created their own </a:t>
            </a:r>
            <a:r>
              <a:rPr b="0" i="1" lang="en-US" sz="2800" spc="-1" strike="noStrike">
                <a:solidFill>
                  <a:srgbClr val="0b0a09"/>
                </a:solidFill>
                <a:latin typeface="Times New Roman"/>
              </a:rPr>
              <a:t>Declaration of the Rights of Man and Citizen </a:t>
            </a:r>
            <a:r>
              <a:rPr b="0" lang="en-US" sz="2800" spc="-1" strike="noStrike">
                <a:solidFill>
                  <a:srgbClr val="0b0a09"/>
                </a:solidFill>
                <a:latin typeface="Times New Roman"/>
              </a:rPr>
              <a:t>modeled after TJ’s </a:t>
            </a:r>
            <a:r>
              <a:rPr b="0" i="1" lang="en-US" sz="2800" spc="-1" strike="noStrike">
                <a:solidFill>
                  <a:srgbClr val="0b0a09"/>
                </a:solidFill>
                <a:latin typeface="Times New Roman"/>
              </a:rPr>
              <a:t>Declaration of Independenc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4" name="Picture 6" descr="frenchrevolution1"/>
          <p:cNvPicPr/>
          <p:nvPr/>
        </p:nvPicPr>
        <p:blipFill>
          <a:blip r:embed="rId1"/>
          <a:stretch/>
        </p:blipFill>
        <p:spPr>
          <a:xfrm>
            <a:off x="3429000" y="2216160"/>
            <a:ext cx="5715000" cy="3562200"/>
          </a:xfrm>
          <a:prstGeom prst="rect">
            <a:avLst/>
          </a:prstGeom>
          <a:ln w="0">
            <a:noFill/>
          </a:ln>
        </p:spPr>
      </p:pic>
      <p:sp>
        <p:nvSpPr>
          <p:cNvPr id="135" name="Місце для нижнього колонтитула 1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Effects of the French Revolution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21016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b0a09"/>
                </a:solidFill>
                <a:latin typeface="Times New Roman"/>
              </a:rPr>
              <a:t>Both the King and Queen were beheaded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b0a09"/>
                </a:solidFill>
                <a:latin typeface="Times New Roman"/>
              </a:rPr>
              <a:t>French monarchy no mor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b0a09"/>
                </a:solidFill>
                <a:latin typeface="Times New Roman"/>
              </a:rPr>
              <a:t>In addition to the Royal family, 17,000 people were executed with the guillotine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8" name="Picture 6" descr="guillotine"/>
          <p:cNvPicPr/>
          <p:nvPr/>
        </p:nvPicPr>
        <p:blipFill>
          <a:blip r:embed="rId1"/>
          <a:stretch/>
        </p:blipFill>
        <p:spPr>
          <a:xfrm>
            <a:off x="4191120" y="914400"/>
            <a:ext cx="4286160" cy="571500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3d7a"/>
                </a:solidFill>
                <a:latin typeface="Times New Roman"/>
              </a:rPr>
              <a:t>Effects continued. . .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715000" y="1295280"/>
            <a:ext cx="312408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b0a09"/>
                </a:solidFill>
                <a:latin typeface="Times New Roman"/>
              </a:rPr>
              <a:t>Napoleon Bonaparte was elected leader, then appoints himself emperor of Franc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b0a09"/>
                </a:solidFill>
                <a:latin typeface="Times New Roman"/>
              </a:rPr>
              <a:t>Sold Louisiana to TJ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42" name="Picture 6" descr="Napoleon"/>
          <p:cNvPicPr/>
          <p:nvPr/>
        </p:nvPicPr>
        <p:blipFill>
          <a:blip r:embed="rId1"/>
          <a:stretch/>
        </p:blipFill>
        <p:spPr>
          <a:xfrm>
            <a:off x="479520" y="1066680"/>
            <a:ext cx="5159160" cy="548640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auses of French Revolution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0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b0a09"/>
                </a:solidFill>
                <a:latin typeface="Times New Roman"/>
              </a:rPr>
              <a:t>Ideas of liberty and equality from the American Revolution (note: Constitution was signed 2 yrs before in 1787)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10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b0a09"/>
                </a:solidFill>
                <a:latin typeface="Times New Roman"/>
              </a:rPr>
              <a:t>Enlightenment ideas of John Locke 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auses of French Revolution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1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b0a09"/>
                </a:solidFill>
                <a:latin typeface="Times New Roman"/>
              </a:rPr>
              <a:t>Vast majority of people were broke and hungry.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11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b0a09"/>
                </a:solidFill>
                <a:latin typeface="Times New Roman"/>
              </a:rPr>
              <a:t>Vast majority were in the lowest estate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Three Estates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109" name="Object 3"/>
          <p:cNvGraphicFramePr/>
          <p:nvPr/>
        </p:nvGraphicFramePr>
        <p:xfrm>
          <a:off x="228600" y="2101680"/>
          <a:ext cx="861048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101680"/>
                    <a:ext cx="86104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Місце для нижнього колонтитула 1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bourgeoisi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-360" y="210168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b0a09"/>
                </a:solidFill>
                <a:latin typeface="Times New Roman"/>
              </a:rPr>
              <a:t>Part of the third estate, they were the “middle class” of Franc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b0a09"/>
                </a:solidFill>
                <a:latin typeface="Times New Roman"/>
              </a:rPr>
              <a:t>They were bankers, merchants, factory owners (educated people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b0a09"/>
                </a:solidFill>
                <a:latin typeface="Times New Roman"/>
              </a:rPr>
              <a:t>Led the revolutio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4" name="Picture 5" descr="images"/>
          <p:cNvPicPr/>
          <p:nvPr/>
        </p:nvPicPr>
        <p:blipFill>
          <a:blip r:embed="rId1"/>
          <a:stretch/>
        </p:blipFill>
        <p:spPr>
          <a:xfrm>
            <a:off x="4753080" y="1523880"/>
            <a:ext cx="3882960" cy="469260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3d7a"/>
                </a:solidFill>
                <a:latin typeface="Times New Roman"/>
              </a:rPr>
              <a:t>Revolution - beginnings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28840" y="1371600"/>
            <a:ext cx="3809880" cy="48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b0a09"/>
                </a:solidFill>
                <a:latin typeface="Times New Roman"/>
              </a:rPr>
              <a:t>Although people were starving and the country was broke, the royal family flaunted their wealth and uncaring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8" name="Picture 6" descr="Maria_1"/>
          <p:cNvPicPr/>
          <p:nvPr/>
        </p:nvPicPr>
        <p:blipFill>
          <a:blip r:embed="rId1"/>
          <a:stretch/>
        </p:blipFill>
        <p:spPr>
          <a:xfrm>
            <a:off x="141120" y="1219320"/>
            <a:ext cx="4456440" cy="563868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Bread riot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28840" y="2101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b0a09"/>
                </a:solidFill>
                <a:latin typeface="Times New Roman"/>
              </a:rPr>
              <a:t>People were hungry; the country was broke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b0a09"/>
                </a:solidFill>
                <a:latin typeface="Times New Roman"/>
              </a:rPr>
              <a:t>This picture is from an all-woman bread riot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b0a09"/>
                </a:solidFill>
                <a:latin typeface="Times New Roman"/>
              </a:rPr>
              <a:t>Marie Antionette said “let them eat cake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2" name="Picture 1030" descr="womenversailles"/>
          <p:cNvPicPr/>
          <p:nvPr/>
        </p:nvPicPr>
        <p:blipFill>
          <a:blip r:embed="rId1"/>
          <a:stretch/>
        </p:blipFill>
        <p:spPr>
          <a:xfrm>
            <a:off x="0" y="2286000"/>
            <a:ext cx="5486400" cy="422280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King Louis XVI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-360" y="21016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b0a09"/>
                </a:solidFill>
                <a:latin typeface="Times New Roman"/>
              </a:rPr>
              <a:t>His grandfather Louis XIV was the ultimate “absolutist” king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b0a09"/>
                </a:solidFill>
                <a:latin typeface="Times New Roman"/>
              </a:rPr>
              <a:t>This king was weak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b0a09"/>
                </a:solidFill>
                <a:latin typeface="Times New Roman"/>
              </a:rPr>
              <a:t>He had so little control, he called for the French congress to fix some problem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6" name="Picture 6" descr="louis16france"/>
          <p:cNvPicPr/>
          <p:nvPr/>
        </p:nvPicPr>
        <p:blipFill>
          <a:blip r:embed="rId1"/>
          <a:stretch/>
        </p:blipFill>
        <p:spPr>
          <a:xfrm>
            <a:off x="4981680" y="1219320"/>
            <a:ext cx="4079880" cy="563868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Estates General meet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28840" y="2101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b0a09"/>
                </a:solidFill>
                <a:latin typeface="Times New Roman"/>
              </a:rPr>
              <a:t>The part of the French Congress representing the third estate left and declared themselves THE congress of Franc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0" name="Picture 6" descr="frenchrevolutionassemblee"/>
          <p:cNvPicPr/>
          <p:nvPr/>
        </p:nvPicPr>
        <p:blipFill>
          <a:blip r:embed="rId1"/>
          <a:stretch/>
        </p:blipFill>
        <p:spPr>
          <a:xfrm>
            <a:off x="0" y="2973240"/>
            <a:ext cx="5410080" cy="3365640"/>
          </a:xfrm>
          <a:prstGeom prst="rect">
            <a:avLst/>
          </a:prstGeom>
          <a:ln w="0">
            <a:noFill/>
          </a:ln>
        </p:spPr>
      </p:pic>
      <p:sp>
        <p:nvSpPr>
          <p:cNvPr id="131" name="Місце для нижнього колонтитула 1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4T16:25:44Z</dcterms:created>
  <dc:creator> jcollins</dc:creator>
  <dc:description/>
  <dc:language>en-US</dc:language>
  <cp:lastModifiedBy>LEGION</cp:lastModifiedBy>
  <dcterms:modified xsi:type="dcterms:W3CDTF">2017-07-03T10:45:19Z</dcterms:modified>
  <cp:revision>22</cp:revision>
  <dc:subject/>
  <dc:title>The French Revolution</dc:title>
</cp:coreProperties>
</file>