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5E30-F390-4015-AF00-D08F1CB64C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 W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ce’s Finest Hou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 W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ce’s Finest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nection to the Pa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odern marathon has its roots in the Battle of Marat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reek soldier, Phidippides, ran from Marathon to Athens (26 miles) to tell the Athenians of the Greek victory and to warn them that the Persians may try to att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idippides died from exhaustion after delivering his mess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day’s 26 mile marathon races remember his heroic act of martyrd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 to the P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dern marathon has its roots in the Battle of Mara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ek soldier, Phidippides, ran from Marathon to Athens (26 miles) to tell the Athenians of the Greek victory and to warn them that the Persians may try to at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dippides died from exhaustion after delivering hi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26 mile marathon races remember his heroic act of martyr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ck for Reve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 Emperor Darius never returned, but his son Emperor Xerxes di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480 B.C. the Persians returned to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brought even more men this time arou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 for Rev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 Emperor Darius never returned, but his son Emperor Xerxes d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480 B.C. the Persians returned to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rought even more men this time a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Thermopyla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ns met a force of Greeks at Thermopyla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was a small mountain pass that controlled access to all of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two days 7,000 Greeks held the Persians back, bu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Thermopy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ns met a force of Greeks at Thermopy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a small mountain pass that controlled access to all of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wo days 7,000 Greeks held the Persians back, bu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wnfa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reek traitor showed the Persians a secret passagew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allowed the Persians to sneak up from behind and attack the Gree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of the Greek defenders ran aw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w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ek traitor showed the Persians a secret passag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lowed the Persians to sneak up from behind and attack the Gr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Greek defenders ran a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Heroic A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out 300 Spartans stayed behind and fought to their dea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allowed the other Greeks to escape capture or certain de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eroic 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0 Spartans stayed behind and fought to their dea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lowed the other Greeks to escape capture or certain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e come the Pers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s poured into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got their revenge by wreaking havo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even burned Athens to the grou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were the Greeks to do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come the Pers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s poured into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ot their revenge by wreaking hav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even burned Athens to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re the Greeks to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Salam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 their city-state burned the Athenian people and the army escaped to the island of Salam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s were quick to follow the retreating Greeks to Salam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Sala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ir city-state burned the Athenian people and the army escaped to the island of Sala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s were quick to follow the retreating Greeks to Sala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here is Persia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ere is Persi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ose Clever Athen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ships first sailed from shore like they were fleeing the isl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then turned quickly around and began ramming the Persian ship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fore the Persians knew what had happened half of their fleet was on the ocean flo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s once again retreated back to Pers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Clever Athen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ships first sailed from shore like they were fleeing the 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hen turned quickly around and began ramming the Persian 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he Persians knew what had happened half of their fleet was on the ocean fl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s once again retreated back to Per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inal Batt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Plata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and Persians at equal str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 and Sparta fought side by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k military superiority won out and Persia retreated for goo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nal Ba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Plata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and Persians at equal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 and Sparta fought side by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 military superiority won out and Persia retreated for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did the Greeks do i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ree reas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herent advantage of the defen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were better soldier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used the element of surpri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Greeks do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rea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herent advantage of the def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better soldi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d the element of su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Figh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ks had been settling on the west coast of Asia Minor (Persia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 conquered these colo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499 B.C. Greeks in these colonies revolted against Persian rule (they were used to ruling themselves—democrac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 sent troops to support the revol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F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s had been settling on the west coast of Asia Minor (Pers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 conquered these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499 B.C. Greeks in these colonies revolted against Persian rule (they were used to ruling themselves—democrac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 sent troops to support the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ushing the Revol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peror Darius of Persia crushed the revolt rather quick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 decided to punish Athens for helping the colo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fter training for a few years Darius sent troops to invade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ailed on to the Bay of Marat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shing the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eror Darius of Persia crushed the revolt rather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ecided to punish Athens for helping the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raining for a few years Darius sent troops to invade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on to the Bay of Mara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Marat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 asked Sparta to help, but Spartan troops would not arrive for 9 days (they were in the middle of religious festival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ther jealous city-states decided not to help Athens against the Persian Empi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 Athens took on the mighty Persian Empire by themselv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Mara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 asked Sparta to help, but Spartan troops would not arrive for 9 days (they were in the middle of religious festiv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jealous city-states decided not to help Athens against the Persian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Athens took on the mighty Persian Empire by themse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erious Mismat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n troops—100,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ian troops—20,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d Athens really have any hope against these odd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rious Mism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n troops—10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ian troops—2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Athens really have any hope against these od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c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thenian army was well-trained and did not break formation as they charged the Persian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organized charge surprised the large but scattered (and poorly organized) Persian arm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 soldiers turned and ran from the oncoming Athen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henian army was well-trained and did not break formation as they charged the Persian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ganized charge surprised the large but scattered (and poorly organized) Persian arm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 soldiers turned and ran from the oncoming Athen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laugh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thenian army almost drove the Persians back to the s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al tal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ns—6, 400 de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—192 de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arius returned to Persia never to retur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laugh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henian army almost drove the Persians back to the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ns—6, 400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—192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ius returned to Persia never to 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009E-44AA-45DD-AB32-0492E6154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DC58-23C3-4A05-841D-84DB4AB5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775E-0C7C-4098-A823-1A3FCF221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B7A3-BD69-4382-A2C5-AA004DFB9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BB7A-078E-4F5D-9C1B-40143E045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81F2-DF7F-43F2-AF06-90896CD6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F4EB-6689-49F7-A7FC-7DCAE3E2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5C4E-47B7-46CD-B684-0A4C79FF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C4B8C-359E-4DB8-9A15-31117F27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1BB5-DC4A-4C0B-882A-6374F0F4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1B39-A9C1-4B4E-BAF7-6B799012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7C6F-9639-4E3F-BA91-95BC6422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30B1-48AC-430E-B9C4-0C5E2335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D5E4-4B6C-4E6C-B873-F657433C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B72F-A2FD-491B-A05B-5AA30CB4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C304-B003-401E-BC6B-C9323C8B3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BF4A-B964-4D6C-8DE8-0B424A033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8A78-3B5D-4363-AB6B-5358AC53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4E0A-C589-4966-9526-2EA5E719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1644-1809-4BE6-A71A-3F72B08D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F158-27F7-404B-BBB0-E638CC63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8626-E99E-4A49-B78E-DC24AC50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B0F4-ED37-4A17-A7EF-2220E8B4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7B28-F357-42DE-94E3-6C7C25CC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F8BB-642D-49E3-B493-F781A7D374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627F-E022-43C6-A808-ACF38DBC8C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Persian Wa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ce’s Finest Ho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nection to the Pa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odern marathon has its roots in the Battle of Marath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Greek soldier, Phidippides, ran from Marathon to Athens (26 miles) to tell the Athenians of the Greek victory and to warn them that the Persians may try to att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idippides died from exhaustion after delivering his mess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day’s 26 mile marathon races remember his heroic act of martyrd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ck for Reveng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 Emperor Darius never returned, but his son Emperor Xerxes d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480 B.C. the Persians returned to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brought even more men this time a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Battle of Thermopyla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ns met a force of Greeks at Thermopyla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was a small mountain pass that controlled access to all of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two days 7,000 Greeks held the Persians back, but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thermopyla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Downfal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Greek traitor showed the Persians a secret passage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allowed the Persians to sneak up from behind and attack the Gree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of the Greek defenders ran a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Heroic Ac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300 Spartans stayed behind and fought to their dea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allowed the other Greeks to escape capture or certain de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spartans01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35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spartansend"/>
          <p:cNvPicPr/>
          <p:nvPr/>
        </p:nvPicPr>
        <p:blipFill>
          <a:blip r:embed="rId1"/>
          <a:stretch/>
        </p:blipFill>
        <p:spPr>
          <a:xfrm>
            <a:off x="0" y="204840"/>
            <a:ext cx="9144000" cy="6653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ere come the Persia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s poured into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got their revenge by wreaking hav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even burned Athens to the 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were the Greeks to d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Battle of Salam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their city-state burned the Athenian people and the army escaped to the island of Salam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s were quick to follow the retreating Greeks to Salam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ere is Persia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2" name="Picture 4" descr="greecepersiamaplarge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5867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ose Clever Athenia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eeks ships first sailed from shore like they were fleeing the is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then turned quickly around and began ramming the Persian shi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 the Persians knew what had happened half of their fleet was on the ocean flo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ersians once again retreated back to Per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maxisalamiseng"/>
          <p:cNvPicPr/>
          <p:nvPr/>
        </p:nvPicPr>
        <p:blipFill>
          <a:blip r:embed="rId1"/>
          <a:stretch/>
        </p:blipFill>
        <p:spPr>
          <a:xfrm>
            <a:off x="0" y="98280"/>
            <a:ext cx="9144000" cy="6759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Final Batt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attle of Plata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eeks and Persians at equal str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and Sparta fought side by s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k military superiority won out and Persia retreated for g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w did the Greeks do it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e reas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herent advantage of the defen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were better soldi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used the element of surpr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 Fight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ks had been settling on the west coast of Asia Minor (Pers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 conquered these colon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499 B.C. Greeks in these colonies revolted against Persian rule (they were used to ruling themselves—democrac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sent troops to support the revo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rushing the Revol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peror Darius of Persia crushed the revolt rather quic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decided to punish Athens for helping the colon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raining for a few years Darius sent troops to invade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iled on to the Bay of Marath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Battle of Marath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asked Sparta to help, but Spartan troops would not arrive for 9 days (they were in the middle of religious festiva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jealous city-states decided not to help Athens against the Persian Empi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Athens took on the mighty Persian Empire by themsel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Serious Mismatc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n troops—10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ian troops—2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d Athens really have any hope against these od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ic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henian army was well-trained and did not break formation as they charged the Persian l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rganized charge surprised the large but scattered (and poorly organized) Persian arm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 soldiers turned and ran from the oncoming Atheni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10029246aBattle%20of%20Marath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Slaught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henian army almost drove the Persians back to the s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 t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ians—6, 400 d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hens—192 d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ius returned to Persia never to retu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22:47:39Z</dcterms:created>
  <dc:creator>brobison</dc:creator>
  <dc:description/>
  <dc:language>en-US</dc:language>
  <cp:lastModifiedBy>LEGION</cp:lastModifiedBy>
  <dcterms:modified xsi:type="dcterms:W3CDTF">2017-07-03T09:55:55Z</dcterms:modified>
  <cp:revision>9</cp:revision>
  <dc:subject/>
  <dc:title>The Persian Wars</dc:title>
</cp:coreProperties>
</file>