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ED82-5E88-4C6A-960B-3C2B33C722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62C8-A17E-4A71-B133-9197D2B7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D36E-7CFA-4B27-BE48-161BCE55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B26F-0CE6-42C9-B1DA-0A158751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216A-146B-4991-B823-A229247E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3594-B54E-4483-BA0F-5A1E4ECB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B6C7-D66F-4410-BA1C-F7E5985E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D1D5-3343-4311-88C0-E108C920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F826-5B6E-4BCE-ACE8-EBB64039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85FE-52B4-4C60-A109-1B9BE512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CC25-A3D3-41E6-AFC5-ED43EBF3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4840-9E63-4EC2-B6AC-792150F4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DDFA-ABA7-4990-9B82-04A0F845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4E65-3C97-4785-9B5C-8A1AF5E2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F2FB-E10E-45B9-8831-E0D7FED0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5CFE-C637-44F2-B3B8-47038267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8192-5642-4EA6-A247-39CFB7EB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1CD3-412C-4847-B9BD-FA940A02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7D06-372A-4F7B-9FBF-B6AAAC6A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6E1D-0254-4B24-B7BA-8036A99D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4B21-8560-464D-99B9-2D9F5715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D32-99BA-4823-8E91-BB05A1BD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9161-AF2B-4012-9EF2-2B3CFCA1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1D7B-7774-4CA8-8A6A-A52BBDB0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BAA6-3022-4571-9E6F-0661243D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8558-6E48-4C22-B30A-82875D6657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9EF8-ED73-4163-A5FE-8305897A00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ersian Wa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nection to the Pa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ck for Reven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Thermopyla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thermopyl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Downfal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Heroic A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spartans0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spartansend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653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re come the Pers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Salam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ere is Persia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2" name="Picture 4" descr="greecepersiamaplarge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ose Clever Athen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maxisalamiseng"/>
          <p:cNvPicPr/>
          <p:nvPr/>
        </p:nvPicPr>
        <p:blipFill>
          <a:blip r:embed="rId1"/>
          <a:stretch/>
        </p:blipFill>
        <p:spPr>
          <a:xfrm>
            <a:off x="0" y="98280"/>
            <a:ext cx="9144000" cy="675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Final Batt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did the Greeks do i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Figh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ushing the Revol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Marath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erious Mismat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ic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10029246aBattle%20of%20Marath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laugh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22:47:39Z</dcterms:created>
  <dc:creator>brobison</dc:creator>
  <dc:description/>
  <dc:language>en-US</dc:language>
  <cp:lastModifiedBy>LEGION</cp:lastModifiedBy>
  <dcterms:modified xsi:type="dcterms:W3CDTF">2017-07-03T09:55:55Z</dcterms:modified>
  <cp:revision>9</cp:revision>
  <dc:subject/>
  <dc:title>The Persian Wars</dc:title>
</cp:coreProperties>
</file>