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64CE-F1D3-4D46-96F1-CCA64A4FD7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189-86AB-46C2-B585-0C09AE84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70B-0F3F-478C-99C7-EC79A1B2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60A-B362-4CD4-B194-0501038B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BAF-05D1-4062-850C-B6D23BAB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B04C-DB3A-49A1-B51F-625FE490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6D51-03B2-4657-97E5-57F0E9DF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5B0-608D-4478-BAC1-7B86F5A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CF54-7A0E-4C0D-842D-2ACBDAB3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1FED-0332-43C1-AA45-17080984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F70B-8532-4F37-B60C-B0C0286A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9708-7D3F-4A9F-BCE2-99B395D5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60A-0DC5-40BA-9069-184DB35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207D-76A2-4E27-8315-5102A31F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5DDD-BC7E-4B21-8F0F-4FB87ED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3ACB-D3B9-4182-BC8E-AAB9CE4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2B2A-D4BF-48DD-A75E-AC74516E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CF26-D95A-4B2D-9145-94EDD088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565-F74E-4B8E-B73A-BB1B0E35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2D3-32DD-46FD-AC2D-98DE11BE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280-EDC7-4B9C-BC59-F5AF25F3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173-B804-4FFB-8B34-D88A60AF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A6A-CEC5-4F16-9B0F-075AA8AD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EC9-2162-4EAF-8C35-4158DAE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BD2-31DC-44C0-A11D-D49BC66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DBC1-D955-42A1-AB3B-1BD41BCF4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AE83-0BFA-4D7C-AE0A-DAAD6E9EE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LEGION</cp:lastModifiedBy>
  <dcterms:modified xsi:type="dcterms:W3CDTF">2017-07-03T09:55:55Z</dcterms:modified>
  <cp:revision>9</cp:revision>
  <dc:subject/>
  <dc:title>The Persian Wars</dc:title>
</cp:coreProperties>
</file>