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E82-FDF8-4E0D-8FDE-1CE16E9C7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92E-7B55-4C92-975B-38EB1A87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47F-1C65-4C13-9D8D-8DF21BE5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83A-DF9C-45FA-8C50-E12C463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65-2F46-45C1-9E76-36F4F668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729-2775-4515-944E-BCF6FD7C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E92-6756-4F09-909E-B838697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DB5-76E1-4E5D-B277-6A6C483C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1DD-3E38-4CB3-9F30-EBF489D7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C75-6D8C-4A67-9D8A-340FC1A0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32F-F941-4770-9E8D-E69DB9C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1F5-3C00-43BC-A16C-3BB70A5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4EC-E51B-4C17-8836-FD64DEC7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383-F938-477F-828A-D615B2DE8FE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LEGION</cp:lastModifiedBy>
  <dcterms:modified xsi:type="dcterms:W3CDTF">2017-07-03T09:58:03Z</dcterms:modified>
  <cp:revision>8</cp:revision>
  <dc:subject>Trench Warfare in WWI</dc:subject>
  <dc:title>Trench Warfare in WWI</dc:title>
</cp:coreProperties>
</file>