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670E-32A8-415A-9921-E2D36A33E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EDE-568A-4E1D-9C86-ECB25B1C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DE1-6BEB-46C6-8A68-C9C0088D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E6C-F277-4601-8646-AB91BD70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FB0-C863-4B07-A412-F3A0A31B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2D2-843A-4423-9E96-65CC884E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D71-D390-4095-A64E-6B48A466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3EA-2D44-4C0F-B380-F49FFE9A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A6F-D588-4F41-B753-8F2A2B7B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9C9-975B-4E49-956C-485C7115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61F-7991-479F-BFCB-269C874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1F5-AD5F-4B19-A8EC-E956571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DE8-1293-443A-B6AC-98425DCC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480B-ADAC-4591-A497-EA9C54A047C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LEGION</cp:lastModifiedBy>
  <dcterms:modified xsi:type="dcterms:W3CDTF">2017-07-03T09:58:03Z</dcterms:modified>
  <cp:revision>8</cp:revision>
  <dc:subject>Trench Warfare in WWI</dc:subject>
  <dc:title>Trench Warfare in WWI</dc:title>
</cp:coreProperties>
</file>