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36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5.jpeg" ContentType="image/jpeg"/>
  <Override PartName="/ppt/media/image26.jpeg" ContentType="image/jpeg"/>
  <Override PartName="/ppt/media/image3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641F-7111-44C3-9BB9-BA96617A4AD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sters and Dise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firstworldwar.com/features/trenchlife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sters and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firstworldwar.com/features/trenchlif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d bodies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to rot in the trenches because of the machine gun fire that kept the soldiers 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asy food source for rats and a place to breed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d bodi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to rot in the trenches because of the machine gun fire that kept the soldiers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asy food source for rats and a place to breed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ring r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ing r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of all nations hunted the rats– sometimes rations were short and meat was added to their di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of all nations hunted the rats– sometimes rations were short and meat was added to their di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ristmas tru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ristmas tr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son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weapon, hard to combat.  Different gas mask styles were created by different countries. None were 100% effe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son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weapon, hard to combat.  Different gas mask styles were created by different countries. None were 100% effe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gian Uniforms and mas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stralian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gian Uniforms and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stralian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apanese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U. S.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panese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. S.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as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as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 and Literature of World War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 Credit is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 and Literature of World War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 Credit i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eeping w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build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eeping w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buil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lce Et Decorum 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t double, like old beggars under sack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ck-kneed, coughing like hags, we cursed through sludg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ll on the haunting flares we turned our bac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owards our distant rest began to trudg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marched asleep. Many had lost their b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limped on, blood-shod. All went lame; all blind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unk with fatigue; deaf even to the h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disappointed shells that dropped behin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! Gas! Quick, boys!-- An ecstasy of fumbl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ting the clumsy helmets just in time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someone still was yelling out and stumb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loundering like a man in fire or lime.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, through the misty panes and thick green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under a green sea, I saw him drowning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lce Et Decorum 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t double, like old beggars under sack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ck-kneed, coughing like hags, we cursed through sludg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ll on the haunting flares we turned our bac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owards our distant rest began to trudg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marched asleep. Many had lost their b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limped on, blood-shod. All went lame; all blind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unk with fatigue; deaf even to the h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disappointed shells that dropped behin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! Gas! Quick, boys!-- An ecstasy of fumbl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ting the clumsy helmets just in time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someone still was yelling out and stumb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loundering like a man in fire or lime.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, through the misty panes and thick green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under a green sea, I saw him drowning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It is sweet and proper to die for your countr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ilfred Owen, died 1918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ll my dreams, before my helpless sight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lunges at me, guttering, choking, drowning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in some smothering dreams you too could pa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ind the wagon that we flung him i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atch the white eyes writhing in his fac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hanging face, like a devil's sick of si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could hear, at every jolt, the bloo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 gargling from the froth-corrupted lung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cene as cancer, bitter as the cu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vile, incurable sores on innocent tongues,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friend, you would not tell with such high z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hildren ardent for some desperate glor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ld Lie: Dulce et decorum 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 patria mori. 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It is sweet and proper to die for your countr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ilfred Owen, died 1918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ll my dreams, before my helpless sight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lunges at me, guttering, choking, drowning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in some smothering dreams you too could pa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ind the wagon that we flung him i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atch the white eyes writhing in his fac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hanging face, like a devil's sick of si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could hear, at every jolt, the bloo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 gargling from the froth-corrupted lung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cene as cancer, bitter as the cu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vile, incurable sores on innocent tongues,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friend, you would not tell with such high z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hildren ardent for some desperate glor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ld Lie: Dulce et decorum 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 patria mori.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se Hun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des -- stark and glisten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lling in lurid glee. Grinning fa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aging lim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rl over the floor one fi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shirt verminously bus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n soldier tore from his throat, with oath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head might shrink at, but not the lic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soon the shirt was afl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the candle he'd lit while we l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all sprang up and strip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unt the verminous broo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 like a demons' pantom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was ragin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se H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des -- stark and glisten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lling in lurid glee. Grinning fa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aging lim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rl over the floor one fi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shirt verminously bus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n soldier tore from his throat, with oath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head might shrink at, but not the lic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soon the shirt was afl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the candle he'd lit while we l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all sprang up and strip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unt the verminous broo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 like a demons' pantom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was ragin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 louse looks like if it were large enough to s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 louse looks like if it were large enough to s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silhouettes agap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glibbering shad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with the battled arms on the w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gargantuan hooked fing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ck in supreme fles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mutch supreme littlenes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merry limbs in hot Highland f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some wizard verm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med from the quiet this rev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our ears were half lull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dark mus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n from Sleep's trump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Rosenber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silhouettes agap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glibbering shad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with the battled arms on the w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gargantuan hooked fing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ck in supreme fles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mutch supreme littlenes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merry limbs in hot Highland f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some wizard verm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med from the quiet this rev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our ears were half lull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dark mus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n from Sleep's trump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Rosenber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McCrae, died 19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 the poppies bl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crosses, row on 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mark our place; and in the sk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ks, still bravely singing, f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arce heard amid the guns below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the Dead. Short days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d, felt dawn, saw sunset glow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ved and were loved, and now we l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up our quarrel with the fo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you from failing hands we th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rch; be yours to hold it hig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e break faith with us who d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t sleep, though poppies g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McCrae, died 19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 the poppies bl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crosses, row on 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mark our place; and in the sk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ks, still bravely singing, f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arce heard amid the guns below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the Dead. Short days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d, felt dawn, saw sunset glow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ved and were loved, and now we l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up our quarrel with the fo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you from failing hands we th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rch; be yours to hold it hig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e break faith with us who d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t sleep, though poppies g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resources on page 986 of the text.  Possible extra credit test s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 poem as if you were a soldier or a medic during World War I, living and working in the trenches.  It must be at least 12 lines and actually be dec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resources on page 986 of the text.  Possible extra credit test s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 poem as if you were a soldier or a medic during World War I, living and working in the trenches.  It must be at least 12 lines and actually be dec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ways to build from a French hand bo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ways to build from a French hand 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fought from with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usually tight quar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fought from with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usually tight quar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es were used by both the Allies and the Central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erial photograph of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line of defe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es were used by both the Allies and the Central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erial photograph of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line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trenches were dee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nations fought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trenches were dee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nations fough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an easy tar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an easy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gers of Trench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ngers of Trench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f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having wet feet most of the time and nowhere to dry them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f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having wet feet most of the time and nowhere to dry them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C9B8-8057-4649-A945-CE5CE1D9D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5649-47DB-4C9E-AAAA-44018240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5563-C859-4504-BD81-F3D6E8020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30A3-F8C5-4497-AAAB-E4267DDFB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086F-3972-47D8-9E6D-0A98B8B2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2D64-0025-42D0-B340-ED292BF5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DB74-EB32-4CE2-A0F5-32908B4F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FF81-447B-4440-9EBE-8B2D1703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8F68-C490-400B-876C-707ED3B7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5805-A6B5-484D-90E4-A46C0BC8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D116-E3ED-4FD4-90C1-D4EDF81E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47AE-7548-4CDD-8CE0-55AA6058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A277-21D5-4DE8-A2D1-F46722CA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1834-6557-4A4B-AE0A-6D010E3B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4B2F-E315-4E80-9434-9AB68CAC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F8BE-0142-41E7-AE0C-5179A4BF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5283-025A-4F37-A53E-0C5449F45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7F683-852C-42B2-8650-F9E42CA29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208AE-0555-48A0-8C40-E739CD2D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47D46-83DD-4B7B-BFEF-F4A59935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E2A71-3F12-4B24-B49F-694C0A78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85F73-AE9E-41F1-B9AB-663732C3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0630-4680-4AE3-97A2-3FCBEE19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644C5-C54A-4464-AB74-5F955894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6629D-1784-4800-8517-7488DC1A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E5876-63D6-4D09-9AB9-EAE399FA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6F2B8-30F1-4B57-BF7D-B71B4D39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EB244-01AD-47E6-8572-7523205B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CEABD-0B30-4A30-AF53-4FFF1677F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2CEE3-E47C-45EE-986A-68A054159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A4480-ED1E-4669-9993-4BF551640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19CD6-0B3B-416A-AB89-41827E6A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7F60E-9493-44BF-BDD6-12773FA1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FF3F-3608-41BC-AEBB-8D7EEED2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40BA3-0D50-4C1D-AE72-47C9ACB9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7A9FB-F3A1-425C-BC38-237E9B81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140BB-03DA-46E9-8CBC-1FE2D9DE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BF249-EFEF-4167-9676-3BCF3D84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C759F-03FC-4579-AC95-D389221F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FA161-6AD0-4E2F-97EE-832B1102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76636-145E-4FEA-A58C-2DB35216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8911A-9A18-49B5-8631-1A7DE5C7D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5C0AE-A9C0-4FA4-A03D-5D2CC2960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CC0AF-077E-4C6A-97C7-C4587B419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A163-B90C-4176-87B8-637D9B18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D019E-7F0E-400B-9C3C-BDF7BA24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46BB1-7DC0-4480-A6B9-79F23CC9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E2F4F-1DA8-4FC2-901B-93406A47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18628-196E-4A3A-8B6A-36911A87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B0A88-6102-4B2C-83F0-4FDD18C5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90DA6-B45D-47B9-A045-C5F98012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5207F-E247-4E8C-8579-3F650B59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7DEB9-1758-4B3B-BE2F-13327CFE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8EA42-D220-4B84-8CBF-A932C63E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B0D86-42F7-4241-986D-74312C7B2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BA88-475A-44C8-A667-A98C6606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81099-33BF-4908-A2BC-D026E028D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8DBD-0622-4143-9B9C-E1040E87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CB4C-163E-4CE7-8BB8-BE22B06D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3830-8376-48AB-8D51-71206032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130C-74E2-422C-BEEF-AA5768493A51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ounded Rectangle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5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2E60-8C29-49F2-9DB9-0C0D459036B1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6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Rounded Rectangle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0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FB41-ED7E-48EA-A224-DC4EC81A6F41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4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0A4A-AF16-40AA-A406-EC1052284D9A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91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D041-C24A-491D-A3CA-268D54B2DB8D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Trench Warfare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Disasters and Dise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685800" y="5562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firstworldwar.com/features/trenchlif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ead bodies…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160" y="5028840"/>
            <a:ext cx="3932280" cy="152388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eft to rot in the trenches because of the machine gun fire that kept the soldiers in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7840" y="4998960"/>
            <a:ext cx="3932280" cy="132552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 easy food source for rats and a place to breed dise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Content Placeholder 6" descr="untitleddead.bmp"/>
          <p:cNvPicPr/>
          <p:nvPr/>
        </p:nvPicPr>
        <p:blipFill>
          <a:blip r:embed="rId1"/>
          <a:stretch/>
        </p:blipFill>
        <p:spPr>
          <a:xfrm>
            <a:off x="1100160" y="1447920"/>
            <a:ext cx="2946240" cy="3489120"/>
          </a:xfrm>
          <a:prstGeom prst="rect">
            <a:avLst/>
          </a:prstGeom>
          <a:ln w="0">
            <a:noFill/>
          </a:ln>
        </p:spPr>
      </p:pic>
      <p:pic>
        <p:nvPicPr>
          <p:cNvPr id="282" name="Content Placeholder 7" descr="15618_f260.jpg"/>
          <p:cNvPicPr/>
          <p:nvPr/>
        </p:nvPicPr>
        <p:blipFill>
          <a:blip r:embed="rId2"/>
          <a:stretch/>
        </p:blipFill>
        <p:spPr>
          <a:xfrm>
            <a:off x="4334040" y="1752480"/>
            <a:ext cx="4330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Bring ra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Content Placeholder 6" descr="10-german-slodiers-after-rat-hunting-gw000.jpg"/>
          <p:cNvPicPr/>
          <p:nvPr/>
        </p:nvPicPr>
        <p:blipFill>
          <a:blip r:embed="rId1"/>
          <a:stretch/>
        </p:blipFill>
        <p:spPr>
          <a:xfrm>
            <a:off x="1523880" y="685800"/>
            <a:ext cx="70837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038120" y="4647960"/>
            <a:ext cx="3932280" cy="190476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ldiers of all nations hunted the rats– sometimes rations were short and meat was added to their di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Content Placeholder 6" descr="0906rats.jpg"/>
          <p:cNvPicPr/>
          <p:nvPr/>
        </p:nvPicPr>
        <p:blipFill>
          <a:blip r:embed="rId1"/>
          <a:stretch/>
        </p:blipFill>
        <p:spPr>
          <a:xfrm>
            <a:off x="304920" y="380880"/>
            <a:ext cx="2776320" cy="3729240"/>
          </a:xfrm>
          <a:prstGeom prst="rect">
            <a:avLst/>
          </a:prstGeom>
          <a:ln w="0">
            <a:noFill/>
          </a:ln>
        </p:spPr>
      </p:pic>
      <p:pic>
        <p:nvPicPr>
          <p:cNvPr id="290" name="Content Placeholder 7" descr="Images%20-%20Rats%20001.jpg"/>
          <p:cNvPicPr/>
          <p:nvPr/>
        </p:nvPicPr>
        <p:blipFill>
          <a:blip r:embed="rId2"/>
          <a:stretch/>
        </p:blipFill>
        <p:spPr>
          <a:xfrm>
            <a:off x="3124080" y="304920"/>
            <a:ext cx="5843880" cy="44193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Je%20Sais%20Tout%20-%20Rats%20005.jpg"/>
          <p:cNvPicPr/>
          <p:nvPr/>
        </p:nvPicPr>
        <p:blipFill>
          <a:blip r:embed="rId3"/>
          <a:stretch/>
        </p:blipFill>
        <p:spPr>
          <a:xfrm>
            <a:off x="1219320" y="3398760"/>
            <a:ext cx="259056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hristmas truc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3" name="Content Placeholder 3" descr="christmas-truce-1.jpg"/>
          <p:cNvPicPr/>
          <p:nvPr/>
        </p:nvPicPr>
        <p:blipFill>
          <a:blip r:embed="rId1"/>
          <a:stretch/>
        </p:blipFill>
        <p:spPr>
          <a:xfrm>
            <a:off x="738360" y="272880"/>
            <a:ext cx="711036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Content Placeholder 3" descr="trench3.jpg"/>
          <p:cNvPicPr/>
          <p:nvPr/>
        </p:nvPicPr>
        <p:blipFill>
          <a:blip r:embed="rId1"/>
          <a:stretch/>
        </p:blipFill>
        <p:spPr>
          <a:xfrm>
            <a:off x="2362320" y="304920"/>
            <a:ext cx="6541920" cy="43336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Poison Ga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Text Placeholder 2"/>
          <p:cNvSpPr/>
          <p:nvPr/>
        </p:nvSpPr>
        <p:spPr>
          <a:xfrm>
            <a:off x="457200" y="4648320"/>
            <a:ext cx="81532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new weapon, hard to combat.  Different gas mask styles were created by different countries. None were 100% eff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Belgian Uniforms and mas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stralian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0" name="Content Placeholder 6" descr="belgian-gas-masks-WWI.jpg"/>
          <p:cNvPicPr/>
          <p:nvPr/>
        </p:nvPicPr>
        <p:blipFill>
          <a:blip r:embed="rId1"/>
          <a:stretch/>
        </p:blipFill>
        <p:spPr>
          <a:xfrm>
            <a:off x="608040" y="1717560"/>
            <a:ext cx="3930480" cy="2949840"/>
          </a:xfrm>
          <a:prstGeom prst="rect">
            <a:avLst/>
          </a:prstGeom>
          <a:ln w="0">
            <a:noFill/>
          </a:ln>
        </p:spPr>
      </p:pic>
      <p:pic>
        <p:nvPicPr>
          <p:cNvPr id="301" name="Content Placeholder 7" descr="Aussie.jpg"/>
          <p:cNvPicPr/>
          <p:nvPr/>
        </p:nvPicPr>
        <p:blipFill>
          <a:blip r:embed="rId2"/>
          <a:stretch/>
        </p:blipFill>
        <p:spPr>
          <a:xfrm>
            <a:off x="5457960" y="1447920"/>
            <a:ext cx="232092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apanese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. S.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Content Placeholder 6" descr="gas_maskjapanese.jpg"/>
          <p:cNvPicPr/>
          <p:nvPr/>
        </p:nvPicPr>
        <p:blipFill>
          <a:blip r:embed="rId1"/>
          <a:stretch/>
        </p:blipFill>
        <p:spPr>
          <a:xfrm>
            <a:off x="890640" y="1447920"/>
            <a:ext cx="3365280" cy="3489120"/>
          </a:xfrm>
          <a:prstGeom prst="rect">
            <a:avLst/>
          </a:prstGeom>
          <a:ln w="0">
            <a:noFill/>
          </a:ln>
        </p:spPr>
      </p:pic>
      <p:pic>
        <p:nvPicPr>
          <p:cNvPr id="306" name="Content Placeholder 7" descr="US_WWI_Gas_mask_with_bag.jpg"/>
          <p:cNvPicPr/>
          <p:nvPr/>
        </p:nvPicPr>
        <p:blipFill>
          <a:blip r:embed="rId2"/>
          <a:stretch/>
        </p:blipFill>
        <p:spPr>
          <a:xfrm>
            <a:off x="4794120" y="1447920"/>
            <a:ext cx="364824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Content Placeholder 4" descr="WWI-Gas-training.jpg"/>
          <p:cNvPicPr/>
          <p:nvPr/>
        </p:nvPicPr>
        <p:blipFill>
          <a:blip r:embed="rId1"/>
          <a:stretch/>
        </p:blipFill>
        <p:spPr>
          <a:xfrm>
            <a:off x="663480" y="712800"/>
            <a:ext cx="7718400" cy="4925880"/>
          </a:xfrm>
          <a:prstGeom prst="rect">
            <a:avLst/>
          </a:prstGeom>
          <a:ln w="0">
            <a:noFill/>
          </a:ln>
        </p:spPr>
      </p:pic>
      <p:sp>
        <p:nvSpPr>
          <p:cNvPr id="308" name="Title 1"/>
          <p:cNvSpPr/>
          <p:nvPr/>
        </p:nvSpPr>
        <p:spPr>
          <a:xfrm>
            <a:off x="762120" y="5410080"/>
            <a:ext cx="77724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Gas Tr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wwi_sergeant_and_his_dog_wearing_gas_masks_1915_poster-p228219550221623327tdar_210.jpg"/>
          <p:cNvPicPr/>
          <p:nvPr/>
        </p:nvPicPr>
        <p:blipFill>
          <a:blip r:embed="rId1"/>
          <a:stretch/>
        </p:blipFill>
        <p:spPr>
          <a:xfrm>
            <a:off x="228600" y="228600"/>
            <a:ext cx="3895560" cy="38955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" descr="WWI-Horses-Gasmasks.jpg"/>
          <p:cNvPicPr/>
          <p:nvPr/>
        </p:nvPicPr>
        <p:blipFill>
          <a:blip r:embed="rId2"/>
          <a:stretch/>
        </p:blipFill>
        <p:spPr>
          <a:xfrm>
            <a:off x="6324480" y="609480"/>
            <a:ext cx="2381400" cy="34671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german-messenger-dog-with-gas-protection-mask-wwi-500x367.jpg"/>
          <p:cNvPicPr/>
          <p:nvPr/>
        </p:nvPicPr>
        <p:blipFill>
          <a:blip r:embed="rId3"/>
          <a:stretch/>
        </p:blipFill>
        <p:spPr>
          <a:xfrm>
            <a:off x="2895480" y="3195720"/>
            <a:ext cx="445788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Poetry and Literature of World War I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Extra Credit is avail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leeping where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w to build th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Content Placeholder 6" descr="diagram.jpg"/>
          <p:cNvPicPr/>
          <p:nvPr/>
        </p:nvPicPr>
        <p:blipFill>
          <a:blip r:embed="rId1"/>
          <a:stretch/>
        </p:blipFill>
        <p:spPr>
          <a:xfrm>
            <a:off x="533520" y="1295280"/>
            <a:ext cx="801828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ulce Et Decorum Es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Text Placeholder 2"/>
          <p:cNvSpPr/>
          <p:nvPr/>
        </p:nvSpPr>
        <p:spPr>
          <a:xfrm>
            <a:off x="457200" y="685800"/>
            <a:ext cx="8153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br>
              <a:rPr sz="7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nt double, like old beggars under sack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ck-kneed, coughing like hags, we cursed through sludg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ll on the haunting flares we turned our back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towards our distant rest began to trudg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 marched asleep. Many had lost their boo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limped on, blood-shod. All went lame; all blind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unk with fatigue; deaf even to the hoo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disappointed shells that dropped behind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S! Gas! Quick, boys!-- An ecstasy of fumbli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tting the clumsy helmets just in tim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someone still was yelling out and stumb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floundering like a man in fire or lime.-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m, through the misty panes and thick green ligh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under a green sea, I saw him drowning.</a:t>
            </a:r>
            <a:br>
              <a:rPr sz="2000"/>
            </a:br>
            <a:br>
              <a:rPr sz="2000"/>
            </a:br>
            <a:br>
              <a:rPr sz="7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* It is sweet and proper to die for your country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br>
              <a:rPr sz="1600"/>
            </a:b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 Wilfred Owen, died 1918 </a:t>
            </a:r>
            <a:br>
              <a:rPr sz="3200"/>
            </a:br>
            <a:endParaRPr b="1" lang="en-US" sz="1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990720" y="990720"/>
            <a:ext cx="6400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all my dreams, before my helpless sigh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 plunges at me, guttering, choking, drowning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in some smothering dreams you too could pa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hind the wagon that we flung him in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watch the white eyes writhing in his fac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s hanging face, like a devil's sick of sin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ou could hear, at every jolt, the bloo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e gargling from the froth-corrupted lung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bscene as cancer, bitter as the cu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 vile, incurable sores on innocent tongues,-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y friend, you would not tell with such high z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children ardent for some desperate glory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old Lie: Dulce et decorum 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patria mori.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itle 1"/>
          <p:cNvSpPr/>
          <p:nvPr/>
        </p:nvSpPr>
        <p:spPr>
          <a:xfrm>
            <a:off x="228600" y="53352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Louse H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Placeholder 2"/>
          <p:cNvSpPr/>
          <p:nvPr/>
        </p:nvSpPr>
        <p:spPr>
          <a:xfrm>
            <a:off x="1447920" y="1295280"/>
            <a:ext cx="64767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des -- stark and glisteni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elling in lurid glee. Grinning fac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raging limb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rl over the floor one fi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a shirt verminously bus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n soldier tore from his throat, with oath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dhead might shrink at, but not the lic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soon the shirt was afla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 the candle he'd lit while we 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n we all sprang up and strip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hunt the verminous broo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on like a demons' pantomi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lace was raging.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7f09"/>
                </a:solidFill>
                <a:latin typeface="Verdana"/>
              </a:rPr>
              <a:t>What a louse looks like if it were large enough to see.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1" name="Content Placeholder 4" descr="lice.jpg"/>
          <p:cNvPicPr/>
          <p:nvPr/>
        </p:nvPicPr>
        <p:blipFill>
          <a:blip r:embed="rId1"/>
          <a:stretch/>
        </p:blipFill>
        <p:spPr>
          <a:xfrm>
            <a:off x="762120" y="1773360"/>
            <a:ext cx="4626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"/>
          <p:cNvSpPr/>
          <p:nvPr/>
        </p:nvSpPr>
        <p:spPr>
          <a:xfrm>
            <a:off x="2057400" y="45720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silhouettes agap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glibbering shadow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xed with the battled arms on the wal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gargantuan hooked fing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uck in supreme fles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mutch supreme littlenes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merry limbs in hot Highland f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cause some wizard verm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rmed from the quiet this rev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our ears were half lull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the dark musi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own from Sleep's trump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itle 1"/>
          <p:cNvSpPr/>
          <p:nvPr/>
        </p:nvSpPr>
        <p:spPr>
          <a:xfrm>
            <a:off x="533520" y="533412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ff8d3e"/>
                </a:solidFill>
                <a:latin typeface="Verdana"/>
              </a:rPr>
              <a:t>Isaac Rosenber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183520" cy="6760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766f"/>
                </a:solidFill>
                <a:latin typeface="Verdana"/>
              </a:rPr>
              <a:t>In Flanders Field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5c00"/>
                </a:solidFill>
                <a:latin typeface="Verdana"/>
              </a:rPr>
              <a:t>John McCrae, died 191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Box 3"/>
          <p:cNvSpPr/>
          <p:nvPr/>
        </p:nvSpPr>
        <p:spPr>
          <a:xfrm>
            <a:off x="1232640" y="1143000"/>
            <a:ext cx="4568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 the poppies b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ween the crosses, row on 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at mark our place; and in the sk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larks, still bravely singing, f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arce heard amid the guns below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are the Dead. Short days ag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lived, felt dawn, saw sunset glow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ved and were loved, and now we l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ke up our quarrel with the fo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you from failing hands we th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torch; be yours to hold it high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e break faith with us who d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shall not sleep, though poppies g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Placeholder 4" descr="thepoem_clip_image002.jpg"/>
          <p:cNvPicPr/>
          <p:nvPr/>
        </p:nvPicPr>
        <p:blipFill>
          <a:blip r:embed="rId1"/>
          <a:stretch/>
        </p:blipFill>
        <p:spPr>
          <a:xfrm>
            <a:off x="420840" y="433440"/>
            <a:ext cx="5924520" cy="43466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dsc00783.jpg"/>
          <p:cNvPicPr/>
          <p:nvPr/>
        </p:nvPicPr>
        <p:blipFill>
          <a:blip r:embed="rId2"/>
          <a:stretch/>
        </p:blipFill>
        <p:spPr>
          <a:xfrm>
            <a:off x="6019920" y="2133720"/>
            <a:ext cx="2800080" cy="37335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p161082-Bruges-Flanders_Fields.jpg"/>
          <p:cNvPicPr/>
          <p:nvPr/>
        </p:nvPicPr>
        <p:blipFill>
          <a:blip r:embed="rId3"/>
          <a:stretch/>
        </p:blipFill>
        <p:spPr>
          <a:xfrm>
            <a:off x="380880" y="350532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ounded Rectangle 4"/>
          <p:cNvSpPr/>
          <p:nvPr/>
        </p:nvSpPr>
        <p:spPr>
          <a:xfrm>
            <a:off x="304920" y="380880"/>
            <a:ext cx="8534160" cy="6096240"/>
          </a:xfrm>
          <a:prstGeom prst="roundRect">
            <a:avLst>
              <a:gd name="adj" fmla="val 16667"/>
            </a:avLst>
          </a:prstGeom>
          <a:solidFill>
            <a:srgbClr val="0d0d0d"/>
          </a:solidFill>
          <a:ln w="424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229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66f"/>
                </a:solidFill>
                <a:latin typeface="Verdana"/>
              </a:rPr>
              <a:t>More resources on page 986 of the text.  Possible extra credit test scor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90360" y="533160"/>
            <a:ext cx="7559640" cy="42116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rite a poem as if you were a soldier or a medic during World War I, living and working in the trenches.  It must be at least 12 lines and actually be decent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538600" y="533160"/>
            <a:ext cx="2971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07f09"/>
                </a:solidFill>
                <a:latin typeface="Verdana"/>
              </a:rPr>
              <a:t>More ways to build from a French hand book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0" name="Content Placeholder 4" descr="tren001.jpg"/>
          <p:cNvPicPr/>
          <p:nvPr/>
        </p:nvPicPr>
        <p:blipFill>
          <a:blip r:embed="rId1"/>
          <a:stretch/>
        </p:blipFill>
        <p:spPr>
          <a:xfrm>
            <a:off x="960480" y="380880"/>
            <a:ext cx="422892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ldiers fought from within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t was usually tight quart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Content Placeholder 6" descr="default.jpg"/>
          <p:cNvPicPr/>
          <p:nvPr/>
        </p:nvPicPr>
        <p:blipFill>
          <a:blip r:embed="rId1"/>
          <a:stretch/>
        </p:blipFill>
        <p:spPr>
          <a:xfrm>
            <a:off x="608040" y="2009880"/>
            <a:ext cx="3930480" cy="2365200"/>
          </a:xfrm>
          <a:prstGeom prst="rect">
            <a:avLst/>
          </a:prstGeom>
          <a:ln w="0">
            <a:noFill/>
          </a:ln>
        </p:spPr>
      </p:pic>
      <p:pic>
        <p:nvPicPr>
          <p:cNvPr id="255" name="Content Placeholder 7" descr="3.jpg"/>
          <p:cNvPicPr/>
          <p:nvPr/>
        </p:nvPicPr>
        <p:blipFill>
          <a:blip r:embed="rId2"/>
          <a:stretch/>
        </p:blipFill>
        <p:spPr>
          <a:xfrm>
            <a:off x="4653000" y="1774800"/>
            <a:ext cx="39304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Trenches were used by both the Allies and the Central Power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n aerial photograph of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rst line of defen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Content Placeholder 6" descr="tren008.jpg"/>
          <p:cNvPicPr/>
          <p:nvPr/>
        </p:nvPicPr>
        <p:blipFill>
          <a:blip r:embed="rId1"/>
          <a:stretch/>
        </p:blipFill>
        <p:spPr>
          <a:xfrm>
            <a:off x="685800" y="1447920"/>
            <a:ext cx="3794040" cy="3946320"/>
          </a:xfrm>
          <a:prstGeom prst="rect">
            <a:avLst/>
          </a:prstGeom>
          <a:ln w="0">
            <a:noFill/>
          </a:ln>
        </p:spPr>
      </p:pic>
      <p:pic>
        <p:nvPicPr>
          <p:cNvPr id="260" name="Content Placeholder 7" descr="image.jpg"/>
          <p:cNvPicPr/>
          <p:nvPr/>
        </p:nvPicPr>
        <p:blipFill>
          <a:blip r:embed="rId2"/>
          <a:stretch/>
        </p:blipFill>
        <p:spPr>
          <a:xfrm>
            <a:off x="4653000" y="1592280"/>
            <a:ext cx="3930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In the trench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ot all trenches were dee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any nations fought togeth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Content Placeholder 9" descr="Trench_warfare.jpg"/>
          <p:cNvPicPr/>
          <p:nvPr/>
        </p:nvPicPr>
        <p:blipFill>
          <a:blip r:embed="rId1"/>
          <a:stretch/>
        </p:blipFill>
        <p:spPr>
          <a:xfrm>
            <a:off x="4843440" y="1447920"/>
            <a:ext cx="3170160" cy="3962160"/>
          </a:xfrm>
          <a:prstGeom prst="rect">
            <a:avLst/>
          </a:prstGeom>
          <a:ln w="0">
            <a:noFill/>
          </a:ln>
        </p:spPr>
      </p:pic>
      <p:pic>
        <p:nvPicPr>
          <p:cNvPr id="265" name="Content Placeholder 8" descr="trenches.jpg"/>
          <p:cNvPicPr/>
          <p:nvPr/>
        </p:nvPicPr>
        <p:blipFill>
          <a:blip r:embed="rId2"/>
          <a:stretch/>
        </p:blipFill>
        <p:spPr>
          <a:xfrm>
            <a:off x="457200" y="1828800"/>
            <a:ext cx="430056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ight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metimes an easy targ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Content Placeholder 6" descr="untitled.bmp"/>
          <p:cNvPicPr/>
          <p:nvPr/>
        </p:nvPicPr>
        <p:blipFill>
          <a:blip r:embed="rId1"/>
          <a:stretch/>
        </p:blipFill>
        <p:spPr>
          <a:xfrm>
            <a:off x="898560" y="1447920"/>
            <a:ext cx="3349440" cy="3489120"/>
          </a:xfrm>
          <a:prstGeom prst="rect">
            <a:avLst/>
          </a:prstGeom>
          <a:ln w="0">
            <a:noFill/>
          </a:ln>
        </p:spPr>
      </p:pic>
      <p:pic>
        <p:nvPicPr>
          <p:cNvPr id="270" name="Content Placeholder 7" descr="trenchPA_468x607.jpg"/>
          <p:cNvPicPr/>
          <p:nvPr/>
        </p:nvPicPr>
        <p:blipFill>
          <a:blip r:embed="rId2"/>
          <a:stretch/>
        </p:blipFill>
        <p:spPr>
          <a:xfrm>
            <a:off x="5273640" y="1447920"/>
            <a:ext cx="268920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angers of Trench lif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2" name="Content Placeholder 3" descr="duncan15.gif"/>
          <p:cNvPicPr/>
          <p:nvPr/>
        </p:nvPicPr>
        <p:blipFill>
          <a:blip r:embed="rId1"/>
          <a:stretch/>
        </p:blipFill>
        <p:spPr>
          <a:xfrm>
            <a:off x="728640" y="1305000"/>
            <a:ext cx="727236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Trenchfoo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163008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om having wet feet most of the time and nowhere to dry them 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Content Placeholder 6" descr="waterfilledtrench.jpg"/>
          <p:cNvPicPr/>
          <p:nvPr/>
        </p:nvPicPr>
        <p:blipFill>
          <a:blip r:embed="rId1"/>
          <a:stretch/>
        </p:blipFill>
        <p:spPr>
          <a:xfrm>
            <a:off x="896760" y="593640"/>
            <a:ext cx="3353040" cy="5197680"/>
          </a:xfrm>
          <a:prstGeom prst="rect">
            <a:avLst/>
          </a:prstGeom>
          <a:ln w="0">
            <a:noFill/>
          </a:ln>
        </p:spPr>
      </p:pic>
      <p:pic>
        <p:nvPicPr>
          <p:cNvPr id="277" name="Content Placeholder 7" descr="foot.jpg"/>
          <p:cNvPicPr/>
          <p:nvPr/>
        </p:nvPicPr>
        <p:blipFill>
          <a:blip r:embed="rId2"/>
          <a:stretch/>
        </p:blipFill>
        <p:spPr>
          <a:xfrm>
            <a:off x="5486400" y="2438280"/>
            <a:ext cx="231300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7:38Z</dcterms:created>
  <dc:creator>SBHC</dc:creator>
  <dc:description/>
  <dc:language>en-US</dc:language>
  <cp:lastModifiedBy>LEGION</cp:lastModifiedBy>
  <dcterms:modified xsi:type="dcterms:W3CDTF">2017-07-03T09:58:31Z</dcterms:modified>
  <cp:revision>21</cp:revision>
  <dc:subject/>
  <dc:title>Slide 1</dc:title>
</cp:coreProperties>
</file>