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7EF7-5CAE-4F4A-A8F1-383C4984CA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133-2F8F-45E3-9F4C-94D904B3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080-B08C-4672-A132-35F53C74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01E-63A2-4CED-9964-43F80DBD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970-EA07-4677-9317-D8962C27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C4EE-B7F3-477E-90E4-033C9198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7004-BD65-46E2-8572-21930302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32CB-A412-49BB-B7E3-34BBEC4C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0565-D1D6-48D5-84D1-8A403D8D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F3AA-98E1-4E25-B117-D030316C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D942-19EC-4449-A3A2-FD379AB2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7A9F-A2E5-4293-8285-1BF84B59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3E2-5F21-448B-8DFD-0ED499EF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D3D2-31FE-4DA3-AE0D-F927C1BB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EEE0-ABB8-480B-83F9-41A09E11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0656-103D-4E0A-B33C-75342010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2C5A-FD06-45C0-BC00-99B72B40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8691-910C-486A-B370-208752DE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ED5BF-0CFB-4281-B215-BBF29C50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1214E-3800-49CC-A6DD-941B3727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23996-74DC-4B8D-8F01-498169DC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2FBB-CD69-47FF-B982-28A04CDC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CFDE-7869-46B3-8164-2F51178F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B38-0026-431F-B45B-F6888EBE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99EB-C10B-4D6D-A446-A2821F89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1D448-8D39-4A08-BEB9-46963582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28FE4-2651-4673-8965-A4995838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4845D-0D14-4545-A8FF-E392D277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1FC5-10E4-4A8B-B58F-6C82B6E6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AEEC3-BC98-4953-99C0-593251AB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B15FA-13EA-4E0C-8E16-7D929FA3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093C4-D7D3-481A-AE04-FE84DAC8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12624-F80D-499F-B953-EC9D1AD1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9BC06-C2D7-44B9-97A4-2404AC15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D9F-7A94-407B-9AB3-DA6C02FB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E6309-3059-4FF9-AF22-91D87746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98568-D8C8-40BB-914C-75E3D141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7689B-F193-46FE-BA78-E02E2F22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FDCA9-8E33-4885-9C82-A827E824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7A91-5DA9-45FB-B59A-3AAE05CA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C931C-B2A8-427A-816B-9AAA2AA3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B2FB0-8F51-4518-B1F3-D9C404F4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64E57-41B6-42A7-9D22-32CFDC50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B1643-9CA7-4911-A12A-EB160A18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6B2D4-10ED-4536-B5A8-916CECD7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CC4-E6F8-49DE-9D05-DACB2A24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E6C16-C758-4E54-B58C-6617EF81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D4056-29A5-4382-9DFD-9A489F88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06A07-8424-45C4-8A34-4149E009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45F25-04E3-40ED-A9C3-38A402B1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7F436-AD20-41C4-8F6E-A96AB0F4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8FF37-0672-4FD6-B0AA-19AA85CD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DE92C-6648-4655-90FB-4398AB35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184DB-AFC6-4600-BB84-0954C1D7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67458-51DB-4566-87EC-AF036E71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3A7FC-0D63-458F-B47B-BCF54E19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E6B-E81E-4BAF-91A9-E83B8E54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EE89F-3269-42B5-AE88-17999CA8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B02-B081-4B32-BB80-4C55045D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DCF-08F9-4479-AC62-A21510D2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924-65BD-4973-939A-EEF9A9ED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1ECF-6DE3-40C0-A9A4-6127CA790BA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5571-69E5-4DB3-BBAB-DF97CF6D101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4AA1-0EC6-4EFB-8DEC-2D128D7F0F6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D520-1E77-47AF-8262-D97ADD1668E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4138-0511-478A-B7C4-5CAAC76FFAA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58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firstworldwar.com/features/trenchlif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2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90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3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1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6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8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1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60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LEGION</cp:lastModifiedBy>
  <dcterms:modified xsi:type="dcterms:W3CDTF">2017-07-03T09:58:31Z</dcterms:modified>
  <cp:revision>21</cp:revision>
  <dc:subject/>
  <dc:title>Slide 1</dc:title>
</cp:coreProperties>
</file>