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0383-DC1C-43C7-A917-DC55108863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EC4-13E8-4EC5-A934-F3C11C61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E91-6506-43C0-82BF-C952D28E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CC8-8385-449E-B75B-DA72661D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CCA-4CA2-400B-A352-49E2E1F0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D6BD-ADB7-485C-9E72-7D2E0B9D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736F-FF6A-41CA-AB73-748D7F4E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B037-299F-4A3E-860C-A0A77B2B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A1FD-EC2C-4469-8835-3BEFB476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C565-26A7-455C-8267-5A2F7033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3A01-D9EE-4555-80C5-3CB75584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6EA0-5F79-46FF-B754-E303B44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A59-9EBD-4D37-88F8-3453498B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F595-35F5-4930-B79E-035911B6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FF05-18A9-4C67-A94F-99F736EA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8BA9-3C15-412E-A4F7-DEC2CE33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10F0-655C-4F54-A3E4-AB61F56B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8FA5-9B98-4BCC-BAA1-9EC7E033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B9F56-B494-4628-9C8B-B2813873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AD69-1579-41B0-96B1-8F4399F9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9BFE-3D97-4893-9771-2AFC1679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C019D-3327-471F-A038-AA90F8D4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722E-9FCA-4D51-B11C-479463CD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250-2687-4015-BD40-70F3D544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5BBE-2BA0-4AEA-917C-7A342EB8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2E32-1A68-4939-9952-2F24434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28798-681E-4DCF-8515-BF67BB1C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88D57-CA79-42B4-A278-E76088A9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A43C7-A11E-4207-8F1B-933BD49A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A148-F36D-49FD-9E2F-FF688C51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430EE-40EA-4C8C-B2E7-A29BB6B5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7753-7611-4312-A736-F6679FE7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0262-BCEA-48A3-B2E1-BFA1D98B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A5172-4A68-4413-8931-758DC983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F1C-461C-425B-8775-7C443FBA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7C20-7BB3-4415-B830-88EA7179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A65A9-63F3-480C-B06B-BB3BFA2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3CE6-8F90-45B6-9E47-B8F018A2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18AE-ABD6-46F5-ABCC-5514B20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6C955-9212-42CD-9B6A-E977F08D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6656E-157A-4B41-AB3D-D976E114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0AE16-7311-47FF-A7C3-42218E92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E1E3-57B6-4B70-A758-DEED5755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1F1B7-AE58-4C2D-9D37-4FD2066D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1A660-AA0E-4B85-897E-785BBAC8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310-BD86-4C0A-A903-9E56EC32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C6EA7-337C-4F46-8996-30883B72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0DC1-8301-423D-AD2E-FEB021C0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79D0E-4612-40B2-A8AC-6C72EFB7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2A253-FBE7-42F3-BB1C-AFAF7086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9B993-4346-416C-B8F7-E6F6824A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66E57-913B-4619-927A-6F00B386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D1B2B-C6E6-4FB6-8CF7-877E9899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C98F4-7637-4AB9-A18E-AD00F6B4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1E50B-90FF-4F25-BAA0-BB8B647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3EF55-AA8C-4EA8-9ED7-CF09E1F1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400-EADE-4E11-9FE5-5E13646E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B47F5-F512-4DF6-A911-7FA8E987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8CB-C79C-4901-9030-E58998AF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A6F-35E5-49A3-89FF-38C12A13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936-4E14-4E87-9ACE-D062477B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FFA1-6D9B-472F-B832-02C623088DB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06AA-AFA2-477B-B906-FF49F51A4B1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646A-68A1-497C-B8C2-8FE9249D5BA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759D-312F-4E68-B655-8BDD4F39935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3EEF-DE33-40E3-9D34-D9D5DB09420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2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1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LEGION</cp:lastModifiedBy>
  <dcterms:modified xsi:type="dcterms:W3CDTF">2017-07-03T09:58:31Z</dcterms:modified>
  <cp:revision>21</cp:revision>
  <dc:subject/>
  <dc:title>Slide 1</dc:title>
</cp:coreProperties>
</file>