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A334-68E3-4BC1-86AF-9E721484D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49E97-1DED-4D8D-8527-C0C7FD106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E7C3C-8B57-4642-B845-269D45775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BD02A-7F62-4658-9AA1-5C749AA6E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AFBC2-BE65-40A6-9A11-8360080CA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13A77-4608-4116-8813-D4972B6E2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EC91C-3656-46B1-9402-C7B058442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8DB45-D779-48C5-89F7-192F90E6E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D7E7D-A3BB-4C5B-863A-1387230DA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313D1-B2AC-4BA3-96F6-DCB18C2BB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A18AB-1EC6-4E0F-B717-195DA9AE4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69892-7F47-4DC7-8C7E-DA5910BAF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61289-0AA3-458A-AEEA-CF6C1C689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7150-2DD4-4770-B276-C1E1173791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LEGION</cp:lastModifiedBy>
  <dcterms:modified xsi:type="dcterms:W3CDTF">2017-07-03T09:59:15Z</dcterms:modified>
  <cp:revision>38</cp:revision>
  <dc:subject/>
  <dc:title>Slide 1</dc:title>
</cp:coreProperties>
</file>