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FCBE-1492-487C-B532-4355C4F088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0D9B9-D733-4D55-B474-60CD34D17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2B0EF-7DA6-4C57-BC91-6BF44CB8F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EFA87-C438-46D4-8859-C45D529CE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6DBE0-94D7-487E-8F8A-3F1B3AE88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6FE75-6B99-4366-80F8-C18FBA7BA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723BB-10BA-4E46-9E39-5C750DC2B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C06DF-7681-45C5-A6F8-4EE7BEAB3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8A10A-C405-44C2-A7B0-0327F1792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F91DD-DE6B-4505-8A4C-97A44ACD2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36499-BCE9-4C22-92E5-909FE6D42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91B6A-3076-46C7-A2D6-FCA33C0B8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EF402-C0BE-4F18-B358-775EB37C5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13966-611E-4E48-9790-5F0BE03B7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EF312-FAE3-4DB5-B31B-91BEC613C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5B638-26C2-4FF9-BE85-21D2D1074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92671-0283-4130-8A8F-0DA320425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0A84C-D349-4A22-8268-717CF9655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71A28-8240-439A-9177-5EC5E2A7C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49A1A-5DE0-4FD4-9E34-44B375996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9D568-FA23-44C2-A681-A4B8E645F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4EAED-2331-40BD-87AB-A154FFF50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E0DBD-8077-4F3F-A01D-B036EE04A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3D0DF-79ED-433F-BEDC-2A46317BD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EB116-A530-4A69-A0CC-EEBB44225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A0B8-CE24-4126-A21A-985B26C0AA0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BBEA-1FEF-4596-A7D9-81669DF2A65F}"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LEGION</cp:lastModifiedBy>
  <dcterms:modified xsi:type="dcterms:W3CDTF">2017-07-03T09:59:33Z</dcterms:modified>
  <cp:revision>8</cp:revision>
  <dc:subject/>
  <dc:title>What is civilization?</dc:title>
</cp:coreProperties>
</file>