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A031-C675-4605-9260-B05DD14FA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21F-CE6B-4CC5-A426-C7D5851C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6D3-9F79-490D-9819-5BD98974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24A-999B-4B16-91F9-2C2B7C1C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FF0-C069-41FB-80AC-1A7DCC5E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D1A8-EA37-4E14-843F-DE292D5D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A392-BE5C-4A56-85C9-C4E20922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30C6-665C-463B-86F7-797ED688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BA74-DBE5-4634-96CD-488A8A0D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358C-13D5-4F16-9566-21D013C7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92C9-92C2-4676-8E66-4494EF51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FF43-134A-43DD-BFDF-C77A2993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741-DE8C-4BD9-BC35-378FA347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B10F-0646-48E4-88B9-50271269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0366-DDEB-4EE5-8B3B-6F697F41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E6FE-09C3-4785-9203-5848F5A2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B974-6F3C-4D40-97A0-1B5B1A75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A69C-B898-421E-9C25-65A8EC51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E7B-C2D3-4DE1-AAB9-478DE056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3A9-E656-459C-A872-0C457216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06B-C770-42ED-95A8-6C39F5D3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BB0-B1EB-421F-9A1D-C8509851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507-AA81-4647-8AE4-BD2FA8A4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230-C871-4E16-929D-C9346829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F9A-EB92-4DFC-96B3-20BEF854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117C-49FB-47B8-91C3-F9C507B7FA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195A-FDB6-415A-B469-B4C37D7C40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LEGION</cp:lastModifiedBy>
  <dcterms:modified xsi:type="dcterms:W3CDTF">2017-07-03T09:58:50Z</dcterms:modified>
  <cp:revision>8</cp:revision>
  <dc:subject/>
  <dc:title>What is culture? Standard 10.1</dc:title>
</cp:coreProperties>
</file>