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2C5B-F22C-46DF-8947-BA5F8606A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E8E-46EF-455F-B6C8-D0A3F79C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E163-93F2-4A34-99F5-66517C6B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78EB-ADD1-44DB-8AE8-50C07610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D9A1-365A-41B9-B1A4-1144ABE78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1074-9499-4AB1-83E4-ECDA8A3A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7E79-9D6E-4056-B757-0B819253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2E82-6A2C-4022-8CEB-CA57FEC8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2EBF-6C52-42DA-9074-D78938D8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E14C-4256-477F-9EA2-25DAD210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6D7E-F7A4-42E2-958D-7F631BB9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200F-97B6-4118-A44D-B9116D34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5F21-730E-479F-82E8-E4F66812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3A0F-2804-46C6-BE70-AA9407F7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584D-A479-4AB6-84E3-1D838ADD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2598-4179-41C0-9AFC-5BA72EA0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047E-6D74-4ED4-B839-28F23FA7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D88D-E37F-428B-9D5D-6B472ADA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AD9-B9A6-40F6-8391-D401CC0A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E2E-37EC-49DF-8BD1-02E9514B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6AB8-97D2-409D-A5FA-B4C58167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E0C-D84F-4C66-8C7C-5B0DD8A1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807-B795-4D51-B866-0359349C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20F-88B7-4BF5-BE4E-CF99C735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A0FA-F602-4C17-A8D3-5E39AB92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C4A2-B47A-49BF-ADEE-88A6E6235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1962-C6FB-4D7F-AAE5-80BBFD5C95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ddess" TargetMode="External"/><Relationship Id="rId2" Type="http://schemas.openxmlformats.org/officeDocument/2006/relationships/hyperlink" Target="http://en.wikipedia.org/wiki/Mercantile" TargetMode="External"/><Relationship Id="rId3" Type="http://schemas.openxmlformats.org/officeDocument/2006/relationships/hyperlink" Target="http://en.wikipedia.org/wiki/Ti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sia Minor Standard 10.1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s is the area were most civilization began in prehistory and history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many water ways and food source the fertile crescent became the center of the universe to its peop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It is believed that this area was an abundant food source to the hunters and gather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farming a bi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population of people emerged out of the lan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he people of the Asia Minor Standard 10.1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esopotamia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gyp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Sumeri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Aramae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Phoenici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Lydia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ertile_crescent_350"/>
          <p:cNvPicPr/>
          <p:nvPr/>
        </p:nvPicPr>
        <p:blipFill>
          <a:blip r:embed="rId2"/>
          <a:stretch/>
        </p:blipFill>
        <p:spPr>
          <a:xfrm>
            <a:off x="1905120" y="35053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Greek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Greeks sprang out of three civilizations,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ino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ycenae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Doria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19360" y="837720"/>
            <a:ext cx="4724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oth civilizations are known as the Aegean civilization which lived around the Mediterranean sea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28600" y="5638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6" descr="asiaminormap"/>
          <p:cNvPicPr/>
          <p:nvPr/>
        </p:nvPicPr>
        <p:blipFill>
          <a:blip r:embed="rId1"/>
          <a:stretch/>
        </p:blipFill>
        <p:spPr>
          <a:xfrm>
            <a:off x="4495680" y="3124080"/>
            <a:ext cx="2800440" cy="26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Minoan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inoans lived on the islands off Greec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Minoans culture is often characterized as a society centered on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ddess</a:t>
            </a: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worship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inoans were primarily a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mercantil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eople engaged in overseas trade. Many historians and archaeologists believe that the Minoans were involved in the Bronze Age's important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ti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rade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Knossos_bull"/>
          <p:cNvPicPr/>
          <p:nvPr/>
        </p:nvPicPr>
        <p:blipFill>
          <a:blip r:embed="rId4"/>
          <a:stretch/>
        </p:blipFill>
        <p:spPr>
          <a:xfrm>
            <a:off x="1447920" y="1295280"/>
            <a:ext cx="5165640" cy="337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were the Mycenae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Mycenaens lived on the main la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Mycenaean civilization was dominated by a warrior aristocracy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Not only did the Mycenaeans defeat the Minoans, but according to legend, they defeated Troy, a powerful city-stat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The Mycenaean period flourished between 1600BC and the collapse of their Bronze-Age civilization around 1100BC.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a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9" name="Picture 5" descr="europa-popoli"/>
          <p:cNvPicPr/>
          <p:nvPr/>
        </p:nvPicPr>
        <p:blipFill>
          <a:blip r:embed="rId1"/>
          <a:stretch/>
        </p:blipFill>
        <p:spPr>
          <a:xfrm>
            <a:off x="4038480" y="762120"/>
            <a:ext cx="487044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edseamaplarge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52280" y="5410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How the Greeks became a civilization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overtook the Minoans and the two merg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became powerful, but civil war weakened its strong fortresses and when invaders came they were easily overtak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invaders were the Dorians who spoke the Greek languag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With the invaders the lost of many skills followed. Skills such as writing and boat making. This was know as the Dark Age for Greec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066680" y="5943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ime Li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inoans 2500 B.C. -1450 B.C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ycenaeans 2000 B.C.- 1150 B.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Dorians 1150B.C – 700B.C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(Dark Age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The Greeks (HELLENIC) emerged from the mix of these three civilizations to rule from 700B.C. to 336  B.C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hat we know as the Greeks were influenced more by the culture of these three civilization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23440" y="57913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1:38:55Z</dcterms:created>
  <dc:creator>Jason lundblad</dc:creator>
  <dc:description/>
  <cp:keywords/>
  <dc:language>en-US</dc:language>
  <cp:lastModifiedBy>LEGION</cp:lastModifiedBy>
  <dcterms:modified xsi:type="dcterms:W3CDTF">2017-07-03T10:00:00Z</dcterms:modified>
  <cp:revision>5</cp:revision>
  <dc:subject/>
  <dc:title>Who are the Greek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01033</vt:lpwstr>
  </property>
</Properties>
</file>