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9D18-D4EE-4DF2-9EF4-E14D0D1F9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C615-178E-4650-8DBC-8B26E44E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F7C1-F0BA-4ABD-9EAE-AAF17F57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F074-D7C4-4C5A-AE39-64CB8430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6B8-1BEB-48BF-A7AF-6EBEC0CC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0E0B-8229-4B89-A491-A1F64E94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111E-8416-4BA6-80FD-4BF8CB07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6EE3-A2A6-4D4B-A4D1-B1C5CE5C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856B-4CC3-4F9C-A881-89833542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4475-5241-47BE-BD3E-994E9558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895F-FEC5-46CF-A3D5-104E1E15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0D68-95DB-40A7-9C41-EF15326D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D99E-0AE7-4BFF-94F3-DC330591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91FD-2989-4103-B3C3-F27F3282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3499-2E33-4DB8-9CD5-3297753A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B941-BABE-4C87-B0E9-E4AC273A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65A4-9005-4FA0-82CB-15953E1B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179C-1ACC-4311-894B-2FC7A1FA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29D2-A7D9-4874-9B9D-7B195E61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FE78-A5FF-457A-B264-3B85DD8E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26A5-FFC9-4FA9-9345-48F86765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12A-19D8-4CB7-A88F-CB7F477F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081B-2FFE-4F6D-BEF7-0F6C2B4E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10C6-72CB-4EE9-8BD9-A968B9B5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A802-2A63-461E-B696-FF6C5CC1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74EA-07BC-4A2B-8034-B066C78C5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D5C7-1D5C-4AC2-967E-F65BBF138E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ddess" TargetMode="External"/><Relationship Id="rId2" Type="http://schemas.openxmlformats.org/officeDocument/2006/relationships/hyperlink" Target="http://en.wikipedia.org/wiki/Mercantile" TargetMode="External"/><Relationship Id="rId3" Type="http://schemas.openxmlformats.org/officeDocument/2006/relationships/hyperlink" Target="http://en.wikipedia.org/wiki/Ti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sia Minor Standard 10.1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s is the area were most civilization began in prehistory and history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many water ways and food source the fertile crescent became the center of the universe to its peopl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It is believed that this area was an abundant food source to the hunters and gather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farming a bi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population of people emerged out of the lan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The people of the Asia Minor Standard 10.1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esopotamia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gyp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Sumeri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Aramae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Phoenici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Lydia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ertile_crescent_350"/>
          <p:cNvPicPr/>
          <p:nvPr/>
        </p:nvPicPr>
        <p:blipFill>
          <a:blip r:embed="rId2"/>
          <a:stretch/>
        </p:blipFill>
        <p:spPr>
          <a:xfrm>
            <a:off x="1905120" y="350532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Greek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 Greeks sprang out of three civilizations,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ino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ycenae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Dorian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19360" y="837720"/>
            <a:ext cx="4724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Both civilizations are known as the Aegean civilization which lived around the Mediterranean sea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28600" y="56386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6" descr="asiaminormap"/>
          <p:cNvPicPr/>
          <p:nvPr/>
        </p:nvPicPr>
        <p:blipFill>
          <a:blip r:embed="rId1"/>
          <a:stretch/>
        </p:blipFill>
        <p:spPr>
          <a:xfrm>
            <a:off x="4495680" y="3124080"/>
            <a:ext cx="2800440" cy="261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Minoan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inoans lived on the islands off Greec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Minoans culture is often characterized as a society centered on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ddess</a:t>
            </a: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worship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Minoans were primarily a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mercantil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eople engaged in overseas trade. Many historians and archaeologists believe that the Minoans were involved in the Bronze Age's important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ti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rade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Knossos_bull"/>
          <p:cNvPicPr/>
          <p:nvPr/>
        </p:nvPicPr>
        <p:blipFill>
          <a:blip r:embed="rId4"/>
          <a:stretch/>
        </p:blipFill>
        <p:spPr>
          <a:xfrm>
            <a:off x="1447920" y="1295280"/>
            <a:ext cx="5165640" cy="337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were the Mycenaen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he Mycenaens lived on the main land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Mycenaean civilization was dominated by a warrior aristocracy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Not only did the Mycenaeans defeat the Minoans, but according to legend, they defeated Troy, a powerful city-stat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The Mycenaean period flourished between 1600BC and the collapse of their Bronze-Age civilization around 1100BC.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ap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09" name="Picture 5" descr="europa-popoli"/>
          <p:cNvPicPr/>
          <p:nvPr/>
        </p:nvPicPr>
        <p:blipFill>
          <a:blip r:embed="rId1"/>
          <a:stretch/>
        </p:blipFill>
        <p:spPr>
          <a:xfrm>
            <a:off x="4038480" y="762120"/>
            <a:ext cx="4870440" cy="58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edseamaplarge"/>
          <p:cNvPicPr/>
          <p:nvPr/>
        </p:nvPicPr>
        <p:blipFill>
          <a:blip r:embed="rId2"/>
          <a:stretch/>
        </p:blipFill>
        <p:spPr>
          <a:xfrm>
            <a:off x="0" y="76212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152280" y="5410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How the Greeks became a civilization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overtook the Minoans and the two merg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became powerful, but civil war weakened its strong fortresses and when invaders came they were easily overtak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invaders were the Dorians who spoke the Greek languag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With the invaders the lost of many skills followed. Skills such as writing and boat making. This was know as the Dark Age for Greec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066680" y="5943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ime Lin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inoans 2500 B.C. -1450 B.C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ycenaeans 2000 B.C.- 1150 B.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Dorians 1150B.C – 700B.C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(Dark Age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The Greeks (HELLENIC) emerged from the mix of these three civilizations to rule from 700B.C. to 336  B.C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hat we know as the Greeks were influenced more by the culture of these three civilization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23440" y="57913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01:38:55Z</dcterms:created>
  <dc:creator>Jason lundblad</dc:creator>
  <dc:description/>
  <cp:keywords/>
  <dc:language>en-US</dc:language>
  <cp:lastModifiedBy>LEGION</cp:lastModifiedBy>
  <dcterms:modified xsi:type="dcterms:W3CDTF">2017-07-03T10:00:00Z</dcterms:modified>
  <cp:revision>5</cp:revision>
  <dc:subject/>
  <dc:title>Who are the Greek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01033</vt:lpwstr>
  </property>
</Properties>
</file>