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F5D3-3734-4877-B34C-D8C955F32A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D66-437C-4A0F-94C1-93EEC414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F648-AD62-43AA-A547-E3E9B21E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22E-4A82-4076-8F3B-896D6C0C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DCC-7317-4122-AD6F-0F33088F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1FDA-96A3-42B7-A3C6-279604C5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C5E6-E7BF-4FF6-8951-A75E9BD5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94E-3F84-4ABD-9295-22B88C63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80B-98DA-4E04-A335-B807C073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BA4D-6C60-49A5-91C2-693555DC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10B7-2FAE-43CC-A748-23C08B85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C1D-B3E3-4C19-AA6C-45A76CCA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B53-342E-407E-9A44-0D71B3F3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CEC3-7B06-4F07-84DC-62CFF72F09E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Why did the Mormons Manage to survive Salt Lake C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The Geographical Position of Ut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9" descr="usa%20map%20copy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Brigham You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Brigham%2520Young"/>
          <p:cNvPicPr/>
          <p:nvPr/>
        </p:nvPicPr>
        <p:blipFill>
          <a:blip r:embed="rId1"/>
          <a:stretch/>
        </p:blipFill>
        <p:spPr>
          <a:xfrm>
            <a:off x="5867280" y="1628640"/>
            <a:ext cx="2881440" cy="446436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olygam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olygamy-thumb"/>
          <p:cNvPicPr/>
          <p:nvPr/>
        </p:nvPicPr>
        <p:blipFill>
          <a:blip r:embed="rId1"/>
          <a:stretch/>
        </p:blipFill>
        <p:spPr>
          <a:xfrm>
            <a:off x="611280" y="1557360"/>
            <a:ext cx="3529080" cy="3166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611280" y="494172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Self Sufficiency and the Railw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erpetual Emigrating F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MCj03841700000[1]"/>
          <p:cNvPicPr/>
          <p:nvPr/>
        </p:nvPicPr>
        <p:blipFill>
          <a:blip r:embed="rId1"/>
          <a:stretch/>
        </p:blipFill>
        <p:spPr>
          <a:xfrm>
            <a:off x="5292720" y="1700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4:08:17Z</dcterms:created>
  <dc:creator>Carol</dc:creator>
  <dc:description>Why did the Mormons Manage to survive Salt Lake City?</dc:description>
  <cp:keywords>Why did the Mormons Manage to survive Salt Lake City?</cp:keywords>
  <dc:language>en-US</dc:language>
  <cp:lastModifiedBy>LEGION</cp:lastModifiedBy>
  <dcterms:modified xsi:type="dcterms:W3CDTF">2017-07-03T11:27:00Z</dcterms:modified>
  <cp:revision>8</cp:revision>
  <dc:subject>Why did the Mormons Manage to survive Salt Lake City?</dc:subject>
  <dc:title>Why did the Mormons Manage to survive Salt Lake City?</dc:title>
</cp:coreProperties>
</file>