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.png" ContentType="image/png"/>
  <Override PartName="/ppt/media/image31.png" ContentType="image/png"/>
  <Override PartName="/ppt/media/image20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7865-1E76-4A6F-91EB-D83D588AD1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cientific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hat hypotheses do you have about what the garbologists would find in the typical American garbage and in Landfi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age Project developed several hypotheses and questions based on questionnaires and other general knowledg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ypothese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irst, what hypotheses do you have about what the garbologists would find in the typical American garbage and in Landfill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age Project developed several hypotheses and questions based on questionnaires and other general knowledge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es and Specific Questions the Garbology Project Gener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ills are filling up with fast food packaging and lots of plastic waste – as based on surveys of what many Americans think is in our was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 and food products biodegrade over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elationship between what people say they do and eat, and what is actually found in their garb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ypotheses and Specific Questions the Garbology Project Generated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Landfills are filling up with fast food packaging and lots of plastic waste – as based on surveys of what many Americans think is in our waste.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per and food products biodegrade over time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is the relationship between what people say they do and eat, and what is actually found in their garbage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 test the hypothes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atically excavate, or 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ndfill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media.stanford.ed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ow would you test the hypothesi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ystematically excavate, or dig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n landfill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amedia.stanford.edu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ly collect household garbag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ndomly collect household garbage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t contents layer by lay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bag by bag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tamedia.stanford.edu/projects/Garbology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…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ort contents layer by layer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bag by bag …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metamedia.stanford.edu/projects/GarbologyOnline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ecord observations about w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fin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je and Murph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001:7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…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record observations about what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You fin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thje and Murphy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(2001:73)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Plastic bottles, soda cans, and fast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kaging less than 1%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ems such as lettu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ld fruit lasted over 15 ye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Observ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Landfills contain almost 40% newspapers between 15 and 40 years old!!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2) Plastic bottles, soda cans, and fast fo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ckaging less than 1%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tems such as lettuce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old fruit lasted over 15 years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roject Observation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 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1) Landfills contain almost 40% newspapers between 15 and 40 years old!!!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rences - What do the observations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e observations support the hypotheses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!!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ills are not filling up with plastics, but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 and construction products.  Items that we would expect to decompose do not al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ing of paper products, in addition to plastic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not a major activity in modern society in comparison to the total amount of garbag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nferences - What do the observations mean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Do the observations support the hypotheses? 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NO!!! 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Landfills are not filling up with plastics, but with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per and construction products.  Items that we would expect to decompose do not always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ycling of paper products, in addition to plastics,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s not a major activity in modern society in comparison to the total amount of garbage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ing, especially of paper, needs to be a PRIORIT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need to find ways to compost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eople think is in their garbage is not necessarily what is really there!!! a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eople say they eat and do is not always necessarily the ca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Conclusio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ycling, especially of paper, needs to be a PRIORITY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eople need to find ways to compost!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people think is in their garbage is not necessarily what is really there!!! and……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people say they eat and do is not always necessarily the case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t 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 Rubbish: The Archaeology of Garbage, by William Rathje and Cullen Murphy. The University of Arizona Press, Tucson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tamedia.stanford.edu/ projects/GarbologyOnl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mportant reference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rom: Rubbish: The Archaeology of Garbage, by William Rathje and Cullen Murphy. The University of Arizona Press, Tucson, 2001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metamedia.stanford.edu/ projects/GarbologyOnline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cientists know what the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ow do scientists know what they know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swer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METHO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ep-by-ste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scientists use to answer questions and solve probl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eps of the Scientific Metho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CIENTIFIC METHO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 step-by-step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rocess scientists use to answer questions and solve problems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teps of the Scientific Method are: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Research Ques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or issue you want to learn more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Hypothe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able Prediction that follows from your research question that can be tested and evalu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Metho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be your procedures for testing your hypothes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ata Colle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observations regarding data related to the problem you are interested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nferences/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ay about your hypothesis based on your observations?  Is your hypothesis supported by your observ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Sharing your 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write reports and give presentations to inform others about their researc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CIENTIFIC METH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1) Research Ques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problem or issue you want to learn more about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2) Hypothesi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estable Prediction that follows from your research question that can be tested and evaluated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3) Method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will be your procedures for testing your hypothesi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4) Data Collec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ord observations regarding data related to the problem you are interested in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5) Inferences/Interpreta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can you say about your hypothesis based on your observations?  Is your hypothesis supported by your observation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6) Sharing your conclusio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cientists write reports and give presentations to inform others about their research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ing the Scientific Meth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pplying the Scientific Method: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y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Archaeology and Who’s 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human activity and the past through material re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is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who studies humans, past and present, through their material re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the Scientific Metho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’s Archaeology and Who’s an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ist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y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tudy of human activity and the past through material remai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ist: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 scientist who studies humans, past and present, through their material remai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Uses the Scientific Metho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archaeologists study the pa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nvestigate material remains from our own society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Rath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sihoyos.com/pages/Stock/Portrait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je-william/pages/rathje-william000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Not all archaeologists study the past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ome investigate material remains from our own society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Bill Rathje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www.psihoyos.com/pages/Stock/Portraits/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thje-william/pages/rathje-william0001.html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ology Pro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 Rubbish: The Archaeology of Garbage, by William Rathje and Cullen Murphy. The University of Arizona Press, Tucson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ology Project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rom: Rubbish: The Archaeology of Garbage, by William Rathje and Cullen Murphy. The University of Arizona Press, Tucson, 2001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ag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an at the University of Arizona in 19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art of their research method, project personnel have studied over 250,000 lbs of garbage from American households and Landfills since 19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Ques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we learn about our own society from the garbage we throw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age Project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Began at the University of Arizona in 1973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s part of their research method, project personnel have studied over 250,000 lbs of garbage from American households and Landfills since 1973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search Ques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can we learn about our own society from the garbage we throw away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BAC-00DC-4526-BA70-B4CD0D7E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A90-296E-43F5-9AF9-F5D92885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A5A-E122-43BB-B2BD-9F6189BF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158-DCA7-4654-9F96-48B7C5A9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14D8-DE22-42F6-803A-0E111F09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DA48-4D0B-42AD-B500-E97C5D67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B2F2-2B66-4E1C-82D5-99A6CFF1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8CF5-F8E6-43F6-BFA2-2056DEA3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A928-03D2-4E59-AE11-4692A588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F38C-B080-43EF-AAA7-1F7E9C48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1FB7-EA0C-4950-9C3F-E4DD786E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BF2E-271D-4B0D-AA93-2DDDA8B6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8A89-FE9B-4AD3-B170-118CB542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F771-0572-45B9-A44D-DA81F437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77D4-096C-4379-932A-B7063093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3B1E-8C4F-4998-96CA-87DF35FC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5699-B571-483E-91D5-2C65D805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7AC-CF54-447E-B6AB-80C927DF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B41-322C-433E-98C3-4EA398B9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661-A46A-472D-BD2B-5B50287F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708-FD46-43D3-B97F-92B39994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DD1-CB5E-4E54-9C95-469EEDC8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0DA-CA0B-4F64-9122-2B56E375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A8C-D2A6-4AA4-B2FB-E04CD9A8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6F93-0E37-4166-AC80-0E62885F72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1E7B-1E75-41D2-B61A-9A572FD25B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3.jpeg"/><Relationship Id="rId4" Type="http://schemas.openxmlformats.org/officeDocument/2006/relationships/image" Target="../media/image36.jpeg"/><Relationship Id="rId5" Type="http://schemas.openxmlformats.org/officeDocument/2006/relationships/image" Target="../media/image28.jpeg"/><Relationship Id="rId6" Type="http://schemas.openxmlformats.org/officeDocument/2006/relationships/image" Target="../media/image27.jpeg"/><Relationship Id="rId7" Type="http://schemas.openxmlformats.org/officeDocument/2006/relationships/image" Target="../media/image31.png"/><Relationship Id="rId8" Type="http://schemas.openxmlformats.org/officeDocument/2006/relationships/image" Target="../media/image32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sihoyos.com/pages/Stock/Portraits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microscope2"/>
          <p:cNvPicPr/>
          <p:nvPr/>
        </p:nvPicPr>
        <p:blipFill>
          <a:blip r:embed="rId1"/>
          <a:stretch/>
        </p:blipFill>
        <p:spPr>
          <a:xfrm>
            <a:off x="228600" y="380880"/>
            <a:ext cx="1719360" cy="187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untitled"/>
          <p:cNvPicPr/>
          <p:nvPr/>
        </p:nvPicPr>
        <p:blipFill>
          <a:blip r:embed="rId2"/>
          <a:stretch/>
        </p:blipFill>
        <p:spPr>
          <a:xfrm>
            <a:off x="7607160" y="228600"/>
            <a:ext cx="13273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rotractor"/>
          <p:cNvPicPr/>
          <p:nvPr/>
        </p:nvPicPr>
        <p:blipFill>
          <a:blip r:embed="rId3"/>
          <a:stretch/>
        </p:blipFill>
        <p:spPr>
          <a:xfrm rot="2224200">
            <a:off x="304560" y="4876920"/>
            <a:ext cx="2176200" cy="1195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scientists"/>
          <p:cNvPicPr/>
          <p:nvPr/>
        </p:nvPicPr>
        <p:blipFill>
          <a:blip r:embed="rId4"/>
          <a:stretch/>
        </p:blipFill>
        <p:spPr>
          <a:xfrm>
            <a:off x="7010280" y="4952880"/>
            <a:ext cx="1981440" cy="1630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The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Scientific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Method</a:t>
            </a:r>
            <a:endParaRPr b="1" i="1" lang="en-US" sz="7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Hypothese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9907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First, what hypotheses do you have about what the garbologists would find in the typical American garbage and in Landfil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28600" y="99072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8"/>
          <p:cNvSpPr/>
          <p:nvPr/>
        </p:nvSpPr>
        <p:spPr>
          <a:xfrm>
            <a:off x="2133720" y="2590920"/>
            <a:ext cx="588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ack"/>
              </a:rPr>
              <a:t>The Garbage Project developed several hypotheses and questions based on questionnaires and other general knowledge….</a:t>
            </a: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1905120" y="4572000"/>
            <a:ext cx="6324480" cy="1447920"/>
            <a:chOff x="1905120" y="4572000"/>
            <a:chExt cx="6324480" cy="1447920"/>
          </a:xfrm>
        </p:grpSpPr>
        <p:pic>
          <p:nvPicPr>
            <p:cNvPr id="150" name="Picture 9" descr="images"/>
            <p:cNvPicPr/>
            <p:nvPr/>
          </p:nvPicPr>
          <p:blipFill>
            <a:blip r:embed="rId3"/>
            <a:stretch/>
          </p:blipFill>
          <p:spPr>
            <a:xfrm>
              <a:off x="1905120" y="4800600"/>
              <a:ext cx="16574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1" descr="m363526"/>
            <p:cNvPicPr/>
            <p:nvPr/>
          </p:nvPicPr>
          <p:blipFill>
            <a:blip r:embed="rId4"/>
            <a:stretch/>
          </p:blipFill>
          <p:spPr>
            <a:xfrm>
              <a:off x="3886200" y="4572000"/>
              <a:ext cx="8240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2" descr="MiniTiernotaggersq5"/>
            <p:cNvPicPr/>
            <p:nvPr/>
          </p:nvPicPr>
          <p:blipFill>
            <a:blip r:embed="rId5"/>
            <a:stretch/>
          </p:blipFill>
          <p:spPr>
            <a:xfrm>
              <a:off x="5029200" y="472428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3" descr="10240305"/>
            <p:cNvPicPr/>
            <p:nvPr/>
          </p:nvPicPr>
          <p:blipFill>
            <a:blip r:embed="rId6"/>
            <a:stretch/>
          </p:blipFill>
          <p:spPr>
            <a:xfrm>
              <a:off x="6400800" y="4648320"/>
              <a:ext cx="1828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Hypotheses and Specific Questions the Garbology Project Generated: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Landfills are filling up with fast food packaging and lots of plastic waste – as based on surveys of what many Americans think is in our wa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aper and food products biodegrade ove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What is the relationship between what people say they do and eat, and what is actually found in their garb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228600" y="99072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5" descr="OEN_156"/>
          <p:cNvPicPr/>
          <p:nvPr/>
        </p:nvPicPr>
        <p:blipFill>
          <a:blip r:embed="rId3"/>
          <a:stretch/>
        </p:blipFill>
        <p:spPr>
          <a:xfrm>
            <a:off x="152280" y="4724280"/>
            <a:ext cx="10861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How would you test the hypoth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gL-03-B-Auger-4"/>
          <p:cNvPicPr/>
          <p:nvPr/>
        </p:nvPicPr>
        <p:blipFill>
          <a:blip r:embed="rId1"/>
          <a:stretch/>
        </p:blipFill>
        <p:spPr>
          <a:xfrm>
            <a:off x="2133720" y="1676520"/>
            <a:ext cx="2550960" cy="320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gL-04-Bucket-4"/>
          <p:cNvPicPr/>
          <p:nvPr/>
        </p:nvPicPr>
        <p:blipFill>
          <a:blip r:embed="rId2"/>
          <a:stretch/>
        </p:blipFill>
        <p:spPr>
          <a:xfrm>
            <a:off x="5638680" y="1676520"/>
            <a:ext cx="2197080" cy="3276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2084040" y="5359320"/>
            <a:ext cx="52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Systematically excavate, or dig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in landfill….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830040" y="5105520"/>
            <a:ext cx="250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oper Black"/>
              </a:rPr>
              <a:t>metamedia.stanford.edu 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Randomly collect household garbag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k"/>
          <p:cNvPicPr/>
          <p:nvPr/>
        </p:nvPicPr>
        <p:blipFill>
          <a:blip r:embed="rId1"/>
          <a:stretch/>
        </p:blipFill>
        <p:spPr>
          <a:xfrm>
            <a:off x="3746520" y="2133720"/>
            <a:ext cx="2197080" cy="32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EN_156"/>
          <p:cNvPicPr/>
          <p:nvPr/>
        </p:nvPicPr>
        <p:blipFill>
          <a:blip r:embed="rId2"/>
          <a:stretch/>
        </p:blipFill>
        <p:spPr>
          <a:xfrm>
            <a:off x="1523880" y="2514600"/>
            <a:ext cx="1954440" cy="2057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SKH_030"/>
          <p:cNvPicPr/>
          <p:nvPr/>
        </p:nvPicPr>
        <p:blipFill>
          <a:blip r:embed="rId3"/>
          <a:stretch/>
        </p:blipFill>
        <p:spPr>
          <a:xfrm>
            <a:off x="6248520" y="2593800"/>
            <a:ext cx="2514600" cy="2054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pic>
        <p:nvPicPr>
          <p:cNvPr id="175" name="Picture 14" descr="gF-02-HappySort-4"/>
          <p:cNvPicPr/>
          <p:nvPr/>
        </p:nvPicPr>
        <p:blipFill>
          <a:blip r:embed="rId1"/>
          <a:stretch/>
        </p:blipFill>
        <p:spPr>
          <a:xfrm>
            <a:off x="5334120" y="1523880"/>
            <a:ext cx="3504960" cy="2551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gL-04-SugarSDig-4"/>
          <p:cNvPicPr/>
          <p:nvPr/>
        </p:nvPicPr>
        <p:blipFill>
          <a:blip r:embed="rId2"/>
          <a:stretch/>
        </p:blipFill>
        <p:spPr>
          <a:xfrm>
            <a:off x="1447920" y="1523880"/>
            <a:ext cx="3657600" cy="25354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2117880" y="4905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834560" y="4800600"/>
            <a:ext cx="65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… </a:t>
            </a: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sort contents layer by layer </a:t>
            </a:r>
            <a:endParaRPr b="1" lang="en-US" sz="36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and bag by bag …</a:t>
            </a:r>
            <a:endParaRPr b="1" lang="en-US" sz="36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3105000" y="4191120"/>
            <a:ext cx="41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oper Black"/>
              </a:rPr>
              <a:t>http://metamedia.stanford.edu/projects/GarbologyOnline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117880" y="4905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026440" y="5049720"/>
            <a:ext cx="661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…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and record observations about what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    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You find!!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85" name="Picture 11" descr="garbologyrecording"/>
          <p:cNvPicPr/>
          <p:nvPr/>
        </p:nvPicPr>
        <p:blipFill>
          <a:blip r:embed="rId1"/>
          <a:stretch/>
        </p:blipFill>
        <p:spPr>
          <a:xfrm>
            <a:off x="1816200" y="1063800"/>
            <a:ext cx="5270400" cy="37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Text Box 12"/>
          <p:cNvSpPr/>
          <p:nvPr/>
        </p:nvSpPr>
        <p:spPr>
          <a:xfrm>
            <a:off x="6360840" y="4343400"/>
            <a:ext cx="233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oper Black"/>
              </a:rPr>
              <a:t>Rathje and Murphy </a:t>
            </a:r>
            <a:endParaRPr b="1" lang="en-US" sz="900" spc="-1" strike="noStrike">
              <a:solidFill>
                <a:srgbClr val="ff0000"/>
              </a:solidFill>
              <a:latin typeface="Cooper Black"/>
            </a:endParaRPr>
          </a:p>
          <a:p>
            <a:pPr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oper Black"/>
              </a:rPr>
              <a:t>(2001:73)</a:t>
            </a:r>
            <a:endParaRPr b="1" lang="en-US" sz="9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"/>
          <p:cNvSpPr/>
          <p:nvPr/>
        </p:nvSpPr>
        <p:spPr>
          <a:xfrm>
            <a:off x="1279440" y="4572000"/>
            <a:ext cx="805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2) Plastic bottles, soda cans, and fast food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packaging less than 1%!!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Items such as lettuce 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old fruit lasted over 15 years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89" name="Picture 13" descr="Lettuce 2"/>
          <p:cNvPicPr/>
          <p:nvPr/>
        </p:nvPicPr>
        <p:blipFill>
          <a:blip r:embed="rId1"/>
          <a:stretch/>
        </p:blipFill>
        <p:spPr>
          <a:xfrm>
            <a:off x="6324480" y="5238720"/>
            <a:ext cx="993960" cy="7491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2300"/>
                </a:solidFill>
                <a:latin typeface="Arial Rounded MT Bold"/>
              </a:rPr>
              <a:t>Project Observations: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1) Landfills contain almost 40% newspapers between 15 and 40 years old!!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newspaper"/>
          <p:cNvPicPr/>
          <p:nvPr/>
        </p:nvPicPr>
        <p:blipFill>
          <a:blip r:embed="rId2"/>
          <a:stretch/>
        </p:blipFill>
        <p:spPr>
          <a:xfrm>
            <a:off x="3124080" y="2133720"/>
            <a:ext cx="2238480" cy="170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Picture 5" descr="newspaper_stacks_red"/>
          <p:cNvPicPr/>
          <p:nvPr/>
        </p:nvPicPr>
        <p:blipFill>
          <a:blip r:embed="rId3"/>
          <a:stretch/>
        </p:blipFill>
        <p:spPr>
          <a:xfrm rot="1522200">
            <a:off x="4723920" y="2514600"/>
            <a:ext cx="162252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6" descr="newspaper2"/>
          <p:cNvPicPr/>
          <p:nvPr/>
        </p:nvPicPr>
        <p:blipFill>
          <a:blip r:embed="rId4"/>
          <a:stretch/>
        </p:blipFill>
        <p:spPr>
          <a:xfrm rot="20260800">
            <a:off x="6095520" y="2133360"/>
            <a:ext cx="14353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11" descr="PlasticBags"/>
          <p:cNvPicPr/>
          <p:nvPr/>
        </p:nvPicPr>
        <p:blipFill>
          <a:blip r:embed="rId5"/>
          <a:stretch/>
        </p:blipFill>
        <p:spPr>
          <a:xfrm rot="934800">
            <a:off x="7314840" y="5105520"/>
            <a:ext cx="595440" cy="857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recycle_5"/>
          <p:cNvPicPr/>
          <p:nvPr/>
        </p:nvPicPr>
        <p:blipFill>
          <a:blip r:embed="rId6"/>
          <a:stretch/>
        </p:blipFill>
        <p:spPr>
          <a:xfrm rot="19498200">
            <a:off x="80010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2300"/>
                </a:solidFill>
                <a:latin typeface="Arial Rounded MT Bold"/>
              </a:rPr>
              <a:t>Inferences - What do the observations mean?</a:t>
            </a:r>
            <a:endParaRPr b="1" i="1" lang="en-US" sz="28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28600" y="1066680"/>
          <a:ext cx="89388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388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12"/>
          <p:cNvSpPr/>
          <p:nvPr/>
        </p:nvSpPr>
        <p:spPr>
          <a:xfrm>
            <a:off x="1219320" y="1143000"/>
            <a:ext cx="77724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Do the observations support the hypotheses?   </a:t>
            </a: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oper Black"/>
              </a:rPr>
              <a:t>NO!!!   </a:t>
            </a:r>
            <a:endParaRPr b="1" lang="en-US" sz="40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Landfills are not filling up with plastics, but with 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paper and construction products.  Items that we would expect to decompose do not always.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Recycling of paper products, in addition to plastics,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is not a major activity in modern society in comparison to the total amount of garbage!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Conclusion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228600" y="1066680"/>
          <a:ext cx="89388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388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Picture 7" descr="gL-03-B-Auger-4"/>
          <p:cNvPicPr/>
          <p:nvPr/>
        </p:nvPicPr>
        <p:blipFill>
          <a:blip r:embed="rId3"/>
          <a:stretch/>
        </p:blipFill>
        <p:spPr>
          <a:xfrm>
            <a:off x="1600200" y="914400"/>
            <a:ext cx="1397160" cy="1752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gL-01-Dumping-4"/>
          <p:cNvPicPr/>
          <p:nvPr/>
        </p:nvPicPr>
        <p:blipFill>
          <a:blip r:embed="rId4"/>
          <a:stretch/>
        </p:blipFill>
        <p:spPr>
          <a:xfrm>
            <a:off x="2819520" y="1523880"/>
            <a:ext cx="1828800" cy="146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gL-04-SugarSDig-4"/>
          <p:cNvPicPr/>
          <p:nvPr/>
        </p:nvPicPr>
        <p:blipFill>
          <a:blip r:embed="rId5"/>
          <a:stretch/>
        </p:blipFill>
        <p:spPr>
          <a:xfrm>
            <a:off x="4572000" y="1219320"/>
            <a:ext cx="3124080" cy="2165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gF-02-HappySort-4"/>
          <p:cNvPicPr/>
          <p:nvPr/>
        </p:nvPicPr>
        <p:blipFill>
          <a:blip r:embed="rId6"/>
          <a:stretch/>
        </p:blipFill>
        <p:spPr>
          <a:xfrm>
            <a:off x="3505320" y="2666880"/>
            <a:ext cx="2209680" cy="1608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newspaper"/>
          <p:cNvPicPr/>
          <p:nvPr/>
        </p:nvPicPr>
        <p:blipFill>
          <a:blip r:embed="rId7"/>
          <a:stretch/>
        </p:blipFill>
        <p:spPr>
          <a:xfrm>
            <a:off x="5359320" y="2914560"/>
            <a:ext cx="1563840" cy="11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Picture 12" descr="newspaper_stacks_red"/>
          <p:cNvPicPr/>
          <p:nvPr/>
        </p:nvPicPr>
        <p:blipFill>
          <a:blip r:embed="rId8"/>
          <a:stretch/>
        </p:blipFill>
        <p:spPr>
          <a:xfrm rot="1522200">
            <a:off x="6552720" y="3200400"/>
            <a:ext cx="1254240" cy="147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Picture 13" descr="newspaper2"/>
          <p:cNvPicPr/>
          <p:nvPr/>
        </p:nvPicPr>
        <p:blipFill>
          <a:blip r:embed="rId9"/>
          <a:stretch/>
        </p:blipFill>
        <p:spPr>
          <a:xfrm rot="20260800">
            <a:off x="7843320" y="2696760"/>
            <a:ext cx="1022400" cy="15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Text Box 15"/>
          <p:cNvSpPr/>
          <p:nvPr/>
        </p:nvSpPr>
        <p:spPr>
          <a:xfrm>
            <a:off x="1447920" y="472428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Recycling, especially of paper, needs to be a PRIORITY!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People need to find ways to compost! 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What people think is in their garbage is not necessarily what is really there!!! and……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oper Blac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What people say they eat and do is not always necessarily the case!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82300"/>
                </a:solidFill>
                <a:latin typeface="Times New Roman"/>
              </a:rPr>
              <a:t>Important reference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ubbish: The Archaeology of Garb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by William Rathje and Cullen Murphy. The University of Arizona Press, Tucson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etamedia.stanford.edu/ projects/GarbologyOnl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Arial Rounded MT Bold"/>
              </a:rPr>
              <a:t>How do scientists know what they know?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96" name="Object 16"/>
          <p:cNvGraphicFramePr/>
          <p:nvPr/>
        </p:nvGraphicFramePr>
        <p:xfrm>
          <a:off x="228600" y="114300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Group 32"/>
          <p:cNvGrpSpPr/>
          <p:nvPr/>
        </p:nvGrpSpPr>
        <p:grpSpPr>
          <a:xfrm>
            <a:off x="1724040" y="1219320"/>
            <a:ext cx="3152880" cy="2101680"/>
            <a:chOff x="1724040" y="1219320"/>
            <a:chExt cx="3152880" cy="2101680"/>
          </a:xfrm>
        </p:grpSpPr>
        <p:pic>
          <p:nvPicPr>
            <p:cNvPr id="99" name="Picture 24" descr="CAMGH4VC"/>
            <p:cNvPicPr/>
            <p:nvPr/>
          </p:nvPicPr>
          <p:blipFill>
            <a:blip r:embed="rId3"/>
            <a:stretch/>
          </p:blipFill>
          <p:spPr>
            <a:xfrm>
              <a:off x="1724040" y="1219320"/>
              <a:ext cx="3152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1945080" y="2362320"/>
              <a:ext cx="25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 Rounded MT Bold"/>
                </a:rPr>
                <a:t>Why is the sky blue?</a:t>
              </a:r>
              <a:endParaRPr b="1" lang="en-US" sz="20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1" name="Group 33"/>
          <p:cNvGrpSpPr/>
          <p:nvPr/>
        </p:nvGrpSpPr>
        <p:grpSpPr>
          <a:xfrm>
            <a:off x="5357880" y="1219320"/>
            <a:ext cx="3405240" cy="2133360"/>
            <a:chOff x="5357880" y="1219320"/>
            <a:chExt cx="3405240" cy="2133360"/>
          </a:xfrm>
        </p:grpSpPr>
        <p:pic>
          <p:nvPicPr>
            <p:cNvPr id="102" name="Picture 25" descr="rain"/>
            <p:cNvPicPr/>
            <p:nvPr/>
          </p:nvPicPr>
          <p:blipFill>
            <a:blip r:embed="rId4"/>
            <a:stretch/>
          </p:blipFill>
          <p:spPr>
            <a:xfrm>
              <a:off x="5357880" y="1219320"/>
              <a:ext cx="340524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6045120" y="1371600"/>
              <a:ext cx="20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Rounded MT Bold"/>
                </a:rPr>
                <a:t>Why does it rain?</a:t>
              </a:r>
              <a:endParaRPr b="1" lang="en-US" sz="18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4" name="Group 31"/>
          <p:cNvGrpSpPr/>
          <p:nvPr/>
        </p:nvGrpSpPr>
        <p:grpSpPr>
          <a:xfrm>
            <a:off x="1752480" y="3479760"/>
            <a:ext cx="3124440" cy="2062080"/>
            <a:chOff x="1752480" y="3479760"/>
            <a:chExt cx="3124440" cy="2062080"/>
          </a:xfrm>
        </p:grpSpPr>
        <p:pic>
          <p:nvPicPr>
            <p:cNvPr id="105" name="Picture 28" descr="hadleighdig"/>
            <p:cNvPicPr/>
            <p:nvPr/>
          </p:nvPicPr>
          <p:blipFill>
            <a:blip r:embed="rId5"/>
            <a:stretch/>
          </p:blipFill>
          <p:spPr>
            <a:xfrm>
              <a:off x="1752480" y="3479760"/>
              <a:ext cx="312444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1814760" y="3505320"/>
              <a:ext cx="30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00"/>
                  </a:solidFill>
                  <a:latin typeface="Arial Rounded MT Bold"/>
                </a:rPr>
                <a:t>How did people live in the past?</a:t>
              </a:r>
              <a:endParaRPr b="1" lang="en-US" sz="16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7" name="Group 30"/>
          <p:cNvGrpSpPr/>
          <p:nvPr/>
        </p:nvGrpSpPr>
        <p:grpSpPr>
          <a:xfrm>
            <a:off x="5410080" y="3581280"/>
            <a:ext cx="3353040" cy="1925640"/>
            <a:chOff x="5410080" y="3581280"/>
            <a:chExt cx="3353040" cy="1925640"/>
          </a:xfrm>
        </p:grpSpPr>
        <p:pic>
          <p:nvPicPr>
            <p:cNvPr id="108" name="Picture 29" descr="grand%20canyon%20saturated"/>
            <p:cNvPicPr/>
            <p:nvPr/>
          </p:nvPicPr>
          <p:blipFill>
            <a:blip r:embed="rId6"/>
            <a:stretch/>
          </p:blipFill>
          <p:spPr>
            <a:xfrm>
              <a:off x="5410080" y="3581280"/>
              <a:ext cx="335304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5826960" y="365760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 Rounded MT Bold"/>
                </a:rPr>
                <a:t>How old is the Earth?</a:t>
              </a:r>
              <a:endParaRPr b="1" lang="en-US" sz="18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sp>
        <p:nvSpPr>
          <p:cNvPr id="110" name="Text Box 34"/>
          <p:cNvSpPr/>
          <p:nvPr/>
        </p:nvSpPr>
        <p:spPr>
          <a:xfrm>
            <a:off x="3864240" y="5630760"/>
            <a:ext cx="27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 Rounded MT Bold"/>
              </a:rPr>
              <a:t>Answer….</a:t>
            </a:r>
            <a:endParaRPr b="1" lang="en-US" sz="4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Arial Rounded MT Bold"/>
              </a:rPr>
              <a:t>THE SCIENTIFIC METHOD!!!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lack"/>
              </a:rPr>
              <a:t>A step-by-ste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lack"/>
              </a:rPr>
              <a:t>process scientists use to answer questions and solve probl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768680" y="5181480"/>
            <a:ext cx="711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oper Black"/>
              </a:rPr>
              <a:t>The steps of the Scientific Method are: </a:t>
            </a:r>
            <a:endParaRPr b="1" lang="en-US" sz="30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2300"/>
                </a:solidFill>
                <a:latin typeface="Arial Rounded MT Bold"/>
              </a:rPr>
              <a:t>THE SCIENTIFIC METHOD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1) Research Ques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oper Black"/>
              </a:rPr>
              <a:t>The problem or issue you want to learn more abo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2) Hypothes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Testable Prediction </a:t>
            </a:r>
            <a:r>
              <a:rPr b="0" lang="en-US" sz="1600" spc="-1" strike="noStrike">
                <a:solidFill>
                  <a:srgbClr val="0000ff"/>
                </a:solidFill>
                <a:latin typeface="Cooper Black"/>
              </a:rPr>
              <a:t>that follows from your research question that can be tested and evalu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3) Metho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What will be your procedures for testing your hypothesi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4) Data Colle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Record observations regarding data related to the problem you are interested 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5) Inferences/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What can you say about your hypothesis based on your observations?  Is your hypothesis supported by your observa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6) Sharing your 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Scientists write reports and give presentations to inform others about their research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123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Applying the Scientific Method:</a:t>
            </a:r>
            <a:br>
              <a:rPr sz="4000"/>
            </a:b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Archaeology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Times New Roman"/>
              </a:rPr>
              <a:t>What’s Archaeology and Who’s an</a:t>
            </a:r>
            <a:br>
              <a:rPr sz="3200"/>
            </a:br>
            <a:r>
              <a:rPr b="1" i="1" lang="en-US" sz="3200" spc="-1" strike="noStrike">
                <a:solidFill>
                  <a:srgbClr val="682300"/>
                </a:solidFill>
                <a:latin typeface="Times New Roman"/>
              </a:rPr>
              <a:t>Archaeologist?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ae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udy of human activity and the past through material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aeologis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cientist who studies humans, past and present, through their material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ses the Scientific Method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4" descr="DSCN0566"/>
          <p:cNvPicPr/>
          <p:nvPr/>
        </p:nvPicPr>
        <p:blipFill>
          <a:blip r:embed="rId1"/>
          <a:stretch/>
        </p:blipFill>
        <p:spPr>
          <a:xfrm>
            <a:off x="5403960" y="914400"/>
            <a:ext cx="3555720" cy="266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DSCF0130"/>
          <p:cNvPicPr/>
          <p:nvPr/>
        </p:nvPicPr>
        <p:blipFill>
          <a:blip r:embed="rId2"/>
          <a:stretch/>
        </p:blipFill>
        <p:spPr>
          <a:xfrm>
            <a:off x="5403960" y="3733920"/>
            <a:ext cx="355572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16"/>
          <p:cNvGraphicFramePr/>
          <p:nvPr/>
        </p:nvGraphicFramePr>
        <p:xfrm>
          <a:off x="152280" y="1066680"/>
          <a:ext cx="1027080" cy="221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066680"/>
                    <a:ext cx="10270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Not all archaeologists study the p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Some investigate material remains from our own society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638680" y="5943600"/>
            <a:ext cx="2833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oper Black"/>
              </a:rPr>
              <a:t>Bill Rathje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33cc"/>
                </a:solidFill>
                <a:uFillTx/>
                <a:latin typeface="Cooper Black"/>
                <a:hlinkClick r:id="rId1"/>
              </a:rPr>
              <a:t>http://www.psihoyos.com/pages/Stock/Portraits/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oper Black"/>
              </a:rPr>
              <a:t>rathje-william/pages/rathje-william0001.html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31" name="Picture 11" descr="rathje-william0001"/>
          <p:cNvPicPr/>
          <p:nvPr/>
        </p:nvPicPr>
        <p:blipFill>
          <a:blip r:embed="rId2"/>
          <a:stretch/>
        </p:blipFill>
        <p:spPr>
          <a:xfrm>
            <a:off x="5448240" y="914400"/>
            <a:ext cx="346716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345456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The Garbology Project</a:t>
            </a:r>
            <a:br>
              <a:rPr sz="4000"/>
            </a:b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ubbish: The Archaeology of Garb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y William Rathje and Cullen Murphy. The University of Arizona Press, Tucson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2300"/>
                </a:solidFill>
                <a:latin typeface="Arial Rounded MT Bold"/>
              </a:rPr>
              <a:t>The Garbage Projec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Began at the University of Arizona in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As part of their research method, project personnel have studied over 250,000 lbs of garbage from American households and Landfills since 197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oper Black"/>
              </a:rPr>
              <a:t>Research Ques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oper Black"/>
              </a:rPr>
              <a:t>What can we learn about our own society from the garbage we throw a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71600" y="3733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KNK_224"/>
          <p:cNvPicPr/>
          <p:nvPr/>
        </p:nvPicPr>
        <p:blipFill>
          <a:blip r:embed="rId1"/>
          <a:stretch/>
        </p:blipFill>
        <p:spPr>
          <a:xfrm>
            <a:off x="152280" y="990720"/>
            <a:ext cx="1143000" cy="1076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OEN_156"/>
          <p:cNvPicPr/>
          <p:nvPr/>
        </p:nvPicPr>
        <p:blipFill>
          <a:blip r:embed="rId2"/>
          <a:stretch/>
        </p:blipFill>
        <p:spPr>
          <a:xfrm>
            <a:off x="152280" y="502920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SWMmainpage2"/>
          <p:cNvPicPr/>
          <p:nvPr/>
        </p:nvPicPr>
        <p:blipFill>
          <a:blip r:embed="rId3"/>
          <a:stretch/>
        </p:blipFill>
        <p:spPr>
          <a:xfrm>
            <a:off x="2057400" y="3886200"/>
            <a:ext cx="2476440" cy="215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muggalanelandfillimage"/>
          <p:cNvPicPr/>
          <p:nvPr/>
        </p:nvPicPr>
        <p:blipFill>
          <a:blip r:embed="rId4"/>
          <a:stretch/>
        </p:blipFill>
        <p:spPr>
          <a:xfrm>
            <a:off x="5181480" y="3886200"/>
            <a:ext cx="2982960" cy="223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9:44Z</dcterms:created>
  <dc:creator>Jonathan Haas</dc:creator>
  <dc:description/>
  <dc:language>en-US</dc:language>
  <cp:lastModifiedBy>Legion</cp:lastModifiedBy>
  <dcterms:modified xsi:type="dcterms:W3CDTF">2017-07-04T12:40:36Z</dcterms:modified>
  <cp:revision>64</cp:revision>
  <dc:subject/>
  <dc:title>The  Scientific  Meth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31033</vt:lpwstr>
  </property>
</Properties>
</file>