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.png" ContentType="image/png"/>
  <Override PartName="/ppt/media/image31.png" ContentType="image/png"/>
  <Override PartName="/ppt/media/image20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3F35-217E-4D5D-85D0-B55469D0924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cientific 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hat hypotheses do you have about what the garbologists would find in the typical American garbage and in Landfi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bage Project developed several hypotheses and questions based on questionnaires and other general knowledg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ypothese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First, what hypotheses do you have about what the garbologists would find in the typical American garbage and in Landfill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Garbage Project developed several hypotheses and questions based on questionnaires and other general knowledge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es and Specific Questions the Garbology Project Genera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ills are filling up with fast food packaging and lots of plastic waste – as based on surveys of what many Americans think is in our was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 and food products biodegrade over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elationship between what people say they do and eat, and what is actually found in their garb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ypotheses and Specific Questions the Garbology Project Generated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Landfills are filling up with fast food packaging and lots of plastic waste – as based on surveys of what many Americans think is in our waste.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aper and food products biodegrade over time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is the relationship between what people say they do and eat, and what is actually found in their garbage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and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you test the hypothes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atically excavate, or d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landfill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media.stanford.ed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s and Data Collec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ow would you test the hypothesi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ystematically excavate, or dig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n landfill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amedia.stanford.edu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ly collect household garbag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andomly collect household garbage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and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t contents layer by lay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bag by bag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etamedia.stanford.edu/projects/GarbologyOn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s and Data Collec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…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ort contents layer by layer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d bag by bag …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ttp://metamedia.stanford.edu/projects/GarbologyOnline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and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ecord observations about w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find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je and Murph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001:7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Methods and Data Collec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…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d record observations about what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You find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athje and Murphy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(2001:73)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Plastic bottles, soda cans, and fast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ckaging less than 1%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ems such as lettu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old fruit lasted over 15 ye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 Observ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Landfills contain almost 40% newspapers between 15 and 40 years old!!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2) Plastic bottles, soda cans, and fast food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ackaging less than 1%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tems such as lettuce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d old fruit lasted over 15 years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roject Observations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  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1) Landfills contain almost 40% newspapers between 15 and 40 years old!!! 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erences - What do the observations mea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the observations support the hypotheses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!!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ills are not filling up with plastics, but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 and construction products.  Items that we would expect to decompose do not al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ing of paper products, in addition to plastic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not a major activity in modern society in comparison to the total amount of garbag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nferences - What do the observations mean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Do the observations support the hypotheses?  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NO!!!  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Landfills are not filling up with plastics, but with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aper and construction products.  Items that we would expect to decompose do not always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cycling of paper products, in addition to plastics,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s not a major activity in modern society in comparison to the total amount of garbage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ing, especially of paper, needs to be a PRIORIT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need to find ways to compost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eople think is in their garbage is not necessarily what is really there!!! and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eople say they eat and do is not always necessarily the ca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Conclusio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cycling, especially of paper, needs to be a PRIORITY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eople need to find ways to compost!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people think is in their garbage is not necessarily what is really there!!! and……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people say they eat and do is not always necessarily the case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t 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: Rubbish: The Archaeology of Garbage, by William Rathje and Cullen Murphy. The University of Arizona Press, Tucson,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etamedia.stanford.edu/ projects/GarbologyOnli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Important reference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From: Rubbish: The Archaeology of Garbage, by William Rathje and Cullen Murphy. The University of Arizona Press, Tucson, 2001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ttp://metamedia.stanford.edu/ projects/GarbologyOnline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cientists know what they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ow do scientists know what they know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nswer…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METHOD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ep-by-ste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scientists use to answer questions and solve probl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eps of the Scientific Method a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CIENTIFIC METHOD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 step-by-step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process scientists use to answer questions and solve problems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teps of the Scientific Method are: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Research Ques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or issue you want to learn more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Hypothes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able Prediction that follows from your research question that can be tested and evalu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Metho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be your procedures for testing your hypothes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Data Colle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rd observations regarding data related to the problem you are interested 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Inferences/Interpre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ay about your hypothesis based on your observations?  Is your hypothesis supported by your observ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Sharing your concl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s write reports and give presentations to inform others about their researc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CIENTIFIC METHOD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1) Research Question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problem or issue you want to learn more about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2) Hypothesis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estable Prediction that follows from your research question that can be tested and evaluated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3) Methods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will be your procedures for testing your hypothesi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4) Data Collection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cord observations regarding data related to the problem you are interested in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5) Inferences/Interpretation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can you say about your hypothesis based on your observations?  Is your hypothesis supported by your observations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6) Sharing your conclusio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cientists write reports and give presentations to inform others about their research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	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ying the Scientific Meth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pplying the Scientific Method: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y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Archaeology and Who’s 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i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udy of human activity and the past through material re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aeologis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cientist who studies humans, past and present, through their material re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the Scientific Method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’s Archaeology and Who’s an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ist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y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study of human activity and the past through material remai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rchaeologist: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 scientist who studies humans, past and present, through their material remains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Uses the Scientific Method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archaeologists study the pa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nvestigate material remains from our own society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Rath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sihoyos.com/pages/Stock/Portraits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je-william/pages/rathje-william0001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Not all archaeologists study the past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Some investigate material remains from our own society!!!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Bill Rathje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http://www.psihoyos.com/pages/Stock/Portraits/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athje-william/pages/rathje-william0001.html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bology Proje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: Rubbish: The Archaeology of Garbage, by William Rathje and Cullen Murphy. The University of Arizona Press, Tucson,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Garbology Project</a:t>
            </a:r>
            <a:br>
              <a:rPr sz="1200"/>
            </a:b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 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From: Rubbish: The Archaeology of Garbage, by William Rathje and Cullen Murphy. The University of Arizona Press, Tucson, 2001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bag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an at the University of Arizona in 197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part of their research method, project personnel have studied over 250,000 lbs of garbage from American households and Landfills since 197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Ques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we learn about our own society from the garbage we throw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The Garbage Project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Began at the University of Arizona in 1973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As part of their research method, project personnel have studied over 250,000 lbs of garbage from American households and Landfills since 1973.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Research Question: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hat can we learn about our own society from the garbage we throw away?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oper Black"/>
              </a:rPr>
              <a:t>www.sliderbase.com</a:t>
            </a: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  <a:p>
            <a:pPr algn="r">
              <a:spcBef>
                <a:spcPts val="3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5915-7422-4B2E-AAD2-12D480C8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69EE-B461-431A-A029-23DDCD82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30EB-A26C-4AA0-9D25-D06E94F4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368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576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368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576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AA4-3E50-4726-871D-B128ECDC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9658-E51C-42F8-8B78-6E918054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A728-7770-44C8-8AEF-D431C9A7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FB14-4213-4002-81B7-0895E9C9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2DA4-0C58-4614-A51B-0DEC7ADF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0371-AA62-4825-84A2-EB3C954A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B3B5-0E07-4383-8E86-6F440F8D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CE7E-6D0C-473D-9D7A-2BF64A30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0F7C-2605-4EE8-9141-DF1E2BCA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407C-F3AF-4520-A47B-09AC6584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64CC-6D87-4D72-9F07-40D0C3B4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A32B-8770-4A24-8337-7777E3E3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C0F3-FF1E-4AF5-B0CC-62732E2C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7368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5760" y="91440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7368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5760" y="3780360"/>
            <a:ext cx="24778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1BC0-B78D-43DA-84DA-DD1F54EF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B2BF-80C5-4E32-A0B7-19396294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2ED-5A2A-4DF4-B245-0D0F55F4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8BD2-5B21-47EB-9FF5-12A7D3C9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A24-6878-4C60-826F-39C99C91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045D-59D7-4D5A-8E1B-F88603A4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5400" y="378036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45BD-F9D0-4D6A-92FE-11B01F8A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5400" y="914400"/>
            <a:ext cx="3755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80360"/>
            <a:ext cx="769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E489-89FA-41CF-9BB9-C9A51413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E393-45AF-4D5D-A1C8-3EA53F38A5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E9B7-1062-49DF-9F42-099514B437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23.jpeg"/><Relationship Id="rId4" Type="http://schemas.openxmlformats.org/officeDocument/2006/relationships/image" Target="../media/image36.jpeg"/><Relationship Id="rId5" Type="http://schemas.openxmlformats.org/officeDocument/2006/relationships/image" Target="../media/image28.jpeg"/><Relationship Id="rId6" Type="http://schemas.openxmlformats.org/officeDocument/2006/relationships/image" Target="../media/image27.jpeg"/><Relationship Id="rId7" Type="http://schemas.openxmlformats.org/officeDocument/2006/relationships/image" Target="../media/image31.png"/><Relationship Id="rId8" Type="http://schemas.openxmlformats.org/officeDocument/2006/relationships/image" Target="../media/image32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sihoyos.com/pages/Stock/Portraits/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microscope2"/>
          <p:cNvPicPr/>
          <p:nvPr/>
        </p:nvPicPr>
        <p:blipFill>
          <a:blip r:embed="rId1"/>
          <a:stretch/>
        </p:blipFill>
        <p:spPr>
          <a:xfrm>
            <a:off x="228600" y="380880"/>
            <a:ext cx="1719360" cy="1879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untitled"/>
          <p:cNvPicPr/>
          <p:nvPr/>
        </p:nvPicPr>
        <p:blipFill>
          <a:blip r:embed="rId2"/>
          <a:stretch/>
        </p:blipFill>
        <p:spPr>
          <a:xfrm>
            <a:off x="7607160" y="228600"/>
            <a:ext cx="132732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rotractor"/>
          <p:cNvPicPr/>
          <p:nvPr/>
        </p:nvPicPr>
        <p:blipFill>
          <a:blip r:embed="rId3"/>
          <a:stretch/>
        </p:blipFill>
        <p:spPr>
          <a:xfrm rot="2224200">
            <a:off x="304560" y="4876920"/>
            <a:ext cx="2176200" cy="1195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scientists"/>
          <p:cNvPicPr/>
          <p:nvPr/>
        </p:nvPicPr>
        <p:blipFill>
          <a:blip r:embed="rId4"/>
          <a:stretch/>
        </p:blipFill>
        <p:spPr>
          <a:xfrm>
            <a:off x="7010280" y="4952880"/>
            <a:ext cx="1981440" cy="1630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 Rounded MT Bold"/>
              </a:rPr>
              <a:t>The </a:t>
            </a:r>
            <a:br>
              <a:rPr sz="7200"/>
            </a:br>
            <a:r>
              <a:rPr b="1" lang="en-US" sz="7200" spc="-1" strike="noStrike">
                <a:solidFill>
                  <a:srgbClr val="0000ff"/>
                </a:solidFill>
                <a:latin typeface="Arial Rounded MT Bold"/>
              </a:rPr>
              <a:t>Scientific </a:t>
            </a:r>
            <a:br>
              <a:rPr sz="7200"/>
            </a:br>
            <a:r>
              <a:rPr b="1" lang="en-US" sz="7200" spc="-1" strike="noStrike">
                <a:solidFill>
                  <a:srgbClr val="0000ff"/>
                </a:solidFill>
                <a:latin typeface="Arial Rounded MT Bold"/>
              </a:rPr>
              <a:t>Method</a:t>
            </a:r>
            <a:endParaRPr b="1" i="1" lang="en-US" sz="7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Hypotheses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47920" y="9907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First, what hypotheses do you have about what the garbologists would find in the typical American garbage and in Landfil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228600" y="990720"/>
          <a:ext cx="920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920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8"/>
          <p:cNvSpPr/>
          <p:nvPr/>
        </p:nvSpPr>
        <p:spPr>
          <a:xfrm>
            <a:off x="2133720" y="2590920"/>
            <a:ext cx="588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ack"/>
              </a:rPr>
              <a:t>The Garbage Project developed several hypotheses and questions based on questionnaires and other general knowledge….</a:t>
            </a: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grpSp>
        <p:nvGrpSpPr>
          <p:cNvPr id="149" name="Group 17"/>
          <p:cNvGrpSpPr/>
          <p:nvPr/>
        </p:nvGrpSpPr>
        <p:grpSpPr>
          <a:xfrm>
            <a:off x="1905120" y="4572000"/>
            <a:ext cx="6324480" cy="1447920"/>
            <a:chOff x="1905120" y="4572000"/>
            <a:chExt cx="6324480" cy="1447920"/>
          </a:xfrm>
        </p:grpSpPr>
        <p:pic>
          <p:nvPicPr>
            <p:cNvPr id="150" name="Picture 9" descr="images"/>
            <p:cNvPicPr/>
            <p:nvPr/>
          </p:nvPicPr>
          <p:blipFill>
            <a:blip r:embed="rId3"/>
            <a:stretch/>
          </p:blipFill>
          <p:spPr>
            <a:xfrm>
              <a:off x="1905120" y="4800600"/>
              <a:ext cx="16574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1" descr="m363526"/>
            <p:cNvPicPr/>
            <p:nvPr/>
          </p:nvPicPr>
          <p:blipFill>
            <a:blip r:embed="rId4"/>
            <a:stretch/>
          </p:blipFill>
          <p:spPr>
            <a:xfrm>
              <a:off x="3886200" y="4572000"/>
              <a:ext cx="82404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2" descr="MiniTiernotaggersq5"/>
            <p:cNvPicPr/>
            <p:nvPr/>
          </p:nvPicPr>
          <p:blipFill>
            <a:blip r:embed="rId5"/>
            <a:stretch/>
          </p:blipFill>
          <p:spPr>
            <a:xfrm>
              <a:off x="5029200" y="472428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3" descr="10240305"/>
            <p:cNvPicPr/>
            <p:nvPr/>
          </p:nvPicPr>
          <p:blipFill>
            <a:blip r:embed="rId6"/>
            <a:stretch/>
          </p:blipFill>
          <p:spPr>
            <a:xfrm>
              <a:off x="6400800" y="4648320"/>
              <a:ext cx="1828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Hypotheses and Specific Questions the Garbology Project Generated: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Landfills are filling up with fast food packaging and lots of plastic waste – as based on surveys of what many Americans think is in our was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aper and food products biodegrade ove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What is the relationship between what people say they do and eat, and what is actually found in their garb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228600" y="990720"/>
          <a:ext cx="920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920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Picture 5" descr="OEN_156"/>
          <p:cNvPicPr/>
          <p:nvPr/>
        </p:nvPicPr>
        <p:blipFill>
          <a:blip r:embed="rId3"/>
          <a:stretch/>
        </p:blipFill>
        <p:spPr>
          <a:xfrm>
            <a:off x="152280" y="4724280"/>
            <a:ext cx="10861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Methods and Data Collection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How would you test the hypothe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gL-03-B-Auger-4"/>
          <p:cNvPicPr/>
          <p:nvPr/>
        </p:nvPicPr>
        <p:blipFill>
          <a:blip r:embed="rId1"/>
          <a:stretch/>
        </p:blipFill>
        <p:spPr>
          <a:xfrm>
            <a:off x="2133720" y="1676520"/>
            <a:ext cx="2550960" cy="3200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gL-04-Bucket-4"/>
          <p:cNvPicPr/>
          <p:nvPr/>
        </p:nvPicPr>
        <p:blipFill>
          <a:blip r:embed="rId2"/>
          <a:stretch/>
        </p:blipFill>
        <p:spPr>
          <a:xfrm>
            <a:off x="5638680" y="1676520"/>
            <a:ext cx="2197080" cy="3276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2084040" y="5359320"/>
            <a:ext cx="52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Systematically excavate, or dig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in landfill….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830040" y="5105520"/>
            <a:ext cx="250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oper Black"/>
              </a:rPr>
              <a:t>metamedia.stanford.edu 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Randomly collect household garbage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k"/>
          <p:cNvPicPr/>
          <p:nvPr/>
        </p:nvPicPr>
        <p:blipFill>
          <a:blip r:embed="rId1"/>
          <a:stretch/>
        </p:blipFill>
        <p:spPr>
          <a:xfrm>
            <a:off x="3746520" y="2133720"/>
            <a:ext cx="2197080" cy="3200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OEN_156"/>
          <p:cNvPicPr/>
          <p:nvPr/>
        </p:nvPicPr>
        <p:blipFill>
          <a:blip r:embed="rId2"/>
          <a:stretch/>
        </p:blipFill>
        <p:spPr>
          <a:xfrm>
            <a:off x="1523880" y="2514600"/>
            <a:ext cx="1954440" cy="2057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SKH_030"/>
          <p:cNvPicPr/>
          <p:nvPr/>
        </p:nvPicPr>
        <p:blipFill>
          <a:blip r:embed="rId3"/>
          <a:stretch/>
        </p:blipFill>
        <p:spPr>
          <a:xfrm>
            <a:off x="6248520" y="2593800"/>
            <a:ext cx="2514600" cy="20545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Methods and Data Collection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pic>
        <p:nvPicPr>
          <p:cNvPr id="175" name="Picture 14" descr="gF-02-HappySort-4"/>
          <p:cNvPicPr/>
          <p:nvPr/>
        </p:nvPicPr>
        <p:blipFill>
          <a:blip r:embed="rId1"/>
          <a:stretch/>
        </p:blipFill>
        <p:spPr>
          <a:xfrm>
            <a:off x="5334120" y="1523880"/>
            <a:ext cx="3504960" cy="2551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gL-04-SugarSDig-4"/>
          <p:cNvPicPr/>
          <p:nvPr/>
        </p:nvPicPr>
        <p:blipFill>
          <a:blip r:embed="rId2"/>
          <a:stretch/>
        </p:blipFill>
        <p:spPr>
          <a:xfrm>
            <a:off x="1447920" y="1523880"/>
            <a:ext cx="3657600" cy="25354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2117880" y="49053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834560" y="4800600"/>
            <a:ext cx="659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… </a:t>
            </a: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sort contents layer by layer </a:t>
            </a:r>
            <a:endParaRPr b="1" lang="en-US" sz="36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Cooper Black"/>
              </a:rPr>
              <a:t>and bag by bag …</a:t>
            </a:r>
            <a:endParaRPr b="1" lang="en-US" sz="36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3105000" y="4191120"/>
            <a:ext cx="416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oper Black"/>
              </a:rPr>
              <a:t>http://metamedia.stanford.edu/projects/GarbologyOnline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Methods and Data Collection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2117880" y="490536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026440" y="5049720"/>
            <a:ext cx="661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… </a:t>
            </a: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and record observations about what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     </a:t>
            </a:r>
            <a:r>
              <a:rPr b="0" lang="en-US" sz="2800" spc="-1" strike="noStrike">
                <a:solidFill>
                  <a:srgbClr val="ff6600"/>
                </a:solidFill>
                <a:latin typeface="Cooper Black"/>
              </a:rPr>
              <a:t>You find!!!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</p:txBody>
      </p:sp>
      <p:pic>
        <p:nvPicPr>
          <p:cNvPr id="185" name="Picture 11" descr="garbologyrecording"/>
          <p:cNvPicPr/>
          <p:nvPr/>
        </p:nvPicPr>
        <p:blipFill>
          <a:blip r:embed="rId1"/>
          <a:stretch/>
        </p:blipFill>
        <p:spPr>
          <a:xfrm>
            <a:off x="1816200" y="1063800"/>
            <a:ext cx="5270400" cy="373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Text Box 12"/>
          <p:cNvSpPr/>
          <p:nvPr/>
        </p:nvSpPr>
        <p:spPr>
          <a:xfrm>
            <a:off x="6360840" y="4343400"/>
            <a:ext cx="233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oper Black"/>
              </a:rPr>
              <a:t>Rathje and Murphy </a:t>
            </a:r>
            <a:endParaRPr b="1" lang="en-US" sz="900" spc="-1" strike="noStrike">
              <a:solidFill>
                <a:srgbClr val="ff0000"/>
              </a:solidFill>
              <a:latin typeface="Cooper Black"/>
            </a:endParaRPr>
          </a:p>
          <a:p>
            <a:pPr marL="743040" indent="-285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oper Black"/>
              </a:rPr>
              <a:t>(2001:73)</a:t>
            </a:r>
            <a:endParaRPr b="1" lang="en-US" sz="9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0"/>
          <p:cNvSpPr/>
          <p:nvPr/>
        </p:nvSpPr>
        <p:spPr>
          <a:xfrm>
            <a:off x="1279440" y="4572000"/>
            <a:ext cx="805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2) Plastic bottles, soda cans, and fast food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packaging less than 1%!!!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buClr>
                <a:srgbClr val="000000"/>
              </a:buClr>
              <a:buFont typeface="Cooper Black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Items such as lettuce 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nd old fruit lasted over 15 years!</a:t>
            </a:r>
            <a:endParaRPr b="1" lang="en-US" sz="2800" spc="-1" strike="noStrike">
              <a:solidFill>
                <a:srgbClr val="ff0000"/>
              </a:solidFill>
              <a:latin typeface="Cooper Black"/>
            </a:endParaRPr>
          </a:p>
        </p:txBody>
      </p:sp>
      <p:pic>
        <p:nvPicPr>
          <p:cNvPr id="189" name="Picture 13" descr="Lettuce 2"/>
          <p:cNvPicPr/>
          <p:nvPr/>
        </p:nvPicPr>
        <p:blipFill>
          <a:blip r:embed="rId1"/>
          <a:stretch/>
        </p:blipFill>
        <p:spPr>
          <a:xfrm>
            <a:off x="6324480" y="5238720"/>
            <a:ext cx="993960" cy="7491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2300"/>
                </a:solidFill>
                <a:latin typeface="Arial Rounded MT Bold"/>
              </a:rPr>
              <a:t>Project Observations: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1) Landfills contain almost 40% newspapers between 15 and 40 years old!!!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newspaper"/>
          <p:cNvPicPr/>
          <p:nvPr/>
        </p:nvPicPr>
        <p:blipFill>
          <a:blip r:embed="rId2"/>
          <a:stretch/>
        </p:blipFill>
        <p:spPr>
          <a:xfrm>
            <a:off x="3124080" y="2133720"/>
            <a:ext cx="2238480" cy="170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3" name="Picture 5" descr="newspaper_stacks_red"/>
          <p:cNvPicPr/>
          <p:nvPr/>
        </p:nvPicPr>
        <p:blipFill>
          <a:blip r:embed="rId3"/>
          <a:stretch/>
        </p:blipFill>
        <p:spPr>
          <a:xfrm rot="1522200">
            <a:off x="4723920" y="2514600"/>
            <a:ext cx="1622520" cy="191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Picture 6" descr="newspaper2"/>
          <p:cNvPicPr/>
          <p:nvPr/>
        </p:nvPicPr>
        <p:blipFill>
          <a:blip r:embed="rId4"/>
          <a:stretch/>
        </p:blipFill>
        <p:spPr>
          <a:xfrm rot="20260800">
            <a:off x="6095520" y="2133360"/>
            <a:ext cx="1435320" cy="21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11" descr="PlasticBags"/>
          <p:cNvPicPr/>
          <p:nvPr/>
        </p:nvPicPr>
        <p:blipFill>
          <a:blip r:embed="rId5"/>
          <a:stretch/>
        </p:blipFill>
        <p:spPr>
          <a:xfrm rot="934800">
            <a:off x="7314840" y="5105520"/>
            <a:ext cx="595440" cy="857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recycle_5"/>
          <p:cNvPicPr/>
          <p:nvPr/>
        </p:nvPicPr>
        <p:blipFill>
          <a:blip r:embed="rId6"/>
          <a:stretch/>
        </p:blipFill>
        <p:spPr>
          <a:xfrm rot="19498200">
            <a:off x="8001000" y="5257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2300"/>
                </a:solidFill>
                <a:latin typeface="Arial Rounded MT Bold"/>
              </a:rPr>
              <a:t>Inferences - What do the observations mean?</a:t>
            </a:r>
            <a:endParaRPr b="1" i="1" lang="en-US" sz="2800" spc="-1" strike="noStrike">
              <a:solidFill>
                <a:srgbClr val="682300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228600" y="1066680"/>
          <a:ext cx="893880" cy="19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93880" cy="19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12"/>
          <p:cNvSpPr/>
          <p:nvPr/>
        </p:nvSpPr>
        <p:spPr>
          <a:xfrm>
            <a:off x="1219320" y="1143000"/>
            <a:ext cx="777240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Do the observations support the hypotheses?   </a:t>
            </a: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oper Black"/>
              </a:rPr>
              <a:t>NO!!!   </a:t>
            </a:r>
            <a:endParaRPr b="1" lang="en-US" sz="40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Landfills are not filling up with plastics, but with 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paper and construction products.  Items that we would expect to decompose do not always.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Recycling of paper products, in addition to plastics,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oper Black"/>
              </a:rPr>
              <a:t>is not a major activity in modern society in comparison to the total amount of garbage!</a:t>
            </a: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2300"/>
                </a:solidFill>
                <a:latin typeface="Arial Rounded MT Bold"/>
              </a:rPr>
              <a:t>Conclusions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228600" y="1066680"/>
          <a:ext cx="893880" cy="19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93880" cy="19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6" name="Picture 7" descr="gL-03-B-Auger-4"/>
          <p:cNvPicPr/>
          <p:nvPr/>
        </p:nvPicPr>
        <p:blipFill>
          <a:blip r:embed="rId3"/>
          <a:stretch/>
        </p:blipFill>
        <p:spPr>
          <a:xfrm>
            <a:off x="1600200" y="914400"/>
            <a:ext cx="1397160" cy="1752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gL-01-Dumping-4"/>
          <p:cNvPicPr/>
          <p:nvPr/>
        </p:nvPicPr>
        <p:blipFill>
          <a:blip r:embed="rId4"/>
          <a:stretch/>
        </p:blipFill>
        <p:spPr>
          <a:xfrm>
            <a:off x="2819520" y="1523880"/>
            <a:ext cx="1828800" cy="146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gL-04-SugarSDig-4"/>
          <p:cNvPicPr/>
          <p:nvPr/>
        </p:nvPicPr>
        <p:blipFill>
          <a:blip r:embed="rId5"/>
          <a:stretch/>
        </p:blipFill>
        <p:spPr>
          <a:xfrm>
            <a:off x="4572000" y="1219320"/>
            <a:ext cx="3124080" cy="2165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gF-02-HappySort-4"/>
          <p:cNvPicPr/>
          <p:nvPr/>
        </p:nvPicPr>
        <p:blipFill>
          <a:blip r:embed="rId6"/>
          <a:stretch/>
        </p:blipFill>
        <p:spPr>
          <a:xfrm>
            <a:off x="3505320" y="2666880"/>
            <a:ext cx="2209680" cy="1608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newspaper"/>
          <p:cNvPicPr/>
          <p:nvPr/>
        </p:nvPicPr>
        <p:blipFill>
          <a:blip r:embed="rId7"/>
          <a:stretch/>
        </p:blipFill>
        <p:spPr>
          <a:xfrm>
            <a:off x="5359320" y="2914560"/>
            <a:ext cx="1563840" cy="11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Picture 12" descr="newspaper_stacks_red"/>
          <p:cNvPicPr/>
          <p:nvPr/>
        </p:nvPicPr>
        <p:blipFill>
          <a:blip r:embed="rId8"/>
          <a:stretch/>
        </p:blipFill>
        <p:spPr>
          <a:xfrm rot="1522200">
            <a:off x="6552720" y="3200400"/>
            <a:ext cx="1254240" cy="147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Picture 13" descr="newspaper2"/>
          <p:cNvPicPr/>
          <p:nvPr/>
        </p:nvPicPr>
        <p:blipFill>
          <a:blip r:embed="rId9"/>
          <a:stretch/>
        </p:blipFill>
        <p:spPr>
          <a:xfrm rot="20260800">
            <a:off x="7843320" y="2696760"/>
            <a:ext cx="1022400" cy="15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Text Box 15"/>
          <p:cNvSpPr/>
          <p:nvPr/>
        </p:nvSpPr>
        <p:spPr>
          <a:xfrm>
            <a:off x="1447920" y="472428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Recycling, especially of paper, needs to be a PRIORITY!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People need to find ways to compost! 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  <a:p>
            <a:pPr marL="457200" indent="-457200">
              <a:buClr>
                <a:srgbClr val="000000"/>
              </a:buClr>
              <a:buFont typeface="Cooper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What people think is in their garbage is not necessarily what is really there!!! and……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oper Blac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What people say they eat and do is not always necessarily the case!</a:t>
            </a:r>
            <a:endParaRPr b="1" lang="en-US" sz="18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82300"/>
                </a:solidFill>
                <a:latin typeface="Times New Roman"/>
              </a:rPr>
              <a:t>Important references</a:t>
            </a:r>
            <a:endParaRPr b="1" i="1" lang="en-US" sz="36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ubbish: The Archaeology of Garb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by William Rathje and Cullen Murphy. The University of Arizona Press, Tucson,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metamedia.stanford.edu/ projects/GarbologyOnli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4582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82300"/>
                </a:solidFill>
                <a:latin typeface="Arial Rounded MT Bold"/>
              </a:rPr>
              <a:t>How do scientists know what they know?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graphicFrame>
        <p:nvGraphicFramePr>
          <p:cNvPr id="96" name="Object 16"/>
          <p:cNvGraphicFramePr/>
          <p:nvPr/>
        </p:nvGraphicFramePr>
        <p:xfrm>
          <a:off x="228600" y="1143000"/>
          <a:ext cx="920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920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" name="Group 32"/>
          <p:cNvGrpSpPr/>
          <p:nvPr/>
        </p:nvGrpSpPr>
        <p:grpSpPr>
          <a:xfrm>
            <a:off x="1724040" y="1219320"/>
            <a:ext cx="3152880" cy="2101680"/>
            <a:chOff x="1724040" y="1219320"/>
            <a:chExt cx="3152880" cy="2101680"/>
          </a:xfrm>
        </p:grpSpPr>
        <p:pic>
          <p:nvPicPr>
            <p:cNvPr id="99" name="Picture 24" descr="CAMGH4VC"/>
            <p:cNvPicPr/>
            <p:nvPr/>
          </p:nvPicPr>
          <p:blipFill>
            <a:blip r:embed="rId3"/>
            <a:stretch/>
          </p:blipFill>
          <p:spPr>
            <a:xfrm>
              <a:off x="1724040" y="1219320"/>
              <a:ext cx="3152880" cy="21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7"/>
            <p:cNvSpPr/>
            <p:nvPr/>
          </p:nvSpPr>
          <p:spPr>
            <a:xfrm>
              <a:off x="1945080" y="2362320"/>
              <a:ext cx="25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 Rounded MT Bold"/>
                </a:rPr>
                <a:t>Why is the sky blue?</a:t>
              </a:r>
              <a:endParaRPr b="1" lang="en-US" sz="20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grpSp>
        <p:nvGrpSpPr>
          <p:cNvPr id="101" name="Group 33"/>
          <p:cNvGrpSpPr/>
          <p:nvPr/>
        </p:nvGrpSpPr>
        <p:grpSpPr>
          <a:xfrm>
            <a:off x="5357880" y="1219320"/>
            <a:ext cx="3405240" cy="2133360"/>
            <a:chOff x="5357880" y="1219320"/>
            <a:chExt cx="3405240" cy="2133360"/>
          </a:xfrm>
        </p:grpSpPr>
        <p:pic>
          <p:nvPicPr>
            <p:cNvPr id="102" name="Picture 25" descr="rain"/>
            <p:cNvPicPr/>
            <p:nvPr/>
          </p:nvPicPr>
          <p:blipFill>
            <a:blip r:embed="rId4"/>
            <a:stretch/>
          </p:blipFill>
          <p:spPr>
            <a:xfrm>
              <a:off x="5357880" y="1219320"/>
              <a:ext cx="340524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9"/>
            <p:cNvSpPr/>
            <p:nvPr/>
          </p:nvSpPr>
          <p:spPr>
            <a:xfrm>
              <a:off x="6045120" y="1371600"/>
              <a:ext cx="20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 Rounded MT Bold"/>
                </a:rPr>
                <a:t>Why does it rain?</a:t>
              </a:r>
              <a:endParaRPr b="1" lang="en-US" sz="18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grpSp>
        <p:nvGrpSpPr>
          <p:cNvPr id="104" name="Group 31"/>
          <p:cNvGrpSpPr/>
          <p:nvPr/>
        </p:nvGrpSpPr>
        <p:grpSpPr>
          <a:xfrm>
            <a:off x="1752480" y="3479760"/>
            <a:ext cx="3124440" cy="2062080"/>
            <a:chOff x="1752480" y="3479760"/>
            <a:chExt cx="3124440" cy="2062080"/>
          </a:xfrm>
        </p:grpSpPr>
        <p:pic>
          <p:nvPicPr>
            <p:cNvPr id="105" name="Picture 28" descr="hadleighdig"/>
            <p:cNvPicPr/>
            <p:nvPr/>
          </p:nvPicPr>
          <p:blipFill>
            <a:blip r:embed="rId5"/>
            <a:stretch/>
          </p:blipFill>
          <p:spPr>
            <a:xfrm>
              <a:off x="1752480" y="3479760"/>
              <a:ext cx="3124440" cy="20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0"/>
            <p:cNvSpPr/>
            <p:nvPr/>
          </p:nvSpPr>
          <p:spPr>
            <a:xfrm>
              <a:off x="1814760" y="3505320"/>
              <a:ext cx="301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00"/>
                  </a:solidFill>
                  <a:latin typeface="Arial Rounded MT Bold"/>
                </a:rPr>
                <a:t>How did people live in the past?</a:t>
              </a:r>
              <a:endParaRPr b="1" lang="en-US" sz="16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grpSp>
        <p:nvGrpSpPr>
          <p:cNvPr id="107" name="Group 30"/>
          <p:cNvGrpSpPr/>
          <p:nvPr/>
        </p:nvGrpSpPr>
        <p:grpSpPr>
          <a:xfrm>
            <a:off x="5410080" y="3581280"/>
            <a:ext cx="3353040" cy="1925640"/>
            <a:chOff x="5410080" y="3581280"/>
            <a:chExt cx="3353040" cy="1925640"/>
          </a:xfrm>
        </p:grpSpPr>
        <p:pic>
          <p:nvPicPr>
            <p:cNvPr id="108" name="Picture 29" descr="grand%20canyon%20saturated"/>
            <p:cNvPicPr/>
            <p:nvPr/>
          </p:nvPicPr>
          <p:blipFill>
            <a:blip r:embed="rId6"/>
            <a:stretch/>
          </p:blipFill>
          <p:spPr>
            <a:xfrm>
              <a:off x="5410080" y="3581280"/>
              <a:ext cx="335304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1"/>
            <p:cNvSpPr/>
            <p:nvPr/>
          </p:nvSpPr>
          <p:spPr>
            <a:xfrm>
              <a:off x="5826960" y="365760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 Rounded MT Bold"/>
                </a:rPr>
                <a:t>How old is the Earth?</a:t>
              </a:r>
              <a:endParaRPr b="1" lang="en-US" sz="1800" spc="-1" strike="noStrike">
                <a:solidFill>
                  <a:srgbClr val="ff0000"/>
                </a:solidFill>
                <a:latin typeface="Cooper Black"/>
              </a:endParaRPr>
            </a:p>
          </p:txBody>
        </p:sp>
      </p:grpSp>
      <p:sp>
        <p:nvSpPr>
          <p:cNvPr id="110" name="Text Box 34"/>
          <p:cNvSpPr/>
          <p:nvPr/>
        </p:nvSpPr>
        <p:spPr>
          <a:xfrm>
            <a:off x="3864240" y="5630760"/>
            <a:ext cx="27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 Rounded MT Bold"/>
              </a:rPr>
              <a:t>Answer….</a:t>
            </a:r>
            <a:endParaRPr b="1" lang="en-US" sz="44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82300"/>
                </a:solidFill>
                <a:latin typeface="Arial Rounded MT Bold"/>
              </a:rPr>
              <a:t>THE SCIENTIFIC METHOD!!!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lack"/>
              </a:rPr>
              <a:t>A step-by-ste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oper Black"/>
              </a:rPr>
              <a:t>process scientists use to answer questions and solve proble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1768680" y="5181480"/>
            <a:ext cx="711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Cooper Black"/>
              </a:rPr>
              <a:t>The steps of the Scientific Method are: </a:t>
            </a:r>
            <a:endParaRPr b="1" lang="en-US" sz="3000" spc="-1" strike="noStrike">
              <a:solidFill>
                <a:srgbClr val="ff0000"/>
              </a:solidFill>
              <a:latin typeface="Cooper Black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82300"/>
                </a:solidFill>
                <a:latin typeface="Arial Rounded MT Bold"/>
              </a:rPr>
              <a:t>THE SCIENTIFIC METHOD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1) Research Ques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oper Black"/>
              </a:rPr>
              <a:t>The problem or issue you want to learn more abou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2) Hypothesi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Testable Prediction </a:t>
            </a:r>
            <a:r>
              <a:rPr b="0" lang="en-US" sz="1600" spc="-1" strike="noStrike">
                <a:solidFill>
                  <a:srgbClr val="0000ff"/>
                </a:solidFill>
                <a:latin typeface="Cooper Black"/>
              </a:rPr>
              <a:t>that follows from your research question that can be tested and evalu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3) Method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What will be your procedures for testing your hypothesi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4) Data Colle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Record observations regarding data related to the problem you are interested 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5) Inferences/Interpr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What can you say about your hypothesis based on your observations?  Is your hypothesis supported by your observation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oper Black"/>
              </a:rPr>
              <a:t>6) Sharing your concl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oper Black"/>
              </a:rPr>
              <a:t>Scientists write reports and give presentations to inform others about their research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1237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Applying the Scientific Method:</a:t>
            </a:r>
            <a:br>
              <a:rPr sz="4000"/>
            </a:b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Archaeology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82300"/>
                </a:solidFill>
                <a:latin typeface="Times New Roman"/>
              </a:rPr>
              <a:t>What’s Archaeology and Who’s an</a:t>
            </a:r>
            <a:br>
              <a:rPr sz="3200"/>
            </a:br>
            <a:r>
              <a:rPr b="1" i="1" lang="en-US" sz="3200" spc="-1" strike="noStrike">
                <a:solidFill>
                  <a:srgbClr val="682300"/>
                </a:solidFill>
                <a:latin typeface="Times New Roman"/>
              </a:rPr>
              <a:t>Archaeologist?</a:t>
            </a:r>
            <a:endParaRPr b="1" i="1" lang="en-US" sz="32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72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ae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tudy of human activity and the past through material re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aeologis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scientist who studies humans, past and present, through their material re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ses the Scientific Method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4" descr="DSCN0566"/>
          <p:cNvPicPr/>
          <p:nvPr/>
        </p:nvPicPr>
        <p:blipFill>
          <a:blip r:embed="rId1"/>
          <a:stretch/>
        </p:blipFill>
        <p:spPr>
          <a:xfrm>
            <a:off x="5403960" y="914400"/>
            <a:ext cx="3555720" cy="266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DSCF0130"/>
          <p:cNvPicPr/>
          <p:nvPr/>
        </p:nvPicPr>
        <p:blipFill>
          <a:blip r:embed="rId2"/>
          <a:stretch/>
        </p:blipFill>
        <p:spPr>
          <a:xfrm>
            <a:off x="5403960" y="3733920"/>
            <a:ext cx="355572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16"/>
          <p:cNvGraphicFramePr/>
          <p:nvPr/>
        </p:nvGraphicFramePr>
        <p:xfrm>
          <a:off x="152280" y="1066680"/>
          <a:ext cx="1027080" cy="221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066680"/>
                    <a:ext cx="10270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81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3772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lack"/>
              </a:rPr>
              <a:t>Not all archaeologists study the p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oper Black"/>
              </a:rPr>
              <a:t>Some investigate material remains from our own society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5638680" y="5943600"/>
            <a:ext cx="2833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oper Black"/>
              </a:rPr>
              <a:t>Bill Rathje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33cc"/>
                </a:solidFill>
                <a:uFillTx/>
                <a:latin typeface="Cooper Black"/>
                <a:hlinkClick r:id="rId1"/>
              </a:rPr>
              <a:t>http://www.psihoyos.com/pages/Stock/Portraits/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oper Black"/>
              </a:rPr>
              <a:t>rathje-william/pages/rathje-william0001.html</a:t>
            </a:r>
            <a:endParaRPr b="1" lang="en-US" sz="800" spc="-1" strike="noStrike">
              <a:solidFill>
                <a:srgbClr val="ff0000"/>
              </a:solidFill>
              <a:latin typeface="Cooper Black"/>
            </a:endParaRPr>
          </a:p>
        </p:txBody>
      </p:sp>
      <p:pic>
        <p:nvPicPr>
          <p:cNvPr id="131" name="Picture 11" descr="rathje-william0001"/>
          <p:cNvPicPr/>
          <p:nvPr/>
        </p:nvPicPr>
        <p:blipFill>
          <a:blip r:embed="rId2"/>
          <a:stretch/>
        </p:blipFill>
        <p:spPr>
          <a:xfrm>
            <a:off x="5448240" y="914400"/>
            <a:ext cx="3467160" cy="50292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520" y="345456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82300"/>
                </a:solidFill>
                <a:latin typeface="Times New Roman"/>
              </a:rPr>
              <a:t>The Garbology Project</a:t>
            </a:r>
            <a:br>
              <a:rPr sz="4000"/>
            </a:b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94920" y="44193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ubbish: The Archaeology of Garb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y William Rathje and Cullen Murphy. The University of Arizona Press, Tucson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2300"/>
                </a:solidFill>
                <a:latin typeface="Arial Rounded MT Bold"/>
              </a:rPr>
              <a:t>The Garbage Project</a:t>
            </a:r>
            <a:endParaRPr b="1" i="1" lang="en-US" sz="4000" spc="-1" strike="noStrike">
              <a:solidFill>
                <a:srgbClr val="6823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Began at the University of Arizona in 1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As part of their research method, project personnel have studied over 250,000 lbs of garbage from American households and Landfills since 197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oper Black"/>
              </a:rPr>
              <a:t>Research Ques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oper Black"/>
              </a:rPr>
              <a:t>What can we learn about our own society from the garbage we throw a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71600" y="37339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KNK_224"/>
          <p:cNvPicPr/>
          <p:nvPr/>
        </p:nvPicPr>
        <p:blipFill>
          <a:blip r:embed="rId1"/>
          <a:stretch/>
        </p:blipFill>
        <p:spPr>
          <a:xfrm>
            <a:off x="152280" y="990720"/>
            <a:ext cx="1143000" cy="1076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OEN_156"/>
          <p:cNvPicPr/>
          <p:nvPr/>
        </p:nvPicPr>
        <p:blipFill>
          <a:blip r:embed="rId2"/>
          <a:stretch/>
        </p:blipFill>
        <p:spPr>
          <a:xfrm>
            <a:off x="152280" y="502920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SWMmainpage2"/>
          <p:cNvPicPr/>
          <p:nvPr/>
        </p:nvPicPr>
        <p:blipFill>
          <a:blip r:embed="rId3"/>
          <a:stretch/>
        </p:blipFill>
        <p:spPr>
          <a:xfrm>
            <a:off x="2057400" y="3886200"/>
            <a:ext cx="2476440" cy="2152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muggalanelandfillimage"/>
          <p:cNvPicPr/>
          <p:nvPr/>
        </p:nvPicPr>
        <p:blipFill>
          <a:blip r:embed="rId4"/>
          <a:stretch/>
        </p:blipFill>
        <p:spPr>
          <a:xfrm>
            <a:off x="5181480" y="3886200"/>
            <a:ext cx="2982960" cy="223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000" spc="-1" strike="noStrike">
              <a:solidFill>
                <a:srgbClr val="ff0000"/>
              </a:solidFill>
              <a:latin typeface="Cooper Black"/>
            </a:endParaRPr>
          </a:p>
        </p:txBody>
      </p:sp>
    </p:spTree>
  </p:cSld>
  <p:transition spd="med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9:44Z</dcterms:created>
  <dc:creator>Jonathan Haas</dc:creator>
  <dc:description/>
  <dc:language>en-US</dc:language>
  <cp:lastModifiedBy>Legion</cp:lastModifiedBy>
  <dcterms:modified xsi:type="dcterms:W3CDTF">2017-07-04T12:40:36Z</dcterms:modified>
  <cp:revision>64</cp:revision>
  <dc:subject/>
  <dc:title>The  Scientific  Meth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31033</vt:lpwstr>
  </property>
</Properties>
</file>