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31.png" ContentType="image/png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1FA1-94A1-4D9F-8947-1F2DC6BA28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fic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hat hypotheses do you have about what the garbologists would find in the typical American garbage and in Landfi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 developed several hypotheses and questions based on questionnaires and other general knowled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 and Specific Questions the Garbology Project Gener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filling up with fast food packaging and lots of plastic waste – as based on surveys of what many Americans think is in our was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food products biodegrad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elationship between what people say they do and eat, and what is actually found in their garb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 and Specific Questions the Garbology Project Generated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food products biodegrade over time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 test the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atically excavate, or 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ndfill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media.stanford.e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would you test the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ystematically excavate, or dig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 landfill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amedia.stanford.edu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ly collect household garba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ndomly collect household garba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t contents layer by lay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bag by bag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projects/Garbology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rt contents layer by layer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bag by bag 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projects/GarbologyOnlin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ecord observations about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fin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 and Murph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001:7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record observations about wha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You fin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 and Murphy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(2001:73)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Plastic bottles, soda cans, and fast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ing less than 1%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ms such as lettu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ld fruit lasted over 15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Observ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Landfills contain almost 40% newspapers between 15 and 40 years old!!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Plastic bottles, soda cans, and fast fo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ckaging less than 1%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tems such as lettuce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old fruit lasted over 15 years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ject Observation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Landfills contain almost 40% newspapers between 15 and 40 years old!!!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rences - What do the observation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observations support the hypotheses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!!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not filling up with plastics, but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construction products.  Items that we would expect to decompose do not al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 of paper products, in addition to plastic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not a major activity in modern society in comparison to the total amount of garb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ferences - What do the observations mean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Do the observations support the hypotheses?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not filling up with plastics, but with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 of paper products, in addition to plastics,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, especially of paper, needs to be a PRIORIT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need to find ways to compost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think is in their garbage is not necessarily what is really there!!! a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say they eat and do is not always necessarily the c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, especially of paper, needs to be a PRIORITY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eople need to find ways to compost!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say they eat and do is not always necessarily the cas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 projects/GarbologyOnl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mportant referenc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 projects/GarbologyOnline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cientists know what the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do scientists know what they know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swer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ep-by-ste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scientists use to answer questions and solve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eps of the Scientific Metho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tep-by-step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cess scientists use to answer questions and solve problem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eps of the Scientific Method are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or issue you want to learn more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Hypothe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able Prediction that follows from your research question that can be tested and evalu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Metho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be your procedures for testing your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ata Colle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bservations regarding data related to the problem you are interested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nferences/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ay about your hypothesis based on your observations?  Is your hypothesis supported by your observ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Sharing your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write reports and give presentations to inform others about their researc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problem or issue you want to learn more about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Hypothesi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estable Prediction that follows from your research question that can be tested and evaluated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3) Method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will be your procedures for testing your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4) Data Collec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ord observations regarding data related to the problem you are interested in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5) Inferences/Interpreta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6) Sharing your 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sts write reports and give presentations to inform others about their research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ing the Scientific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pplying the Scientific Method: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Archaeology and Who’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human activity and the past through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who studies humans, past and present, through their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’s Archaeology and Who’s an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udy of human activity and the past through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cientist who studies humans, past and present, through their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Uses 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archaeologists study the pa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nvestigate material remains from our own societ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Rath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sihoyos.com/pages/Stock/Portrait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-william/pages/rathje-william000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t all archaeologists study the past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me investigate material remains from our own society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ill Rathj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www.psihoyos.com/pages/Stock/Portraits/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-william/pages/rathje-william0001.html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ology Pro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ology Project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an at the University of Arizona in 19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art of their research method, project personnel have studied over 250,000 lbs of garbage from American households and Landfills since 19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we learn about our own society from the garbage we throw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egan at the University of Arizona in 1973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8B8-4B69-45C5-8FF9-B12299FC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F0C-B7AB-4CA2-AE83-E520CD6B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1FC-BFB3-4408-A05D-9F3D18EE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F5D-5853-4C75-88E1-5F3D5FA2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1D67-6F9B-4BF8-8E79-34C6F87C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133E-937A-4A67-88D8-EE7F678F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72B1-ED6B-4F44-A56C-7AE5F59C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1041-7E38-4FD6-8BFB-8AA76102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8D33-D127-426D-8D7D-CD04DE88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4BE5-3C3E-4BEA-B34D-75ADC6B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55C1-2BCF-44A7-A707-E5AD4A3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E06-ADB9-44B8-835E-B55F7C17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EA0A-7396-4ECC-99B1-DA1A319E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7F55-B876-4CED-9F17-8E886D8B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4A42-30A2-45F9-9E0F-C5BD19C8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188B-0E35-400A-AEA6-6A32CBB1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2BEA-4642-4A1B-99F3-2C496872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F7E-7E3E-4DDE-A50C-342976CE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F80-0AE9-4E43-9D67-4D2197C1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112-DE62-4676-AFE1-B983EFC8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688-D547-4D37-BF29-92D629A4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053-B5C4-497C-94F8-D954DD5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F4F-EDEF-4C1F-A832-32C1F5A5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75E-372E-4B69-A99D-9428ACE9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6087-A62B-49AE-BC8E-2CF2533A60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5A8C-73C9-4306-9F8F-58EAF4A775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3.jpeg"/><Relationship Id="rId4" Type="http://schemas.openxmlformats.org/officeDocument/2006/relationships/image" Target="../media/image36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ihoyos.com/pages/Stock/Portraits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icroscope2"/>
          <p:cNvPicPr/>
          <p:nvPr/>
        </p:nvPicPr>
        <p:blipFill>
          <a:blip r:embed="rId1"/>
          <a:stretch/>
        </p:blipFill>
        <p:spPr>
          <a:xfrm>
            <a:off x="228600" y="380880"/>
            <a:ext cx="1719360" cy="187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untitled"/>
          <p:cNvPicPr/>
          <p:nvPr/>
        </p:nvPicPr>
        <p:blipFill>
          <a:blip r:embed="rId2"/>
          <a:stretch/>
        </p:blipFill>
        <p:spPr>
          <a:xfrm>
            <a:off x="7607160" y="22860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rotractor"/>
          <p:cNvPicPr/>
          <p:nvPr/>
        </p:nvPicPr>
        <p:blipFill>
          <a:blip r:embed="rId3"/>
          <a:stretch/>
        </p:blipFill>
        <p:spPr>
          <a:xfrm rot="2224200">
            <a:off x="304560" y="4876920"/>
            <a:ext cx="217620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cientists"/>
          <p:cNvPicPr/>
          <p:nvPr/>
        </p:nvPicPr>
        <p:blipFill>
          <a:blip r:embed="rId4"/>
          <a:stretch/>
        </p:blipFill>
        <p:spPr>
          <a:xfrm>
            <a:off x="7010280" y="4952880"/>
            <a:ext cx="1981440" cy="163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The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Scientific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Method</a:t>
            </a:r>
            <a:endParaRPr b="1" i="1" lang="en-US" sz="7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8"/>
          <p:cNvSpPr/>
          <p:nvPr/>
        </p:nvSpPr>
        <p:spPr>
          <a:xfrm>
            <a:off x="2133720" y="2590920"/>
            <a:ext cx="588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1905120" y="4572000"/>
            <a:ext cx="6324480" cy="1447920"/>
            <a:chOff x="1905120" y="4572000"/>
            <a:chExt cx="6324480" cy="1447920"/>
          </a:xfrm>
        </p:grpSpPr>
        <p:pic>
          <p:nvPicPr>
            <p:cNvPr id="150" name="Picture 9" descr="images"/>
            <p:cNvPicPr/>
            <p:nvPr/>
          </p:nvPicPr>
          <p:blipFill>
            <a:blip r:embed="rId3"/>
            <a:stretch/>
          </p:blipFill>
          <p:spPr>
            <a:xfrm>
              <a:off x="1905120" y="4800600"/>
              <a:ext cx="16574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m363526"/>
            <p:cNvPicPr/>
            <p:nvPr/>
          </p:nvPicPr>
          <p:blipFill>
            <a:blip r:embed="rId4"/>
            <a:stretch/>
          </p:blipFill>
          <p:spPr>
            <a:xfrm>
              <a:off x="3886200" y="4572000"/>
              <a:ext cx="824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2" descr="MiniTiernotaggersq5"/>
            <p:cNvPicPr/>
            <p:nvPr/>
          </p:nvPicPr>
          <p:blipFill>
            <a:blip r:embed="rId5"/>
            <a:stretch/>
          </p:blipFill>
          <p:spPr>
            <a:xfrm>
              <a:off x="5029200" y="47242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3" descr="10240305"/>
            <p:cNvPicPr/>
            <p:nvPr/>
          </p:nvPicPr>
          <p:blipFill>
            <a:blip r:embed="rId6"/>
            <a:stretch/>
          </p:blipFill>
          <p:spPr>
            <a:xfrm>
              <a:off x="6400800" y="464832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 and Specific Questions the Garbology Project Generated: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per and food products biodegrade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OEN_156"/>
          <p:cNvPicPr/>
          <p:nvPr/>
        </p:nvPicPr>
        <p:blipFill>
          <a:blip r:embed="rId3"/>
          <a:stretch/>
        </p:blipFill>
        <p:spPr>
          <a:xfrm>
            <a:off x="152280" y="4724280"/>
            <a:ext cx="10861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ow would you tes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gL-03-B-Auger-4"/>
          <p:cNvPicPr/>
          <p:nvPr/>
        </p:nvPicPr>
        <p:blipFill>
          <a:blip r:embed="rId1"/>
          <a:stretch/>
        </p:blipFill>
        <p:spPr>
          <a:xfrm>
            <a:off x="2133720" y="1676520"/>
            <a:ext cx="255096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L-04-Bucket-4"/>
          <p:cNvPicPr/>
          <p:nvPr/>
        </p:nvPicPr>
        <p:blipFill>
          <a:blip r:embed="rId2"/>
          <a:stretch/>
        </p:blipFill>
        <p:spPr>
          <a:xfrm>
            <a:off x="5638680" y="1676520"/>
            <a:ext cx="2197080" cy="32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084040" y="535932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Systematically excavate, or dig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in landfill….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30040" y="5105520"/>
            <a:ext cx="25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metamedia.stanford.edu 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Randomly collect household garbag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k"/>
          <p:cNvPicPr/>
          <p:nvPr/>
        </p:nvPicPr>
        <p:blipFill>
          <a:blip r:embed="rId1"/>
          <a:stretch/>
        </p:blipFill>
        <p:spPr>
          <a:xfrm>
            <a:off x="3746520" y="2133720"/>
            <a:ext cx="219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EN_156"/>
          <p:cNvPicPr/>
          <p:nvPr/>
        </p:nvPicPr>
        <p:blipFill>
          <a:blip r:embed="rId2"/>
          <a:stretch/>
        </p:blipFill>
        <p:spPr>
          <a:xfrm>
            <a:off x="1523880" y="25146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KH_030"/>
          <p:cNvPicPr/>
          <p:nvPr/>
        </p:nvPicPr>
        <p:blipFill>
          <a:blip r:embed="rId3"/>
          <a:stretch/>
        </p:blipFill>
        <p:spPr>
          <a:xfrm>
            <a:off x="6248520" y="2593800"/>
            <a:ext cx="2514600" cy="2054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pic>
        <p:nvPicPr>
          <p:cNvPr id="175" name="Picture 14" descr="gF-02-HappySort-4"/>
          <p:cNvPicPr/>
          <p:nvPr/>
        </p:nvPicPr>
        <p:blipFill>
          <a:blip r:embed="rId1"/>
          <a:stretch/>
        </p:blipFill>
        <p:spPr>
          <a:xfrm>
            <a:off x="5334120" y="1523880"/>
            <a:ext cx="3504960" cy="255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gL-04-SugarSDig-4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253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834560" y="480060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sort contents layer by layer 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and bag by bag …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105000" y="4191120"/>
            <a:ext cx="41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http://metamedia.stanford.edu/projects/GarbologyOnline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26440" y="5049720"/>
            <a:ext cx="66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and record observations about what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You find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5" name="Picture 11" descr="garbologyrecording"/>
          <p:cNvPicPr/>
          <p:nvPr/>
        </p:nvPicPr>
        <p:blipFill>
          <a:blip r:embed="rId1"/>
          <a:stretch/>
        </p:blipFill>
        <p:spPr>
          <a:xfrm>
            <a:off x="1816200" y="1063800"/>
            <a:ext cx="5270400" cy="37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12"/>
          <p:cNvSpPr/>
          <p:nvPr/>
        </p:nvSpPr>
        <p:spPr>
          <a:xfrm>
            <a:off x="6360840" y="4343400"/>
            <a:ext cx="233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Rathje and Murphy 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(2001:73)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1279440" y="4572000"/>
            <a:ext cx="805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2) Plastic bottles, soda cans, and fast food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ackaging less than 1%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tems such as lettuce 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old fruit lasted over 15 years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9" name="Picture 13" descr="Lettuce 2"/>
          <p:cNvPicPr/>
          <p:nvPr/>
        </p:nvPicPr>
        <p:blipFill>
          <a:blip r:embed="rId1"/>
          <a:stretch/>
        </p:blipFill>
        <p:spPr>
          <a:xfrm>
            <a:off x="6324480" y="5238720"/>
            <a:ext cx="993960" cy="749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Project Observations: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1) Landfills contain almost 40% newspapers between 15 and 40 years old!!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newspaper"/>
          <p:cNvPicPr/>
          <p:nvPr/>
        </p:nvPicPr>
        <p:blipFill>
          <a:blip r:embed="rId2"/>
          <a:stretch/>
        </p:blipFill>
        <p:spPr>
          <a:xfrm>
            <a:off x="3124080" y="2133720"/>
            <a:ext cx="223848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5" descr="newspaper_stacks_red"/>
          <p:cNvPicPr/>
          <p:nvPr/>
        </p:nvPicPr>
        <p:blipFill>
          <a:blip r:embed="rId3"/>
          <a:stretch/>
        </p:blipFill>
        <p:spPr>
          <a:xfrm rot="1522200">
            <a:off x="4723920" y="2514600"/>
            <a:ext cx="162252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6" descr="newspaper2"/>
          <p:cNvPicPr/>
          <p:nvPr/>
        </p:nvPicPr>
        <p:blipFill>
          <a:blip r:embed="rId4"/>
          <a:stretch/>
        </p:blipFill>
        <p:spPr>
          <a:xfrm rot="20260800">
            <a:off x="6095520" y="2133360"/>
            <a:ext cx="14353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11" descr="PlasticBags"/>
          <p:cNvPicPr/>
          <p:nvPr/>
        </p:nvPicPr>
        <p:blipFill>
          <a:blip r:embed="rId5"/>
          <a:stretch/>
        </p:blipFill>
        <p:spPr>
          <a:xfrm rot="934800">
            <a:off x="7314840" y="5105520"/>
            <a:ext cx="59544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recycle_5"/>
          <p:cNvPicPr/>
          <p:nvPr/>
        </p:nvPicPr>
        <p:blipFill>
          <a:blip r:embed="rId6"/>
          <a:stretch/>
        </p:blipFill>
        <p:spPr>
          <a:xfrm rot="19498200">
            <a:off x="80010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300"/>
                </a:solidFill>
                <a:latin typeface="Arial Rounded MT Bold"/>
              </a:rPr>
              <a:t>Inferences - What do the observations mean?</a:t>
            </a:r>
            <a:endParaRPr b="1" i="1" lang="en-US" sz="28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12"/>
          <p:cNvSpPr/>
          <p:nvPr/>
        </p:nvSpPr>
        <p:spPr>
          <a:xfrm>
            <a:off x="1219320" y="114300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o the observations support the hypotheses?   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40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Landfills are not filling up with plastics, but with 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Recycling of paper products, in addition to plastics,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Conclusion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7" descr="gL-03-B-Auger-4"/>
          <p:cNvPicPr/>
          <p:nvPr/>
        </p:nvPicPr>
        <p:blipFill>
          <a:blip r:embed="rId3"/>
          <a:stretch/>
        </p:blipFill>
        <p:spPr>
          <a:xfrm>
            <a:off x="1600200" y="914400"/>
            <a:ext cx="1397160" cy="1752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gL-01-Dumping-4"/>
          <p:cNvPicPr/>
          <p:nvPr/>
        </p:nvPicPr>
        <p:blipFill>
          <a:blip r:embed="rId4"/>
          <a:stretch/>
        </p:blipFill>
        <p:spPr>
          <a:xfrm>
            <a:off x="2819520" y="1523880"/>
            <a:ext cx="1828800" cy="146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L-04-SugarSDig-4"/>
          <p:cNvPicPr/>
          <p:nvPr/>
        </p:nvPicPr>
        <p:blipFill>
          <a:blip r:embed="rId5"/>
          <a:stretch/>
        </p:blipFill>
        <p:spPr>
          <a:xfrm>
            <a:off x="4572000" y="1219320"/>
            <a:ext cx="3124080" cy="2165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F-02-HappySort-4"/>
          <p:cNvPicPr/>
          <p:nvPr/>
        </p:nvPicPr>
        <p:blipFill>
          <a:blip r:embed="rId6"/>
          <a:stretch/>
        </p:blipFill>
        <p:spPr>
          <a:xfrm>
            <a:off x="3505320" y="2666880"/>
            <a:ext cx="22096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newspaper"/>
          <p:cNvPicPr/>
          <p:nvPr/>
        </p:nvPicPr>
        <p:blipFill>
          <a:blip r:embed="rId7"/>
          <a:stretch/>
        </p:blipFill>
        <p:spPr>
          <a:xfrm>
            <a:off x="5359320" y="2914560"/>
            <a:ext cx="1563840" cy="11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2" descr="newspaper_stacks_red"/>
          <p:cNvPicPr/>
          <p:nvPr/>
        </p:nvPicPr>
        <p:blipFill>
          <a:blip r:embed="rId8"/>
          <a:stretch/>
        </p:blipFill>
        <p:spPr>
          <a:xfrm rot="1522200">
            <a:off x="6552720" y="3200400"/>
            <a:ext cx="1254240" cy="14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13" descr="newspaper2"/>
          <p:cNvPicPr/>
          <p:nvPr/>
        </p:nvPicPr>
        <p:blipFill>
          <a:blip r:embed="rId9"/>
          <a:stretch/>
        </p:blipFill>
        <p:spPr>
          <a:xfrm rot="20260800">
            <a:off x="7843320" y="2696760"/>
            <a:ext cx="102240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Text Box 15"/>
          <p:cNvSpPr/>
          <p:nvPr/>
        </p:nvSpPr>
        <p:spPr>
          <a:xfrm>
            <a:off x="1447920" y="4724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Recycling, especially of paper, needs to be a PRIORITY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eople need to find ways to compost! 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oper Blac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say they eat and do is not always necessarily the case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82300"/>
                </a:solidFill>
                <a:latin typeface="Times New Roman"/>
              </a:rPr>
              <a:t>Important referenc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etamedia.stanford.edu/ projects/Garbology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How do scientists know what they know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96" name="Object 16"/>
          <p:cNvGraphicFramePr/>
          <p:nvPr/>
        </p:nvGraphicFramePr>
        <p:xfrm>
          <a:off x="228600" y="114300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32"/>
          <p:cNvGrpSpPr/>
          <p:nvPr/>
        </p:nvGrpSpPr>
        <p:grpSpPr>
          <a:xfrm>
            <a:off x="1724040" y="1219320"/>
            <a:ext cx="3152880" cy="2101680"/>
            <a:chOff x="1724040" y="1219320"/>
            <a:chExt cx="3152880" cy="2101680"/>
          </a:xfrm>
        </p:grpSpPr>
        <p:pic>
          <p:nvPicPr>
            <p:cNvPr id="99" name="Picture 24" descr="CAMGH4VC"/>
            <p:cNvPicPr/>
            <p:nvPr/>
          </p:nvPicPr>
          <p:blipFill>
            <a:blip r:embed="rId3"/>
            <a:stretch/>
          </p:blipFill>
          <p:spPr>
            <a:xfrm>
              <a:off x="1724040" y="1219320"/>
              <a:ext cx="3152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1945080" y="2362320"/>
              <a:ext cx="25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 Rounded MT Bold"/>
                </a:rPr>
                <a:t>Why is the sky blue?</a:t>
              </a:r>
              <a:endParaRPr b="1" lang="en-US" sz="20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5357880" y="1219320"/>
            <a:ext cx="3405240" cy="2133360"/>
            <a:chOff x="5357880" y="1219320"/>
            <a:chExt cx="3405240" cy="2133360"/>
          </a:xfrm>
        </p:grpSpPr>
        <p:pic>
          <p:nvPicPr>
            <p:cNvPr id="102" name="Picture 25" descr="rain"/>
            <p:cNvPicPr/>
            <p:nvPr/>
          </p:nvPicPr>
          <p:blipFill>
            <a:blip r:embed="rId4"/>
            <a:stretch/>
          </p:blipFill>
          <p:spPr>
            <a:xfrm>
              <a:off x="5357880" y="1219320"/>
              <a:ext cx="34052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6045120" y="13716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Rounded MT Bold"/>
                </a:rPr>
                <a:t>Why does it rain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4" name="Group 31"/>
          <p:cNvGrpSpPr/>
          <p:nvPr/>
        </p:nvGrpSpPr>
        <p:grpSpPr>
          <a:xfrm>
            <a:off x="1752480" y="3479760"/>
            <a:ext cx="3124440" cy="2062080"/>
            <a:chOff x="1752480" y="3479760"/>
            <a:chExt cx="3124440" cy="2062080"/>
          </a:xfrm>
        </p:grpSpPr>
        <p:pic>
          <p:nvPicPr>
            <p:cNvPr id="105" name="Picture 28" descr="hadleighdig"/>
            <p:cNvPicPr/>
            <p:nvPr/>
          </p:nvPicPr>
          <p:blipFill>
            <a:blip r:embed="rId5"/>
            <a:stretch/>
          </p:blipFill>
          <p:spPr>
            <a:xfrm>
              <a:off x="1752480" y="3479760"/>
              <a:ext cx="312444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1814760" y="3505320"/>
              <a:ext cx="30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Arial Rounded MT Bold"/>
                </a:rPr>
                <a:t>How did people live in the past?</a:t>
              </a:r>
              <a:endParaRPr b="1" lang="en-US" sz="16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5410080" y="3581280"/>
            <a:ext cx="3353040" cy="1925640"/>
            <a:chOff x="5410080" y="3581280"/>
            <a:chExt cx="3353040" cy="1925640"/>
          </a:xfrm>
        </p:grpSpPr>
        <p:pic>
          <p:nvPicPr>
            <p:cNvPr id="108" name="Picture 29" descr="grand%20canyon%20saturated"/>
            <p:cNvPicPr/>
            <p:nvPr/>
          </p:nvPicPr>
          <p:blipFill>
            <a:blip r:embed="rId6"/>
            <a:stretch/>
          </p:blipFill>
          <p:spPr>
            <a:xfrm>
              <a:off x="5410080" y="3581280"/>
              <a:ext cx="335304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582696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 Rounded MT Bold"/>
                </a:rPr>
                <a:t>How old is the Earth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sp>
        <p:nvSpPr>
          <p:cNvPr id="110" name="Text Box 34"/>
          <p:cNvSpPr/>
          <p:nvPr/>
        </p:nvSpPr>
        <p:spPr>
          <a:xfrm>
            <a:off x="3864240" y="5630760"/>
            <a:ext cx="27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Answer….</a:t>
            </a:r>
            <a:endParaRPr b="1" lang="en-US" sz="4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!!!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A step-by-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process scientists use to answer questions and solve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8680" y="5181480"/>
            <a:ext cx="711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oper Black"/>
              </a:rPr>
              <a:t>The steps of the Scientific Method are: </a:t>
            </a:r>
            <a:endParaRPr b="1" lang="en-US" sz="30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1) Research Ques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e problem or issue you want to learn more ab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2) Hypothe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Testable Prediction </a:t>
            </a: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at follows from your research question that can be tested and evalu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3)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will be your procedures for testing your hypothes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4) Data Coll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Record observations regarding data related to the problem you are interested 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5) Inferences/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6) Sharing your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Scientists write reports and give presentations to inform others about their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123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pplying the Scientific Method:</a:t>
            </a:r>
            <a:br>
              <a:rPr sz="4000"/>
            </a:b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rchaeology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What’s Archaeology and Who’s an</a:t>
            </a:r>
            <a:br>
              <a:rPr sz="3200"/>
            </a:b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Archaeologist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udy of human activity and the past through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i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cientist who studies humans, past and present, through their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s the Scientific Metho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4" descr="DSCN0566"/>
          <p:cNvPicPr/>
          <p:nvPr/>
        </p:nvPicPr>
        <p:blipFill>
          <a:blip r:embed="rId1"/>
          <a:stretch/>
        </p:blipFill>
        <p:spPr>
          <a:xfrm>
            <a:off x="5403960" y="91440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DSCF0130"/>
          <p:cNvPicPr/>
          <p:nvPr/>
        </p:nvPicPr>
        <p:blipFill>
          <a:blip r:embed="rId2"/>
          <a:stretch/>
        </p:blipFill>
        <p:spPr>
          <a:xfrm>
            <a:off x="5403960" y="3733920"/>
            <a:ext cx="355572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6"/>
          <p:cNvGraphicFramePr/>
          <p:nvPr/>
        </p:nvGraphicFramePr>
        <p:xfrm>
          <a:off x="152280" y="1066680"/>
          <a:ext cx="102708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1027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Not all archaeologists study the p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Some investigate material remains from our own socie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638680" y="5943600"/>
            <a:ext cx="283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oper Black"/>
              </a:rPr>
              <a:t>Bill Rathje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cc"/>
                </a:solidFill>
                <a:uFillTx/>
                <a:latin typeface="Cooper Black"/>
                <a:hlinkClick r:id="rId1"/>
              </a:rPr>
              <a:t>http://www.psihoyos.com/pages/Stock/Portraits/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oper Black"/>
              </a:rPr>
              <a:t>rathje-william/pages/rathje-william0001.html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31" name="Picture 11" descr="rathje-william0001"/>
          <p:cNvPicPr/>
          <p:nvPr/>
        </p:nvPicPr>
        <p:blipFill>
          <a:blip r:embed="rId2"/>
          <a:stretch/>
        </p:blipFill>
        <p:spPr>
          <a:xfrm>
            <a:off x="5448240" y="914400"/>
            <a:ext cx="34671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345456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The Garbology Project</a:t>
            </a:r>
            <a:br>
              <a:rPr sz="4000"/>
            </a:b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The Garbage Projec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Began at the University of Arizona in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KNK_224"/>
          <p:cNvPicPr/>
          <p:nvPr/>
        </p:nvPicPr>
        <p:blipFill>
          <a:blip r:embed="rId1"/>
          <a:stretch/>
        </p:blipFill>
        <p:spPr>
          <a:xfrm>
            <a:off x="152280" y="990720"/>
            <a:ext cx="1143000" cy="107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OEN_156"/>
          <p:cNvPicPr/>
          <p:nvPr/>
        </p:nvPicPr>
        <p:blipFill>
          <a:blip r:embed="rId2"/>
          <a:stretch/>
        </p:blipFill>
        <p:spPr>
          <a:xfrm>
            <a:off x="152280" y="502920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SWMmainpage2"/>
          <p:cNvPicPr/>
          <p:nvPr/>
        </p:nvPicPr>
        <p:blipFill>
          <a:blip r:embed="rId3"/>
          <a:stretch/>
        </p:blipFill>
        <p:spPr>
          <a:xfrm>
            <a:off x="2057400" y="3886200"/>
            <a:ext cx="2476440" cy="215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uggalanelandfillimage"/>
          <p:cNvPicPr/>
          <p:nvPr/>
        </p:nvPicPr>
        <p:blipFill>
          <a:blip r:embed="rId4"/>
          <a:stretch/>
        </p:blipFill>
        <p:spPr>
          <a:xfrm>
            <a:off x="5181480" y="3886200"/>
            <a:ext cx="2982960" cy="22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9:44Z</dcterms:created>
  <dc:creator>Jonathan Haas</dc:creator>
  <dc:description/>
  <dc:language>en-US</dc:language>
  <cp:lastModifiedBy>Legion</cp:lastModifiedBy>
  <dcterms:modified xsi:type="dcterms:W3CDTF">2017-07-04T12:40:36Z</dcterms:modified>
  <cp:revision>64</cp:revision>
  <dc:subject/>
  <dc:title>The  Scientific  Meth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31033</vt:lpwstr>
  </property>
</Properties>
</file>