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5715-CB4C-455E-8F6D-48B9E18827A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rchaeology?:</a:t>
            </a:r>
            <a:br>
              <a:rPr sz="1200"/>
            </a:br>
            <a:r>
              <a:rPr b="0" lang="en-US" sz="1200" spc="-1" strike="noStrike">
                <a:solidFill>
                  <a:srgbClr val="000000"/>
                </a:solidFill>
                <a:latin typeface="Calibri"/>
              </a:rPr>
              <a:t>Studying Pas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 and Cultur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Archaeology?:</a:t>
            </a:r>
            <a:br>
              <a:rPr sz="1200"/>
            </a:br>
            <a:r>
              <a:rPr b="0" lang="en-US" sz="1200" spc="-1" strike="noStrike">
                <a:solidFill>
                  <a:srgbClr val="ffffff"/>
                </a:solidFill>
                <a:latin typeface="Times New Roman"/>
              </a:rPr>
              <a:t>Studying Past Cul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 and Culture Proc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at complex whole which includes knowledge, belief, art, morals, law, custom, and any other capabilities and habits acquired by a[person] as a member of society” Edward Ty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nonbiological means by which human societies adapt to and accomodate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is a society’s traditional system of belief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human culture and animal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an animal dies, its experiences die with them.  But what about prim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at complex whole which includes knowledge, belief, art, morals, law, custom, and any other capabilities and habits acquired by a[person] as a member of society” Edward Ty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nonbiological means by which human societies adapt to and accomodate thei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is a society’s traditional system of beliefs and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difference between human culture and animal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when an animal dies, its experiences die with them.  But what about prim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lex system comprising a set of interacting variabl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lements function to maintain a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ne element changes, others are e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study Cultural Systems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omplex system comprising a set of interacting variables, inclu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elements function to maintain a commun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one element changes, others are effec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we study Cultural Systems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by which human societies chang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was generally slow and gra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Proc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es by which human societies changed in the pas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change was generally slow and gradu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Proces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en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u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g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t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do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Organized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Ev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t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b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efdom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Organized Societ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rchaeology Relevant to the Pre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Goals of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king Archaeology Relevant to the Pres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indian (15-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ic (10-3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land (3-1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ippian (1kya-500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World (Europe/Af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lithic (2 mya-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olithic (10 kya-6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olithic (6 kya-4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nze Age (4 kya-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 Age (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th Ame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indian (15-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ic (10-3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odland (3-1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ssippian (1kya-500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World (Europe/Af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lithic (2 mya-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olithic (10 kya-6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olithic (6 kya-4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onze Age (4 kya-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ron Age (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intknapping-Making 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ec.ny.gov/images/administration_images/0807flintknap.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intknapping-Making 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dec.ny.gov/images/administration_images/0807flintknap.jp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work in the first half of the 19th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in work in the first half of the 19th centur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mp; Relevance to 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pathology: A 20,000-Skeleton Perspective The diagnosis of various pathologies is a major tool for both archaeology and medicine. This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amp; Relevance to the Pres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pathology: A 20,000-Skeleton Perspective The diagnosis of various pathologies is a major tool for both archaeology and medicine. This s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Histor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Typ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olog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Historic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Typ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erimental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deolog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mbol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History-Pot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History-Pott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Ethno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noarchaeology of the Kali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ew of Dangtalan looking north. The irrigated fie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rder the village on the east, west, and south. Notic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riability in house sizes as well as construction materials (e.g., thatch vs. corrugated iron sheets for the roo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Ethno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hnoarchaeology of the Kaling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iew of Dangtalan looking north. The irrigated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order the village on the east, west, and south. Notice th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ariability in house sizes as well as construction materials (e.g., thatch vs. corrugated iron sheets for the roof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mag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hen Itza- The player on the left holds the severed head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feated player on the right. From the trunk spouts blood in the form of seven serpents. In the center is the 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Imag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chen Itza- The player on the left holds the severed head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defeated player on the right. From the trunk spouts blood in the form of seven serpents. In the center is the ba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s-Studied by Paleoanthrop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rved remains of creatures from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orm when an organism dies, is buried, and over long periods of time the organic part decays and is replaced by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bones form s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 localities are where fossils ar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sites-Studied by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s of past huma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ettlements with ceremonial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hunting ca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s-Studied by Paleoanthrop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erved remains of creatures from the p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form when an organism dies, is buried, and over long periods of time the organic part decays and is replaced by miner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bones form st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 localities are where fossils are fou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cal sites-Studied by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ces of past human 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settlements with ceremonial cente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hunting c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Objects found and studied by archaeologists which have been made or modified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e tools, bone tools, pottery most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facts- nonartifactual remains found at archaeological sites, such as animals bones, shells, plant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provide ecological and subsistenc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tures- Nonmoveable artifacts such as hearths, pits or house fl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reveal information such as settlement and 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s- Objects found and studied by archaeologists which have been made or modified by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ne tools, bone tools, pottery most comm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facts- nonartifactual remains found at archaeological sites, such as animals bones, shells, plant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provide ecological and subsistence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atures- Nonmoveable artifacts such as hearths, pits or house flo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reveal information such as settlement and 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rtifacts context is it's specific location where it was found and how it relates to other artifact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stone arrowhead is found with newspapers and plastic bottles, what would you conclude about the arrowhead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a pot on its own may tell you how it was made or what it was made from, but if it is removed from its context archaeologists have no idea what it was associat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artifacts context is it's specific location where it was found and how it relates to other artifacts around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A stone arrowhead is found with newspapers and plastic bottles, what would you conclude about the arrowhead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ng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ng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Controlled Survey, Remote Sen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 Ver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ing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14, Dendro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and Regiona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ing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ting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ident, Controlled Survey, Remote Sens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cav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rizontal, Vert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ing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rbon 14, Dendro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e and Regional Synthe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 or it is n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vs.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are after artifacts for money or for personal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are after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is the most important thing to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nd space in which objects occur in the 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study of the past in thi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 or it is no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vs.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are after artifacts for money or for personal coll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 are after knowled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 is the most important thing to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ime and space in which objects occur in the 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ic study of the past in thi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use of written sources, architecture and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recent historic times, may be text a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water archaeologists-study waterlogged sites or artifacts with special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historic-cultures before written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orld vs. Old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ical-use of written sources, architecture and ar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recent historic times, may be text aid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water archaeologists-study waterlogged sites or artifacts with special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historic-cultures before written rec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World vs. Old Worl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particular artifacts or eco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archaeologists-animal bones from archaeological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hic analysts-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ethnobotanists-botanical remains, domest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archaeologists-human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te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earch on particular artifacts or eco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oarchaeologists-animal bones from archaeological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thic analysts-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ethnobotanists-botanical remains, domest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oarchaeologists-human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am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ite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c.,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280ED-86FB-4FF6-9B78-AEEAB9D73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2FC4C-C138-4C79-8213-17F88C67E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7046C-B4A1-44FC-849C-5FE2C2E70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16159-6797-4FD0-B551-200D68897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C79E7-B11C-4DD6-85F7-718B76FB0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3B9EE-33B0-453A-9A0D-8B70A936A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585F6-72DE-4402-97AE-F4129676E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1388F-25C6-477E-BCFF-31D62DFD2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8331B-E3DD-4626-8DEC-9FA35A1D0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8AB43-19EC-4A17-B281-755527608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2348D-C0FD-4F09-8994-C735DE805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A4C2C-4B00-47D3-A4E5-33AC7034D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0B767-351C-4A99-9608-C207CF8B2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F1C60-EE3D-41EF-93A2-456AB769F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C4850-743A-43CF-9F91-8848ECC49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157B3-77B7-4493-923A-730139101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57DA3-C8EC-4D97-BC19-CF3A56123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82432-BA21-420D-97A5-7DF556631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A875A-8E66-46A1-A774-4B696B2C5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6D418-4924-4060-A859-BDB489D69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F8BEE-EE20-479D-A403-B336C7DA0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2019E-711C-44C2-A2CF-255A2E44F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CD082-BF2D-4F9F-A31C-C29A8DAAA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3B61-875C-4860-8D53-3A916BA82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9A57-AA28-487E-BFC4-D21395523F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C819-D508-4BE7-9209-4650F7A921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990360"/>
            <a:ext cx="7721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rchaeology?:</a:t>
            </a:r>
            <a:br>
              <a:rPr sz="4400"/>
            </a:br>
            <a:r>
              <a:rPr b="0" lang="en-US" sz="4400" spc="-1" strike="noStrike">
                <a:solidFill>
                  <a:srgbClr val="ffff00"/>
                </a:solidFill>
                <a:latin typeface="Times New Roman"/>
              </a:rPr>
              <a:t>Studying Past Cultures</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625400" y="3352320"/>
            <a:ext cx="6908760" cy="2305080"/>
          </a:xfrm>
          <a:prstGeom prst="rect">
            <a:avLst/>
          </a:prstGeom>
          <a:noFill/>
          <a:ln w="0">
            <a:noFill/>
          </a:ln>
        </p:spPr>
        <p:txBody>
          <a:bodyPr lIns="92160" rIns="92160" tIns="46080" bIns="46080" anchor="t">
            <a:noAutofit/>
          </a:bodyPr>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at is Culture?</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al Systems and Culture Process</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oals of Archaeology</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in Archaeology</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0600"/>
            <a:ext cx="77724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hat is Culture?</a:t>
            </a:r>
            <a:br>
              <a:rPr sz="4400"/>
            </a:br>
            <a:endParaRPr b="0" lang="en-US" sz="4400" spc="-1" strike="noStrike">
              <a:solidFill>
                <a:srgbClr val="ffff00"/>
              </a:solidFill>
              <a:latin typeface="Times New Roman"/>
            </a:endParaRPr>
          </a:p>
        </p:txBody>
      </p:sp>
      <p:sp>
        <p:nvSpPr>
          <p:cNvPr id="128" name="PlaceHolder 2"/>
          <p:cNvSpPr>
            <a:spLocks noGrp="1"/>
          </p:cNvSpPr>
          <p:nvPr>
            <p:ph/>
          </p:nvPr>
        </p:nvSpPr>
        <p:spPr>
          <a:xfrm>
            <a:off x="1066320" y="990720"/>
            <a:ext cx="7620120" cy="4876560"/>
          </a:xfrm>
          <a:prstGeom prst="rect">
            <a:avLst/>
          </a:prstGeom>
          <a:noFill/>
          <a:ln w="0">
            <a:noFill/>
          </a:ln>
        </p:spPr>
        <p:txBody>
          <a:bodyPr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That complex whole which includes knowledge, belief, art, morals, law, custom, and any other capabilities and habits acquired by a[person] as a member of society” Edward Tyl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nonbiological means by which human societies adapt to and accomodate their environment.</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is a society’s traditional system of beliefs and behavi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is the difference between human culture and animal societies?</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e. when an animal dies, its experiences die with them.  But what about primate societies?</a:t>
            </a:r>
            <a:endParaRPr b="0" lang="en-US" sz="2800" spc="-1" strike="noStrike">
              <a:solidFill>
                <a:srgbClr val="ffffff"/>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System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 Systems</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omplex system comprising a set of interacting variables, including:</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l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rial custom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bsistence</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ligion</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cial organization</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se elements function to maintain a community</a:t>
            </a:r>
            <a:r>
              <a:rPr b="0" lang="en-US" sz="2400" spc="-1" strike="noStrike">
                <a:solidFill>
                  <a:srgbClr val="ffffff"/>
                </a:solidFill>
                <a:latin typeface="Times New Roman"/>
                <a:ea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one element changes, others are effected</a:t>
            </a:r>
            <a:endParaRPr b="0" lang="en-US" sz="24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 do we study Cultural Systems in Archaeology?</a:t>
            </a:r>
            <a:endParaRPr b="0" lang="en-US" sz="28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a:t>
            </a:r>
            <a:endParaRPr b="0" lang="en-US" sz="4400" spc="-1" strike="noStrike">
              <a:solidFill>
                <a:srgbClr val="ffff00"/>
              </a:solidFill>
              <a:latin typeface="Times New Roman"/>
            </a:endParaRPr>
          </a:p>
        </p:txBody>
      </p:sp>
      <p:pic>
        <p:nvPicPr>
          <p:cNvPr id="134" name="Picture 5" descr="stonetools"/>
          <p:cNvPicPr/>
          <p:nvPr/>
        </p:nvPicPr>
        <p:blipFill>
          <a:blip r:embed="rId1"/>
          <a:stretch/>
        </p:blipFill>
        <p:spPr>
          <a:xfrm>
            <a:off x="914400" y="1371600"/>
            <a:ext cx="7543800" cy="48531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rial Customs</a:t>
            </a:r>
            <a:endParaRPr b="0" lang="en-US" sz="4400" spc="-1" strike="noStrike">
              <a:solidFill>
                <a:srgbClr val="ffff00"/>
              </a:solidFill>
              <a:latin typeface="Times New Roman"/>
            </a:endParaRPr>
          </a:p>
        </p:txBody>
      </p:sp>
      <p:pic>
        <p:nvPicPr>
          <p:cNvPr id="137" name="Picture 4" descr="burial"/>
          <p:cNvPicPr/>
          <p:nvPr/>
        </p:nvPicPr>
        <p:blipFill>
          <a:blip r:embed="rId1">
            <a:lum contrast="36000"/>
          </a:blip>
          <a:stretch/>
        </p:blipFill>
        <p:spPr>
          <a:xfrm>
            <a:off x="457200" y="1371600"/>
            <a:ext cx="3276720" cy="2224080"/>
          </a:xfrm>
          <a:prstGeom prst="rect">
            <a:avLst/>
          </a:prstGeom>
          <a:ln w="0">
            <a:noFill/>
          </a:ln>
        </p:spPr>
      </p:pic>
      <p:pic>
        <p:nvPicPr>
          <p:cNvPr id="138" name="Picture 5" descr="burial2"/>
          <p:cNvPicPr/>
          <p:nvPr/>
        </p:nvPicPr>
        <p:blipFill>
          <a:blip r:embed="rId2"/>
          <a:stretch/>
        </p:blipFill>
        <p:spPr>
          <a:xfrm>
            <a:off x="4724280" y="1371600"/>
            <a:ext cx="3319560" cy="2192400"/>
          </a:xfrm>
          <a:prstGeom prst="rect">
            <a:avLst/>
          </a:prstGeom>
          <a:ln w="0">
            <a:noFill/>
          </a:ln>
        </p:spPr>
      </p:pic>
      <p:pic>
        <p:nvPicPr>
          <p:cNvPr id="139" name="Picture 6" descr="burial3"/>
          <p:cNvPicPr/>
          <p:nvPr/>
        </p:nvPicPr>
        <p:blipFill>
          <a:blip r:embed="rId3"/>
          <a:stretch/>
        </p:blipFill>
        <p:spPr>
          <a:xfrm>
            <a:off x="533520" y="4114800"/>
            <a:ext cx="3352680" cy="2087640"/>
          </a:xfrm>
          <a:prstGeom prst="rect">
            <a:avLst/>
          </a:prstGeom>
          <a:ln w="0">
            <a:noFill/>
          </a:ln>
        </p:spPr>
      </p:pic>
      <p:pic>
        <p:nvPicPr>
          <p:cNvPr id="140" name="Picture 7" descr="dogburial"/>
          <p:cNvPicPr/>
          <p:nvPr/>
        </p:nvPicPr>
        <p:blipFill>
          <a:blip r:embed="rId4"/>
          <a:stretch/>
        </p:blipFill>
        <p:spPr>
          <a:xfrm>
            <a:off x="4876920" y="4038480"/>
            <a:ext cx="3276360" cy="21481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a:t>
            </a:r>
            <a:endParaRPr b="0" lang="en-US" sz="4400" spc="-1" strike="noStrike">
              <a:solidFill>
                <a:srgbClr val="ffff00"/>
              </a:solidFill>
              <a:latin typeface="Times New Roman"/>
            </a:endParaRPr>
          </a:p>
        </p:txBody>
      </p:sp>
      <p:pic>
        <p:nvPicPr>
          <p:cNvPr id="143" name="Picture 4" descr="Shellobject"/>
          <p:cNvPicPr/>
          <p:nvPr/>
        </p:nvPicPr>
        <p:blipFill>
          <a:blip r:embed="rId1"/>
          <a:stretch/>
        </p:blipFill>
        <p:spPr>
          <a:xfrm>
            <a:off x="2133720" y="1371600"/>
            <a:ext cx="5562360" cy="517032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Organization</a:t>
            </a:r>
            <a:endParaRPr b="0" lang="en-US" sz="4400" spc="-1" strike="noStrike">
              <a:solidFill>
                <a:srgbClr val="ffff00"/>
              </a:solidFill>
              <a:latin typeface="Times New Roman"/>
            </a:endParaRPr>
          </a:p>
        </p:txBody>
      </p:sp>
      <p:pic>
        <p:nvPicPr>
          <p:cNvPr id="146" name="Picture 3" descr="Teotihuacan"/>
          <p:cNvPicPr/>
          <p:nvPr/>
        </p:nvPicPr>
        <p:blipFill>
          <a:blip r:embed="rId1"/>
          <a:stretch/>
        </p:blipFill>
        <p:spPr>
          <a:xfrm>
            <a:off x="1447920" y="1600200"/>
            <a:ext cx="6629400" cy="451008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e Proces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cesses by which human societies changed in the pas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e change was generally slow and gradu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imary Process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us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gration</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Evolu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estate Socie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nd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ib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iefdom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te-Organized Societi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 Goals of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ur Goals of Archae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tudying Culture Histo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onstructing Past Lifeway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plaining Cultur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ing Archaeology Relevant to the Pres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 Culture History</a:t>
            </a:r>
            <a:endParaRPr b="0" lang="en-US" sz="4400" spc="-1" strike="noStrike">
              <a:solidFill>
                <a:srgbClr val="ffff00"/>
              </a:solidFill>
              <a:latin typeface="Times New Roman"/>
            </a:endParaRPr>
          </a:p>
        </p:txBody>
      </p:sp>
      <p:sp>
        <p:nvSpPr>
          <p:cNvPr id="158" name="PlaceHolder 2"/>
          <p:cNvSpPr>
            <a:spLocks noGrp="1"/>
          </p:cNvSpPr>
          <p:nvPr>
            <p:ph/>
          </p:nvPr>
        </p:nvSpPr>
        <p:spPr>
          <a:xfrm>
            <a:off x="0" y="1641240"/>
            <a:ext cx="44956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Ame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indian (15-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ic (10-3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dland (3-1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ssippian (1kya-500ya)</a:t>
            </a:r>
            <a:endParaRPr b="0" lang="en-US" sz="2800" spc="-1" strike="noStrike">
              <a:solidFill>
                <a:srgbClr val="ffffff"/>
              </a:solidFill>
              <a:latin typeface="Times New Roman"/>
            </a:endParaRPr>
          </a:p>
        </p:txBody>
      </p:sp>
      <p:sp>
        <p:nvSpPr>
          <p:cNvPr id="159" name="PlaceHolder 3"/>
          <p:cNvSpPr>
            <a:spLocks noGrp="1"/>
          </p:cNvSpPr>
          <p:nvPr>
            <p:ph/>
          </p:nvPr>
        </p:nvSpPr>
        <p:spPr>
          <a:xfrm>
            <a:off x="4419360" y="1641240"/>
            <a:ext cx="47242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World (Europe/Af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lithic (2 mya-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olithic (10 kya-6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olithic (6 kya-4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ze Age (4 kya-2.5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on Age (2.5 kya--)</a:t>
            </a:r>
            <a:endParaRPr b="0" lang="en-US" sz="2800" spc="-1" strike="noStrike">
              <a:solidFill>
                <a:srgbClr val="ffffff"/>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rchaeologists?</a:t>
            </a:r>
            <a:endParaRPr b="0" lang="en-US" sz="3600" spc="-1" strike="noStrike">
              <a:solidFill>
                <a:srgbClr val="ffff00"/>
              </a:solidFill>
              <a:latin typeface="Times New Roman"/>
            </a:endParaRPr>
          </a:p>
        </p:txBody>
      </p:sp>
      <p:pic>
        <p:nvPicPr>
          <p:cNvPr id="103" name="Picture 4" descr="MVC-012S"/>
          <p:cNvPicPr/>
          <p:nvPr/>
        </p:nvPicPr>
        <p:blipFill>
          <a:blip r:embed="rId1"/>
          <a:stretch/>
        </p:blipFill>
        <p:spPr>
          <a:xfrm>
            <a:off x="4800600" y="1219320"/>
            <a:ext cx="2932200" cy="5105160"/>
          </a:xfrm>
          <a:prstGeom prst="rect">
            <a:avLst/>
          </a:prstGeom>
          <a:ln w="0">
            <a:noFill/>
          </a:ln>
        </p:spPr>
      </p:pic>
      <p:pic>
        <p:nvPicPr>
          <p:cNvPr id="104" name="Picture 6" descr="splash_02"/>
          <p:cNvPicPr/>
          <p:nvPr/>
        </p:nvPicPr>
        <p:blipFill>
          <a:blip r:embed="rId2"/>
          <a:stretch/>
        </p:blipFill>
        <p:spPr>
          <a:xfrm>
            <a:off x="990720" y="1295280"/>
            <a:ext cx="2698560" cy="510552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structing Past Lifeways</a:t>
            </a:r>
            <a:endParaRPr b="0" lang="en-US" sz="4400" spc="-1" strike="noStrike">
              <a:solidFill>
                <a:srgbClr val="ffff00"/>
              </a:solidFill>
              <a:latin typeface="Times New Roman"/>
            </a:endParaRPr>
          </a:p>
        </p:txBody>
      </p:sp>
      <p:sp>
        <p:nvSpPr>
          <p:cNvPr id="162" name="TextBox 8"/>
          <p:cNvSpPr/>
          <p:nvPr/>
        </p:nvSpPr>
        <p:spPr>
          <a:xfrm>
            <a:off x="2367000" y="510552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ntknapping-Making Stone Tools</a:t>
            </a:r>
            <a:endParaRPr b="0" lang="en-US" sz="2400" spc="-1" strike="noStrike">
              <a:solidFill>
                <a:srgbClr val="ffffff"/>
              </a:solidFill>
              <a:latin typeface="Times New Roman"/>
            </a:endParaRPr>
          </a:p>
        </p:txBody>
      </p:sp>
      <p:pic>
        <p:nvPicPr>
          <p:cNvPr id="163" name="Picture 8" descr="http://www.dec.ny.gov/images/administration_images/0807flintknap.jpg"/>
          <p:cNvPicPr/>
          <p:nvPr/>
        </p:nvPicPr>
        <p:blipFill>
          <a:blip r:embed="rId1"/>
          <a:stretch/>
        </p:blipFill>
        <p:spPr>
          <a:xfrm>
            <a:off x="2057400" y="1371600"/>
            <a:ext cx="4762440" cy="3191040"/>
          </a:xfrm>
          <a:prstGeom prst="rect">
            <a:avLst/>
          </a:prstGeom>
          <a:ln w="0">
            <a:noFill/>
          </a:ln>
        </p:spPr>
      </p:pic>
      <p:sp>
        <p:nvSpPr>
          <p:cNvPr id="164" name="Rectangle 10"/>
          <p:cNvSpPr/>
          <p:nvPr/>
        </p:nvSpPr>
        <p:spPr>
          <a:xfrm>
            <a:off x="2209680" y="6595920"/>
            <a:ext cx="4572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http://www.dec.ny.gov/images/administration_images/0807flintknap.jpg</a:t>
            </a:r>
            <a:endParaRPr b="0" lang="en-US" sz="11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xplaining Culture Change</a:t>
            </a:r>
            <a:endParaRPr b="0" lang="en-US" sz="4400" spc="-1" strike="noStrike">
              <a:solidFill>
                <a:srgbClr val="ffff00"/>
              </a:solidFill>
              <a:latin typeface="Times New Roman"/>
            </a:endParaRPr>
          </a:p>
        </p:txBody>
      </p:sp>
      <p:pic>
        <p:nvPicPr>
          <p:cNvPr id="167" name="Picture 3" descr="Historical"/>
          <p:cNvPicPr/>
          <p:nvPr/>
        </p:nvPicPr>
        <p:blipFill>
          <a:blip r:embed="rId1"/>
          <a:stretch/>
        </p:blipFill>
        <p:spPr>
          <a:xfrm>
            <a:off x="1447920" y="1066680"/>
            <a:ext cx="6400800" cy="4095720"/>
          </a:xfrm>
          <a:prstGeom prst="rect">
            <a:avLst/>
          </a:prstGeom>
          <a:ln w="0">
            <a:noFill/>
          </a:ln>
        </p:spPr>
      </p:pic>
      <p:sp>
        <p:nvSpPr>
          <p:cNvPr id="168" name="Text Box 4"/>
          <p:cNvSpPr/>
          <p:nvPr/>
        </p:nvSpPr>
        <p:spPr>
          <a:xfrm>
            <a:off x="228600" y="530532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work in the first half of the 19th century. </a:t>
            </a:r>
            <a:endParaRPr b="0" lang="en-US" sz="2400" spc="-1" strike="noStrike">
              <a:solidFill>
                <a:srgbClr val="ffffff"/>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0"/>
            <a:ext cx="96775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rchaeology &amp; Relevance to the Present</a:t>
            </a:r>
            <a:endParaRPr b="0" lang="en-US" sz="4400" spc="-1" strike="noStrike">
              <a:solidFill>
                <a:srgbClr val="ffff00"/>
              </a:solidFill>
              <a:latin typeface="Times New Roman"/>
            </a:endParaRPr>
          </a:p>
        </p:txBody>
      </p:sp>
      <p:pic>
        <p:nvPicPr>
          <p:cNvPr id="171" name="Picture 3" descr="Paleopathology"/>
          <p:cNvPicPr/>
          <p:nvPr/>
        </p:nvPicPr>
        <p:blipFill>
          <a:blip r:embed="rId1"/>
          <a:stretch/>
        </p:blipFill>
        <p:spPr>
          <a:xfrm>
            <a:off x="1676520" y="914400"/>
            <a:ext cx="5135400" cy="3429000"/>
          </a:xfrm>
          <a:prstGeom prst="rect">
            <a:avLst/>
          </a:prstGeom>
          <a:ln w="0">
            <a:noFill/>
          </a:ln>
        </p:spPr>
      </p:pic>
      <p:sp>
        <p:nvSpPr>
          <p:cNvPr id="172" name="Text Box 4"/>
          <p:cNvSpPr/>
          <p:nvPr/>
        </p:nvSpPr>
        <p:spPr>
          <a:xfrm>
            <a:off x="0" y="45752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pathology: A 20,000-Skeleton Perspective The diagnosis of various pathologies is a major tool for both archaeology and medicine. This se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2400" spc="-1" strike="noStrike">
              <a:solidFill>
                <a:srgbClr val="ffffff"/>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ory in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Historic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onolog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fact Typ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mental Archae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s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ologic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ism</a:t>
            </a:r>
            <a:endParaRPr b="0" lang="en-US" sz="24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e History-Pottery</a:t>
            </a:r>
            <a:endParaRPr b="0" lang="en-US" sz="4400" spc="-1" strike="noStrike">
              <a:solidFill>
                <a:srgbClr val="ffff00"/>
              </a:solidFill>
              <a:latin typeface="Times New Roman"/>
            </a:endParaRPr>
          </a:p>
        </p:txBody>
      </p:sp>
      <p:pic>
        <p:nvPicPr>
          <p:cNvPr id="178" name="Picture 4" descr="pottery2"/>
          <p:cNvPicPr/>
          <p:nvPr/>
        </p:nvPicPr>
        <p:blipFill>
          <a:blip r:embed="rId1"/>
          <a:stretch/>
        </p:blipFill>
        <p:spPr>
          <a:xfrm>
            <a:off x="4537080" y="3405240"/>
            <a:ext cx="68400" cy="46080"/>
          </a:xfrm>
          <a:prstGeom prst="rect">
            <a:avLst/>
          </a:prstGeom>
          <a:ln w="0">
            <a:noFill/>
          </a:ln>
        </p:spPr>
      </p:pic>
      <p:pic>
        <p:nvPicPr>
          <p:cNvPr id="179" name="Picture 5" descr="pottery1"/>
          <p:cNvPicPr/>
          <p:nvPr/>
        </p:nvPicPr>
        <p:blipFill>
          <a:blip r:embed="rId2"/>
          <a:stretch/>
        </p:blipFill>
        <p:spPr>
          <a:xfrm>
            <a:off x="838080" y="1447920"/>
            <a:ext cx="2819520" cy="1914480"/>
          </a:xfrm>
          <a:prstGeom prst="rect">
            <a:avLst/>
          </a:prstGeom>
          <a:ln w="0">
            <a:noFill/>
          </a:ln>
        </p:spPr>
      </p:pic>
      <p:pic>
        <p:nvPicPr>
          <p:cNvPr id="180" name="Picture 6" descr="pottery2"/>
          <p:cNvPicPr/>
          <p:nvPr/>
        </p:nvPicPr>
        <p:blipFill>
          <a:blip r:embed="rId3"/>
          <a:stretch/>
        </p:blipFill>
        <p:spPr>
          <a:xfrm>
            <a:off x="4800600" y="1447920"/>
            <a:ext cx="2938320" cy="1995480"/>
          </a:xfrm>
          <a:prstGeom prst="rect">
            <a:avLst/>
          </a:prstGeom>
          <a:ln w="0">
            <a:noFill/>
          </a:ln>
        </p:spPr>
      </p:pic>
      <p:pic>
        <p:nvPicPr>
          <p:cNvPr id="181" name="Picture 7" descr="pottery3"/>
          <p:cNvPicPr/>
          <p:nvPr/>
        </p:nvPicPr>
        <p:blipFill>
          <a:blip r:embed="rId4"/>
          <a:stretch/>
        </p:blipFill>
        <p:spPr>
          <a:xfrm>
            <a:off x="1066680" y="4038480"/>
            <a:ext cx="3013200" cy="1876680"/>
          </a:xfrm>
          <a:prstGeom prst="rect">
            <a:avLst/>
          </a:prstGeom>
          <a:ln w="0">
            <a:noFill/>
          </a:ln>
        </p:spPr>
      </p:pic>
      <p:pic>
        <p:nvPicPr>
          <p:cNvPr id="182" name="Picture 8" descr="pottery4"/>
          <p:cNvPicPr/>
          <p:nvPr/>
        </p:nvPicPr>
        <p:blipFill>
          <a:blip r:embed="rId5"/>
          <a:stretch/>
        </p:blipFill>
        <p:spPr>
          <a:xfrm>
            <a:off x="5105520" y="3657600"/>
            <a:ext cx="2557440" cy="25574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ual-Ethnoarchaeology</a:t>
            </a:r>
            <a:endParaRPr b="0" lang="en-US" sz="4400" spc="-1" strike="noStrike">
              <a:solidFill>
                <a:srgbClr val="ffff00"/>
              </a:solidFill>
              <a:latin typeface="Times New Roman"/>
            </a:endParaRPr>
          </a:p>
        </p:txBody>
      </p:sp>
      <p:pic>
        <p:nvPicPr>
          <p:cNvPr id="185" name="Picture 3" descr="Ethnoarch"/>
          <p:cNvPicPr/>
          <p:nvPr/>
        </p:nvPicPr>
        <p:blipFill>
          <a:blip r:embed="rId1"/>
          <a:stretch/>
        </p:blipFill>
        <p:spPr>
          <a:xfrm>
            <a:off x="1600200" y="838080"/>
            <a:ext cx="6019920" cy="4081680"/>
          </a:xfrm>
          <a:prstGeom prst="rect">
            <a:avLst/>
          </a:prstGeom>
          <a:ln w="0">
            <a:noFill/>
          </a:ln>
        </p:spPr>
      </p:pic>
      <p:sp>
        <p:nvSpPr>
          <p:cNvPr id="186" name="Text Box 4"/>
          <p:cNvSpPr/>
          <p:nvPr/>
        </p:nvSpPr>
        <p:spPr>
          <a:xfrm>
            <a:off x="990720" y="4940280"/>
            <a:ext cx="7621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hnoarchaeology of the Kali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ew of Dangtalan looking north. The irrigated fie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rder the village on the east, west, and south. Notic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riability in house sizes as well as construction materials (e.g., thatch vs. corrugated iron sheets for the roofs).</a:t>
            </a:r>
            <a:endParaRPr b="0" lang="en-US" sz="24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st-Processual-Imagery</a:t>
            </a:r>
            <a:endParaRPr b="0" lang="en-US" sz="4400" spc="-1" strike="noStrike">
              <a:solidFill>
                <a:srgbClr val="ffff00"/>
              </a:solidFill>
              <a:latin typeface="Times New Roman"/>
            </a:endParaRPr>
          </a:p>
        </p:txBody>
      </p:sp>
      <p:pic>
        <p:nvPicPr>
          <p:cNvPr id="189" name="Picture 3" descr="Chichenfrieze"/>
          <p:cNvPicPr/>
          <p:nvPr/>
        </p:nvPicPr>
        <p:blipFill>
          <a:blip r:embed="rId1"/>
          <a:stretch/>
        </p:blipFill>
        <p:spPr>
          <a:xfrm>
            <a:off x="1143000" y="762120"/>
            <a:ext cx="7010280" cy="4705200"/>
          </a:xfrm>
          <a:prstGeom prst="rect">
            <a:avLst/>
          </a:prstGeom>
          <a:ln w="0">
            <a:noFill/>
          </a:ln>
        </p:spPr>
      </p:pic>
      <p:sp>
        <p:nvSpPr>
          <p:cNvPr id="190" name="Text Box 4"/>
          <p:cNvSpPr/>
          <p:nvPr/>
        </p:nvSpPr>
        <p:spPr>
          <a:xfrm>
            <a:off x="762120" y="56707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hen Itza- The player on the left holds the severed head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defeated player on the right. From the trunk spouts blood in the form of seven serpents. In the center is the ball. </a:t>
            </a:r>
            <a:endParaRPr b="0" lang="en-US" sz="24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c Concepts</a:t>
            </a:r>
            <a:endParaRPr b="0" lang="en-US" sz="4400" spc="-1" strike="noStrike">
              <a:solidFill>
                <a:srgbClr val="ffff00"/>
              </a:solidFill>
              <a:latin typeface="Times New Roman"/>
            </a:endParaRPr>
          </a:p>
        </p:txBody>
      </p:sp>
      <p:sp>
        <p:nvSpPr>
          <p:cNvPr id="107"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sils-Studied by Paleoanthrop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rved remains of creatures from the pa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form when an organism dies, is buried, and over long periods of time the organic part decays and is replaced by mineral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bones form st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ssil localities are where fossils are found.</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ical sites-Studied by Archae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 of past human activit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settlements with ceremonial center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hunting camps.</a:t>
            </a:r>
            <a:endParaRPr b="0" lang="en-US" sz="24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ms</a:t>
            </a:r>
            <a:endParaRPr b="0" lang="en-US" sz="4400" spc="-1" strike="noStrike">
              <a:solidFill>
                <a:srgbClr val="ffff00"/>
              </a:solidFill>
              <a:latin typeface="Times New Roman"/>
            </a:endParaRPr>
          </a:p>
        </p:txBody>
      </p:sp>
      <p:sp>
        <p:nvSpPr>
          <p:cNvPr id="110"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facts- Objects found and studied by archaeologists which have been made or modified by huma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ne tools, bone tools, pottery most common.</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acts- nonartifactual remains found at archaeological sites, such as animals bones, shells, plant remai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provide ecological and subsistence information. </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ures- Nonmoveable artifacts such as hearths, pits or house floors.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eveal information such as settlement and subsistence.</a:t>
            </a:r>
            <a:endParaRPr b="0" lang="en-US" sz="2400" spc="-1" strike="noStrike">
              <a:solidFill>
                <a:srgbClr val="ffffff"/>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ext</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rtifacts context is it's specific location where it was found and how it relates to other artifacts around i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A stone arrowhead is found with newspapers and plastic bottles, what would you conclude about the arrowheads context?</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ing Archaeology</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ing Sit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 Controlled Survey, Remote Sensing</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avation </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izontal, Vertical</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ing Techniqu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14, Dendrochronology</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fact Analysis</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nd Regional Synthesis</a:t>
            </a:r>
            <a:endParaRPr b="0" lang="en-US" sz="3200" spc="-1" strike="noStrike">
              <a:solidFill>
                <a:srgbClr val="ffffff"/>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rchaeology is Anthropology</a:t>
            </a:r>
            <a:br>
              <a:rPr sz="4000"/>
            </a:br>
            <a:endParaRPr b="0" lang="en-US" sz="4000" spc="-1" strike="noStrike">
              <a:solidFill>
                <a:srgbClr val="ffff00"/>
              </a:solidFill>
              <a:latin typeface="Times New Roman"/>
            </a:endParaRPr>
          </a:p>
        </p:txBody>
      </p:sp>
      <p:sp>
        <p:nvSpPr>
          <p:cNvPr id="11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y is anthropology or it is noth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ors vs. Archaeologist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ctors are after artifacts for money or for personal collec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chaeologists are after knowledge.</a:t>
            </a:r>
            <a:endParaRPr b="0" lang="en-US" sz="20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 is the most important thing to archaeolog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me and space in which objects occur in the groun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atic study of the past in this context.</a:t>
            </a:r>
            <a:endParaRPr b="0" lang="en-US" sz="2400" spc="-1" strike="noStrike">
              <a:solidFill>
                <a:srgbClr val="ffffff"/>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archaeology</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cal-use of written sources, architecture and art.</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recent historic times, may be text aided.</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water archaeologists-study waterlogged sites or artifacts with special technique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historic-cultures before written record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World vs. Old World</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is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on particular artifacts or ecofact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ooarchaeologists-animal bones from archaeological site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hic analysts-stone too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ethnobotanists-botanical remains, domestication.</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archaeologists-human remain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amic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ur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ing</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 et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30T13:34:56Z</dcterms:created>
  <dc:creator>Bella</dc:creator>
  <dc:description/>
  <dc:language>en-US</dc:language>
  <cp:lastModifiedBy>Legion</cp:lastModifiedBy>
  <dcterms:modified xsi:type="dcterms:W3CDTF">2017-07-04T12:56:15Z</dcterms:modified>
  <cp:revision>23</cp:revision>
  <dc:subject/>
  <dc:title>Studying Past Cultures</dc:title>
</cp:coreProperties>
</file>