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- Norms not Strictly Enfor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s - Core Values:  We Insist on Conform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kways and M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 - A World Within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ercultures - Groups With Norms and Values at Odds With the Dominant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ultures and Counter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ment and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and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and Practic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nce and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Com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itari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nd Group Supe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tic 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U.S.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Contradictions and Soci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thful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rn for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Wars: When Values C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s Blin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” vs. “Real”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and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ctivities are Universal - Courtship, Marriage, Funerals,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Customs Associated with Activities Differ Between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Uni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, Beliefs, Values, Norms, Behavior Passed from One Generation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 vs. Nonmaterial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Cul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versial View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y Cause of Human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les Darwin and Natural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and Social Biologists on Opposite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Technology - New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Lag and Cultur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Cultural Lev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in the Global Vill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ormal, Natural, or Usu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lture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s L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Sh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and Taken-for-Granted Ori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ing Cultures on Their Own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ck Cultur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ronting Contrasting Views of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ing Cultural Relativ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ying Messages without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stures’ Meaning Differ Among 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Lead to Misundersta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Human Experience to be Cumu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ocial or Shared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hared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Complex, Shared, Goal-Directe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Symbolic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Has Embedded Within It Ways of Looking at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pir-Whorf Reverses Common S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nd Perception:                 Sapir-Whor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- What is Desirable in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s - Expectations or Rules for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ctions - Reaction to Following or Breaking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 Holi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, Norms, and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D8A3-1031-4ABB-AE4C-0D1444BB8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DF33-E3DE-464C-BB11-CCE9B25718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237F5-E6B5-4735-AFEC-0FA13152E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4278D-06F0-4478-9E95-668E48AC8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9B313-7AE5-42FE-A2AD-71EFB4F1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3F151-4F21-4E2D-818A-CB92B66E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F9D56-E580-4590-AAE0-37539773B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2E664-28FD-4EC2-A6C2-4B8D0EA1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196AA-00B9-46BC-8434-8DAF2C98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225C85-E981-406A-A810-031F5ADF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2E720-B4AB-4490-AFAF-A4EFE095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26CE-BD8E-4357-A364-F2CC030A1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3FF86-F970-40F7-90D9-91A3B4D5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F68E7-AFD0-439F-B992-3DAEB48A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F8E2C-CCE9-4AFC-9838-F71EEF8B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5A8DE-83DE-46CD-9EAA-5A39F312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0A371-98E4-475C-B205-A5BB3477F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88686-B6E2-4456-8EA9-21EAE4764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4AE2C-75A0-4E19-AF3D-D72CEECFD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6C782-0B51-43A5-8C50-5FEB88FDE3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DF0E-3C97-4018-B837-14769FABD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0C308-0728-4545-8F08-B042FA696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76EE7-7DD7-4AA6-B9E4-A8372EC0C2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12D1E-4C89-49DA-96DC-6C4410D36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10C7-FC7A-451F-9F83-1DD15364F47D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2: Cultur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B191-399B-4069-9096-906FF09DC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514600" y="3828960"/>
            <a:ext cx="6095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o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ulture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lkways - Norms not Strictly Enforc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s - Core Values:  We Insist on Conform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olkways and Mo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ubculture - A World Within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untercultures - Groups With Norms and Values at Odds With the Dominant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762120"/>
            <a:ext cx="72392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ubcultures and Countercultur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523880" y="685800"/>
            <a:ext cx="6553440" cy="990720"/>
          </a:xfrm>
          <a:prstGeom prst="rect">
            <a:avLst/>
          </a:prstGeom>
          <a:solidFill>
            <a:srgbClr val="fff0af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2160" rIns="92160" tIns="46080" bIns="460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1752480" y="1828800"/>
            <a:ext cx="6095880" cy="4255920"/>
            <a:chOff x="1752480" y="1828800"/>
            <a:chExt cx="6095880" cy="4255920"/>
          </a:xfrm>
        </p:grpSpPr>
        <p:sp>
          <p:nvSpPr>
            <p:cNvPr id="120" name="Rectangle 4"/>
            <p:cNvSpPr/>
            <p:nvPr/>
          </p:nvSpPr>
          <p:spPr>
            <a:xfrm>
              <a:off x="581652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omantic Love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3784320" y="5272200"/>
              <a:ext cx="203220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Democrac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1752480" y="5272200"/>
              <a:ext cx="2031840" cy="81252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Science and Technolog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581652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eligios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784320" y="445932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Freedo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1752480" y="445932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fficiency and Practic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81652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ducation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3784320" y="364644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Humanitarian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8" name="Rectangle 12"/>
            <p:cNvSpPr/>
            <p:nvPr/>
          </p:nvSpPr>
          <p:spPr>
            <a:xfrm>
              <a:off x="1752480" y="364644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tivity and Work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29" name="Rectangle 13"/>
            <p:cNvSpPr/>
            <p:nvPr/>
          </p:nvSpPr>
          <p:spPr>
            <a:xfrm>
              <a:off x="581652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Racism and Group Superior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3784320" y="2641680"/>
              <a:ext cx="203220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Material Comfort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1" name="Rectangle 15"/>
            <p:cNvSpPr/>
            <p:nvPr/>
          </p:nvSpPr>
          <p:spPr>
            <a:xfrm>
              <a:off x="1752480" y="2641680"/>
              <a:ext cx="2031840" cy="100476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Individualism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2" name="Rectangle 16"/>
            <p:cNvSpPr/>
            <p:nvPr/>
          </p:nvSpPr>
          <p:spPr>
            <a:xfrm>
              <a:off x="581652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Equality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3" name="Rectangle 17"/>
            <p:cNvSpPr/>
            <p:nvPr/>
          </p:nvSpPr>
          <p:spPr>
            <a:xfrm>
              <a:off x="3784320" y="1828800"/>
              <a:ext cx="203220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Progr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4" name="Rectangle 18"/>
            <p:cNvSpPr/>
            <p:nvPr/>
          </p:nvSpPr>
          <p:spPr>
            <a:xfrm>
              <a:off x="1752480" y="1828800"/>
              <a:ext cx="2031840" cy="812880"/>
            </a:xfrm>
            <a:prstGeom prst="rect">
              <a:avLst/>
            </a:prstGeom>
            <a:solidFill>
              <a:srgbClr val="003399"/>
            </a:solidFill>
            <a:ln w="12600">
              <a:solidFill>
                <a:srgbClr val="fff2bb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imes New Roman"/>
                </a:rPr>
                <a:t>Achievement and Success</a:t>
              </a:r>
              <a:endParaRPr b="1" lang="en-US" sz="20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5" name="Line 19"/>
            <p:cNvSpPr/>
            <p:nvPr/>
          </p:nvSpPr>
          <p:spPr>
            <a:xfrm>
              <a:off x="1752480" y="182880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6" name="Line 20"/>
            <p:cNvSpPr/>
            <p:nvPr/>
          </p:nvSpPr>
          <p:spPr>
            <a:xfrm>
              <a:off x="1752480" y="264168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7" name="Line 21"/>
            <p:cNvSpPr/>
            <p:nvPr/>
          </p:nvSpPr>
          <p:spPr>
            <a:xfrm>
              <a:off x="1752480" y="364644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8" name="Line 22"/>
            <p:cNvSpPr/>
            <p:nvPr/>
          </p:nvSpPr>
          <p:spPr>
            <a:xfrm>
              <a:off x="1752480" y="445932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39" name="Line 23"/>
            <p:cNvSpPr/>
            <p:nvPr/>
          </p:nvSpPr>
          <p:spPr>
            <a:xfrm>
              <a:off x="1752480" y="5272200"/>
              <a:ext cx="6095880" cy="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0" name="Line 24"/>
            <p:cNvSpPr/>
            <p:nvPr/>
          </p:nvSpPr>
          <p:spPr>
            <a:xfrm>
              <a:off x="1752480" y="6084720"/>
              <a:ext cx="6095880" cy="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1" name="Line 25"/>
            <p:cNvSpPr/>
            <p:nvPr/>
          </p:nvSpPr>
          <p:spPr>
            <a:xfrm>
              <a:off x="175248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2" name="Line 26"/>
            <p:cNvSpPr/>
            <p:nvPr/>
          </p:nvSpPr>
          <p:spPr>
            <a:xfrm>
              <a:off x="37843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5816520" y="1828800"/>
              <a:ext cx="0" cy="4255920"/>
            </a:xfrm>
            <a:prstGeom prst="line">
              <a:avLst/>
            </a:prstGeom>
            <a:ln w="1260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  <p:sp>
          <p:nvSpPr>
            <p:cNvPr id="144" name="Line 28"/>
            <p:cNvSpPr/>
            <p:nvPr/>
          </p:nvSpPr>
          <p:spPr>
            <a:xfrm>
              <a:off x="7848360" y="1828800"/>
              <a:ext cx="0" cy="4255920"/>
            </a:xfrm>
            <a:prstGeom prst="line">
              <a:avLst/>
            </a:prstGeom>
            <a:ln cap="sq" w="28440">
              <a:solidFill>
                <a:srgbClr val="fff2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8663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066680" y="1676520"/>
            <a:ext cx="6858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hievement and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ctivity and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fficiency and Practic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cience and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533520"/>
            <a:ext cx="6553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3" dur="1" fill="hold"/>
                                  <p:tgtEl>
                                    <p:spTgt spid="14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066680" y="1600200"/>
            <a:ext cx="6324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gr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Comfor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itaria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edo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m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990720" y="533520"/>
            <a:ext cx="73152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2" dur="1" fill="hold"/>
                                  <p:tgtEl>
                                    <p:spTgt spid="1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066680" y="16765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qu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nd Group Superi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mantic Lo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90720" y="457200"/>
            <a:ext cx="647676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in U.S. Socie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1" dur="1" fill="hold"/>
                                  <p:tgtEl>
                                    <p:spTgt spid="15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0">
              <a:lnSpc>
                <a:spcPct val="2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230040" indent="0" algn="ctr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is precisely at the point of value contradictions, then, that one can see a major force for social change in a society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333440" y="685800"/>
            <a:ext cx="64771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Contradictions and Social Chan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is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-fulfill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Fit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Youthfuln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ern for the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990720" y="533520"/>
            <a:ext cx="510516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ing Valu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5" dur="1" fill="hold"/>
                                  <p:tgtEl>
                                    <p:spTgt spid="15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Wars: When Values Clas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Value as Blind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al” vs. “Real”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838080"/>
            <a:ext cx="647712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Values and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Activities are Universal - Courtship, Marriage, Funerals, 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cific Customs Associated with Activities Differ Between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066680" y="806400"/>
            <a:ext cx="586764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al Universal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8" dur="1" fill="hold"/>
                                  <p:tgtEl>
                                    <p:spTgt spid="1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, Beliefs, Values, Norms, Behavior Passed from One Generation to the Nex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rial vs. Nonmaterial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806400"/>
            <a:ext cx="6400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Cul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versial View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logy Cause of Human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les Darwin and Natural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and Social Biologists on Opposite Sid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1066680" y="533520"/>
            <a:ext cx="4876920" cy="109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b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6" dur="1" fill="hold"/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w Technology - New Too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al Lag and Cultur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Cultural Level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1066680" y="609480"/>
            <a:ext cx="65534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echnology in the Global Villag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Henslin final"/>
          <p:cNvPicPr/>
          <p:nvPr/>
        </p:nvPicPr>
        <p:blipFill>
          <a:blip r:embed="rId1"/>
          <a:stretch/>
        </p:blipFill>
        <p:spPr>
          <a:xfrm>
            <a:off x="2133720" y="228600"/>
            <a:ext cx="470520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162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is Normal, Natural, or Usual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Culture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as L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Sho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ocentr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561960"/>
            <a:ext cx="68580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ulture and Taken-for-Granted Orient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derstanding Cultures on Their Own Te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ck Cultures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ronting Contrasting Views of Re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01480"/>
            <a:ext cx="640080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acticing Cultural Relativ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veying Messages without Wor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stures’ Meaning Differ Among Cultur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n Lead to Misunderstanding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4" dur="1" fill="hold"/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1" name="Picture 5" descr="C:\PowerPoint Work\Allyn &amp; Bacon\2005 Work\Henslin 8ed\Artwork\02-01.jpg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3555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5534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Human Experience to be Cumula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Pa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vides Social or Shared Fu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Shared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llows Complex, Shared, Goal-Directed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066680" y="577800"/>
            <a:ext cx="6629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onents of Symbolic Cul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nguage Has Embedded Within It Ways of Looking at the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apir-Whorf Reverses Common Sen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547560"/>
            <a:ext cx="7239240" cy="15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anguage and Perception:                 Sapir-Whorf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alues - What is Desirable in Lif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Norms - Expectations or Rules for Behavio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anctions - Reaction to Following or Breaking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osi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egative Sanctions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7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al Holida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533520" y="380880"/>
            <a:ext cx="82296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alues, Norms, and Sanctions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8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13:18Z</dcterms:modified>
  <cp:revision>173</cp:revision>
  <dc:subject>Chapter Two: Culture</dc:subject>
  <dc:title>Sociology: A Down-to-Earth Approach, 8/e</dc:title>
</cp:coreProperties>
</file>