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- Norms not Strictly Enfor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s - Core Values:  We Insist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and M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 - A World Within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cultures - Groups With Norms and Values at Odds With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s and Counter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and Prac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nd Group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tic 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Contradictions and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th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 for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Wars: When Values C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s B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” vs. “Real”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and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ctivities are Universal - Courtship, Marriage, Funerals,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Customs Associated with Activities Differ Betwee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Uni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, Beliefs, Values, Norms, Behavior Passed from One Generation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vs. Nonmaterial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versial View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Cause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Darwin and Natural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and Social Biologists on Opposite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echnology -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Lag and Cultur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Cultural Lev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in the Globa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rmal, Natural, or Us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lture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s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nd Taken-for-Granted Ori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Cultures on Their Own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ck Cultur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ing Contrasting Views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ing Cultural Relat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ing Messages withou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’ Meaning Differ Among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Misundersta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Human Experience to be Cumu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har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Complex, Shared, Goal-Direct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Has Embedded Within It Ways of Looking at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pir-Whorf Reverses Common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nd Perception:                 Sapir-Who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- What is Desirable i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- Expectations or Rules fo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ctions - Reaction to Following or Break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Holi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, Norms, and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544E6-52FA-406E-AF9A-0865EA508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67FC-2109-4FBE-A02C-0D9587ABE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DCF47-715A-4365-9E63-DEE119BA8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8BABF-A57D-4594-8675-A13A14CA6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0210C-3A83-4D62-8139-3BC2EC9E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DC09D-451E-4475-9742-8DFA377E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D268A-6C94-4D0E-A3C1-AE489683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0819C-D230-427E-AFA0-BFDCD097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5354B-00CE-4049-B748-1FB42938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A8073-E5D4-4305-8E55-107E6213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AACBB-99D4-4A8A-96C2-E537A332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C3D58-D631-4210-A59B-328611583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4B7AA-4F56-4162-9327-DB1904FA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B8CF9-7690-4BE9-9437-8E7AEA87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8C8DD-A682-407D-897C-85FA6AF0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03160-18D8-4286-A7A9-D27526FF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4315E-1BAF-4BB8-AB7E-5A1760B5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95B6-6AE0-4773-88A4-BBF3F11FD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241B-7C6A-4669-986D-242D310D9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471F6-2BBF-4012-8DF6-C4250C444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0D68C-35D0-4C00-AAF1-2394DCEE1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C6F4-B260-48F3-93FE-9DAEA2DB7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85B79-CA59-4DC4-BC31-9F96BAE74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7568-FCBC-4C2D-8CA9-91CDCDC6C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FC81-22B2-49F1-B49A-FA7D99839367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2: Cultur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8915-26AE-43C0-AB0A-9A97089EA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514600" y="3828960"/>
            <a:ext cx="6095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o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ulture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lkways - Norms not Strictly Enforc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s - Core Values:  We Insist on Conform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olkways and Mo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 - A World Within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untercultures - Groups With Norms and Values at Odds With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762120"/>
            <a:ext cx="72392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ubcultures and Countercultu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3880" y="685800"/>
            <a:ext cx="6553440" cy="990720"/>
          </a:xfrm>
          <a:prstGeom prst="rect">
            <a:avLst/>
          </a:prstGeom>
          <a:solidFill>
            <a:srgbClr val="fff0a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752480" y="1828800"/>
            <a:ext cx="6095880" cy="4255920"/>
            <a:chOff x="1752480" y="1828800"/>
            <a:chExt cx="6095880" cy="4255920"/>
          </a:xfrm>
        </p:grpSpPr>
        <p:sp>
          <p:nvSpPr>
            <p:cNvPr id="120" name="Rectangle 4"/>
            <p:cNvSpPr/>
            <p:nvPr/>
          </p:nvSpPr>
          <p:spPr>
            <a:xfrm>
              <a:off x="581652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omantic Love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3784320" y="5272200"/>
              <a:ext cx="203220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Democrac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175248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Science and Technolog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81652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eligios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784320" y="445932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Freedo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75248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fficiency and Practic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81652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ducation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3784320" y="364644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Humanitarian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75248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tivity and Work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581652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acism and Group Superior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784320" y="2641680"/>
              <a:ext cx="203220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Material Comfort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75248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Individual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581652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qu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784320" y="182880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rogr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75248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hievement and Succ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1752480" y="182880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1752480" y="264168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>
              <a:off x="1752480" y="364644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1752480" y="445932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1752480" y="527220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1752480" y="608472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175248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37843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58165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784836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066680" y="16765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ment and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tivity and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iciency and Practic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cience and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533520"/>
            <a:ext cx="6553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066680" y="1600200"/>
            <a:ext cx="6324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gr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Comfor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itaria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edo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m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90720" y="533520"/>
            <a:ext cx="73152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066680" y="16765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nd Group Superi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mantic Lo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457200"/>
            <a:ext cx="647676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333440" y="685800"/>
            <a:ext cx="64771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Contradictions and Social Chan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is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-fulfill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Fit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Youthful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ern for the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990720" y="533520"/>
            <a:ext cx="510516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ing Valu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5" dur="1" fill="hold"/>
                                  <p:tgtEl>
                                    <p:spTgt spid="1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Wars: When Values Clas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alue as Blin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l” vs. “Real”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838080"/>
            <a:ext cx="647712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and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Activities are Universal - Courtship, Marriage, Funerals, 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cific Customs Associated with Activities Differ Between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806400"/>
            <a:ext cx="58676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al Universal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8" dur="1" fill="hold"/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, Beliefs, Values, Norms, Behavior Passed from One Generation to the Nex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vs. Nonmaterial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Cul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versial View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logy Cause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les Darwin and Natural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and Social Biologists on Opposite Sid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533520"/>
            <a:ext cx="487692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b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w Technology - New To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Lag and Cultur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Cultural Leve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66680" y="609480"/>
            <a:ext cx="65534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chnology in the Global Villa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Henslin final"/>
          <p:cNvPicPr/>
          <p:nvPr/>
        </p:nvPicPr>
        <p:blipFill>
          <a:blip r:embed="rId1"/>
          <a:stretch/>
        </p:blipFill>
        <p:spPr>
          <a:xfrm>
            <a:off x="2133720" y="228600"/>
            <a:ext cx="470520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Normal, Natural, or Usu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Culture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as L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Sho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ocentr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561960"/>
            <a:ext cx="68580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e and Taken-for-Granted Orient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Cultures on Their Own Te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ck Cultures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ronting Contrasting Views of Re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01480"/>
            <a:ext cx="640080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acticing Cultural Relativ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veying Messages without Wo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’ Meaning Differ Among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Lead to Misunderstand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1" name="Picture 5" descr="C:\PowerPoint Work\Allyn &amp; Bacon\2005 Work\Henslin 8ed\Artwork\02-01.jpg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3555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Human Experience to be Cumula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Pa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Fu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Shared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Complex, Shared, Goal-Directe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 Has Embedded Within It Ways of Looking at the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apir-Whorf Reverses Common Sen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547560"/>
            <a:ext cx="7239240" cy="15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nguage and Perception:                 Sapir-Whorf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alues - What is Desirable in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orms - Expectations or Rules fo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anctions - Reaction to Following or Break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al Holida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38088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alues, Norms, and Sanctions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3:18Z</dcterms:modified>
  <cp:revision>173</cp:revision>
  <dc:subject>Chapter Two: Culture</dc:subject>
  <dc:title>Sociology: A Down-to-Earth Approach, 8/e</dc:title>
</cp:coreProperties>
</file>