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i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Stra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in’s Critique of Davis and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Know Positions Most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cation Should = Merit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Ought to Benefit 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ca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ciety Can Exist Unless 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Means Inequalities of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Nature is Self-C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x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Explanation is Ideology of the E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onsciousness Will Overcome Blinding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pplications of 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ki’s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ology vs.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nformation and Using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Elites Maintain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Former Soviet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Soci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orld—Industrialized Capital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orld—Commun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orld—Nations that Don’t Fit  in First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(Old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-Rich, Non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System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th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World’s Nations Become Strat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erarchy of relative privilege based on power, property, and prestig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Global Do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Glob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in the New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’s Religious C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Racial 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 and Status of Fe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l Marx: The Means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eber: Property, Prestige,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nt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ust Make Sure all Positions are F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ositions are More Important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otivate Qualified People, They Must Be Re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portant Positions Filled by More Qualifie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DB5F-F26B-47BB-86BE-4927743D7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5366-C2F0-45A8-AFA3-23503D1F5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63BD-FB8E-451F-BBE3-50382AAE5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9AD3-EA87-4FAB-B175-3686D2408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AEB9A-3D3C-4368-81B5-B3A5AB99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61A86-154A-423D-AF8E-1B4082A7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84DE7-FE90-48C0-BDED-C19C76C9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509C2-41D9-4B14-9C0D-CE9B0ED7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3CB7B-F5A2-4FA9-AA7F-870054EB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2CF4A-FB6C-4409-90FB-34C5FB7B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2A9E7-4645-4986-AF77-60E0BD89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0C34-8DB1-41A1-8301-E4AEE2839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78CCC-F809-476E-8971-2C7BB13F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B241D-B3EF-4039-9FA2-0215FBD4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7EDDB-A83A-4B33-AAA1-E9CF982B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1AE94-4DCA-429C-A769-A9877AF9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BE492-1E99-480D-A5CF-8D18E90A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2D86D-9833-4E0E-8036-F540B82BF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4218-6E7D-446D-A27B-2AB33997D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EDA2-D8F5-4DDE-84F6-C2D889F70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5610B-27C3-43D7-A2DA-27EDE09CC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C3DA-049D-4FCA-8D73-7AC047DD1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6104B-D46C-4C8A-B00B-2E4E028D8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F0ACB-B498-46A1-AF7F-62EFC842B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2884-014E-4659-B662-C003F95FA09F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9: Global Stratific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D1CF-5294-4DBC-B43E-FF6005DC1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28960"/>
            <a:ext cx="4800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Nin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lobal Stratific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104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umin’s Critique of Davis and Mo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do We Know Positions Most Important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tification Should = Merit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Ought to Benefit Everyo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ca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ociety Can Exist Unless Organiz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Means Inequalities of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 Nature is Self-Cente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333360"/>
            <a:ext cx="807732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21337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 Explanation is Ideology of the Eli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 Consciousness Will Overcome Blinding Ide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Applications of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nski’s Synthe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790560"/>
            <a:ext cx="784872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ology vs. F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de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nformation and Using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714240"/>
            <a:ext cx="777240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o Elites Maintain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Great Brita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Former Soviet Un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762120"/>
            <a:ext cx="7086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arative Soci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orld—Industrialized Capital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orld—Commun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orld—Nations that Don’t Fit  in First Tw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762120"/>
            <a:ext cx="6782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Old Model)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762120"/>
            <a:ext cx="6705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il-Rich, Non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304920"/>
            <a:ext cx="7315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ying the Mod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ld System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valuating the Theo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714240"/>
            <a:ext cx="79250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id World’s Nations Become Stratified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hierarchy of relative privilege based on power, property, and prestige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1447920"/>
            <a:ext cx="648324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Social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o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national Corpor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Global Do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7621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aintaining Glob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Henslin final"/>
          <p:cNvPicPr/>
          <p:nvPr/>
        </p:nvPicPr>
        <p:blipFill>
          <a:blip r:embed="rId1"/>
          <a:stretch/>
        </p:blipFill>
        <p:spPr>
          <a:xfrm>
            <a:off x="24382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in the New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Slaver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a’s Religious Cas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uth Afric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.S. Racial Cast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23880"/>
            <a:ext cx="7848720" cy="14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Cast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st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Stratification and Status of Fema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62120"/>
            <a:ext cx="70106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Oth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: The Means of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x Weber: Property, Prestige,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263600"/>
            <a:ext cx="80010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terminants of Social Clas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4" name="Picture 5" descr="C:\PowerPoint Work\Allyn &amp; Bacon\2005 Work\Henslin 8ed\Artwork\09-01.jpg"/>
          <p:cNvPicPr/>
          <p:nvPr/>
        </p:nvPicPr>
        <p:blipFill>
          <a:blip r:embed="rId1"/>
          <a:srcRect l="0" t="0" r="0" b="17076"/>
          <a:stretch/>
        </p:blipFill>
        <p:spPr>
          <a:xfrm>
            <a:off x="3352680" y="152280"/>
            <a:ext cx="24544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vis and Moore’s Expla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Must Make Sure all Positions are Fill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Positions are More Important than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2856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 Motivate Qualified People, They Must Be Rewar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66680" y="2057400"/>
            <a:ext cx="63248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avis and Moore’s Explanatio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 Important Positions Filled by More Qualified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22:36Z</dcterms:modified>
  <cp:revision>183</cp:revision>
  <dc:subject>Chapter 9: Global Stratification</dc:subject>
  <dc:title>Sociology: A Down-to-Earth Approach, 8/e</dc:title>
</cp:coreProperties>
</file>