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Nin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obal Strat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umin’s Critique of Davis and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We Know Positions Most Importa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cation Should = Meritocra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Ought to Benefit Every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ca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ociety Can Exist Unless Organ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ership Means Inequalities of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man Nature is Self-C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x’s Arg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 Explanation is Ideology of the E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 Consciousness Will Overcome Blinding Ide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 Applications of Conflict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nski’s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Conflict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ology vs. F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d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ing Information and Using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Elites Maintain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Great Brit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atification in Former Soviet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ative Soci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World—Industrialized Capital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World—Communist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World—Nations that Don’t Fit  in First Tw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(Old Mod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st 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il-Rich, Nonindustrialized N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: Three Worl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ifying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ld System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uating the The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id World’s Nations Become Stratifi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ierarchy of relative privilege based on power, property, and prestig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Stratifi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ocolonial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national Corpo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ology and Global Do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ing Global St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in the New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ry 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Sla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ia’s Religious Cas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 Af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.S. Racial Cast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C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tratification and Status of Fem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s of Social Stratification - 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l Marx: The Means of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Weber: Property, Prestige,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ant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ety Must Make Sure all Positions are Fi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Positions are More Important than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otivate Qualified People, They Must Be Rewar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Social Stratification Universal? Functionalis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vis and Moore’s Explan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Important Positions Filled by More Qualified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8F09-5544-4C7E-AEC8-7B2CE6211D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C5C9-729D-4EBD-B1C5-7B4B3C1ED7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45919-F2B6-4D64-99E9-0A6D44D09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2B597-730F-4D5C-891B-74F08FC4D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BEF5F5-86B2-403C-9D97-0266C707B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D56E8C-1721-4F77-9EC7-92885D5D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93A9B-4192-4892-B261-FB7E6B302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BD86EE-60B7-4571-88D2-4558B3D7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CC35AB-EC7E-45D8-B9A9-92F7A6C2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BD7E0B-6D11-46F2-91D7-529A7479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DF8F12-B64B-461A-8B1D-8C2292CB7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FA3A3-69DA-4583-8BE2-2BD048C3C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5B597-9A03-481B-9284-65A305A9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EDBFEC-5B00-44D1-84B9-751EFBA05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3F993-82D1-4CC7-AF7C-27343636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D8FA1-0709-4698-B733-42D63455C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1600" y="205560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812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1600" y="4204080"/>
            <a:ext cx="25012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501B07-EB95-4CDE-BA67-B06BD1E63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B53EF-600C-4319-ABEA-EB36997A8B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7D75F-E67E-4830-BE2C-821F7E2311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774BD-0F81-4AE8-8754-489AACC95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C6B31-9939-40F9-8319-C45532A977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510C-314E-4F67-98B0-3B9D610253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408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942C0-5C45-4FED-92D3-31D47F0FE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812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5600"/>
            <a:ext cx="3791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8120" y="4204080"/>
            <a:ext cx="7769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D4B9-C62F-4D42-AB7C-691394434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2F76-34CB-47F9-BDE3-F955504461FE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9: Global Stratification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8120" y="205560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AE3-EB82-4173-BD78-DE088C7662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828960"/>
            <a:ext cx="4800600" cy="13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Nine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Global Stratification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104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umin’s Critique of Davis and Mo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ow do We Know Positions Most Important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atification Should = Meritocrac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0480" indent="-51048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t Ought to Benefit Everyo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4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6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0" dur="1" fill="hold"/>
                                  <p:tgtEl>
                                    <p:spTgt spid="11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2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ca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Society Can Exist Unless Organiz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dership Means Inequalities of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Human Nature is Self-Cente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1066680" y="333360"/>
            <a:ext cx="807732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4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8" dur="1" fill="hold"/>
                                  <p:tgtEl>
                                    <p:spTgt spid="11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42640" y="2133720"/>
            <a:ext cx="6095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x’s Argu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alist Explanation is Ideology of the Eli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 Consciousness Will Overcome Blinding Ide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714240"/>
            <a:ext cx="784872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0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6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0" dur="1" fill="hold"/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rrent Applications of Conflict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nski’s Synthesi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790560"/>
            <a:ext cx="7848720" cy="12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nflict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6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680" y="20570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deology vs. F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dea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rolling Information and Using Technolog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714240"/>
            <a:ext cx="777240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o Elites Maintain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54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8" dur="1" fill="hold"/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Great Britai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atification in Former Soviet Un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762120"/>
            <a:ext cx="70866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omparative Soci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6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142640" y="1980720"/>
            <a:ext cx="6248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rst World—Industrialized Capital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World—Communist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World—Nations that Don’t Fit  in First Tw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762120"/>
            <a:ext cx="67820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(Old Model)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6" dur="1" fill="hold"/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762120"/>
            <a:ext cx="670572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8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8" dur="1" fill="hold"/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east 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il-Rich, Nonindustrialized N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304920"/>
            <a:ext cx="7315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Global Stratification: Three Worlds 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ying the Mod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5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0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6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6" dur="1" fill="hold"/>
                                  <p:tgtEl>
                                    <p:spTgt spid="13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7057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ld System Theo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valuating the Theor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714240"/>
            <a:ext cx="7925040" cy="1343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How Did World’s Nations Become Stratified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8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4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0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4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142640" y="26665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hierarchy of relative privilege based on power, property, and prestige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1447920"/>
            <a:ext cx="6483240" cy="6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at is Social Stratification?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" dur="1" fill="hold"/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eocolonialis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ultinational Corpora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echnology and Global Domi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7621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Maintaining Global Stratification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6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2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Henslin final"/>
          <p:cNvPicPr/>
          <p:nvPr/>
        </p:nvPicPr>
        <p:blipFill>
          <a:blip r:embed="rId1"/>
          <a:stretch/>
        </p:blipFill>
        <p:spPr>
          <a:xfrm>
            <a:off x="2438280" y="228600"/>
            <a:ext cx="470556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dition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in the New Worl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lavery Toda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685800"/>
            <a:ext cx="80010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Slavery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dia’s Religious Cast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uth Africa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.S. Racial Caste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066680" y="623880"/>
            <a:ext cx="7848720" cy="14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Caste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0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0" dur="1" fill="hold"/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stat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28480" indent="-52848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lobal Stratification and Status of Femal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762120"/>
            <a:ext cx="701064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Systems of Social Stratification - Other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" dur="1" fill="hold"/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Karl Marx: The Means of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628560" indent="-628560"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x Weber: Property, Prestige,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263600"/>
            <a:ext cx="8001000" cy="79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Determinants of Social Class</a:t>
            </a:r>
            <a:endParaRPr b="1" lang="en-US" sz="4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" dur="1" fill="hold"/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04" name="Picture 5" descr="C:\PowerPoint Work\Allyn &amp; Bacon\2005 Work\Henslin 8ed\Artwork\09-01.jpg"/>
          <p:cNvPicPr/>
          <p:nvPr/>
        </p:nvPicPr>
        <p:blipFill>
          <a:blip r:embed="rId1"/>
          <a:srcRect l="0" t="0" r="0" b="17076"/>
          <a:stretch/>
        </p:blipFill>
        <p:spPr>
          <a:xfrm>
            <a:off x="3352680" y="152280"/>
            <a:ext cx="245448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ransition>
    <p:cover dir="l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vis and Moore’s Explan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ety Must Make Sure all Positions are Fill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me Positions are More Important than 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2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" dur="1" fill="hold"/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2285640"/>
            <a:ext cx="67057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158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o Motivate Qualified People, They Must Be Rewar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066680" y="68580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Why is Social Stratification Universal?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Functionalist View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1066680" y="2057400"/>
            <a:ext cx="63248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5880" indent="-515880"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avis and Moore’s Explanatio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515880" indent="-5158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re Important Positions Filled by More Qualified Peop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2" dur="1" fill="hold"/>
                                  <p:tgtEl>
                                    <p:spTgt spid="10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4T13:22:36Z</dcterms:modified>
  <cp:revision>183</cp:revision>
  <dc:subject>Chapter 9: Global Stratification</dc:subject>
  <dc:title>Sociology: A Down-to-Earth Approach, 8/e</dc:title>
</cp:coreProperties>
</file>