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Ni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Strat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min’s Critique of Davis and Mo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Know Positions Most Import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cation Should = Merito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Ought to Benefit Every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Functionalis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ca’s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ociety Can Exist Unless Orga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Means Inequalities of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Nature is Self-C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x’s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Explanation is Ideology of the E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Consciousness Will Overcome Blinding Ide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Applications of Conflic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ski’s 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ology vs.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ing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ing Information and Using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Elites Maintain Strat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ratification in Great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ratification in Former Soviet 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Social Stra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World—Industrialized Capitalist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World—Communist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World—Nations that Don’t Fit  in First 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: Three Worlds (Old Mod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: Three Wor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-Rich, Non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: Three Wor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ing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ni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 System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ng th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World’s Nations Become Stratifi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ierarchy of relative privilege based on power, property, and prestig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ocial Strat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ocoloni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national Corp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and Global Do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ing Global Stra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ry in the New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ry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of Social Stratification - Sla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a’s Religious Ca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Racial Cast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of Social Stratification - C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 and Status of Fe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of Social Stratification -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rl Marx: The Means of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eber: Property, Prestige, an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ant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s and Moore’s Expla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Must Make Sure all Positions are Fi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ositions are More Important than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Functionalis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otivate Qualified People, They Must Be Rewar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Functionalis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s and Moore’s Expla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Important Positions Filled by More Qualified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809FD-1A81-46AE-80C7-259D38E4F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4853D-6779-4EB1-A2E8-2EF7A786B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BA95E-B96C-4500-8F30-71F0DC06A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CBE43-39DF-4B11-B2AF-2F28E69D10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A047B-9DF6-479B-AC79-28C13C15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266EB-B4BD-44B1-B3E7-E6EA1D6E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E5ACC-662A-44DC-81DB-B12F9621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93562-5694-44FA-BC94-3B50A87F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0C29A-3631-44C4-AFCD-60D03A69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2DF9F-9CF6-422C-9E28-C2D73CB1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2CF37-29C2-4BAE-A3D7-344215C0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7199F-B14A-420C-B789-B33287234A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19BB9-3832-49EE-89E4-3B4D0948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58641-3C53-4D79-AB6D-6B0D6962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D6E70-ABBC-4C44-9CC3-05F2BF37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47D07-EF66-49B6-9623-B60676C4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90B00-AD48-4A35-BDF3-C1B9B550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3C1B1-3F85-40F2-BC80-2AD4546E9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959C8-44A5-4FB4-A47C-3E6BADAAF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69323-F8DB-4BB1-9E25-C3EC2940F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85C5C-0262-4550-B533-052263D7B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5CABC-805E-483F-9124-72855F3EA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791C6-CD38-4257-9537-D60CE69CC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05875-893C-44CB-B4F2-C639B8D99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B513-1E8B-465D-AD3F-4E0417F8D785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9: Global Stratification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338D-8C30-455A-86C7-F825A20690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352680" y="3828960"/>
            <a:ext cx="480060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Nine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Global Stratification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104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umin’s Critique of Davis and Moo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0480" indent="-5104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do We Know Positions Most Important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0480" indent="-5104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atification Should = Meritocrac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0480" indent="-5104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t Ought to Benefit Everyo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066680" y="68580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Functionalist Vie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" dur="1" fill="hold"/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ca’s Argu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Society Can Exist Unless Organiz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dership Means Inequalities of 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uman Nature is Self-Center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066680" y="333360"/>
            <a:ext cx="8077320" cy="17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flict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4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8" dur="1" fill="hold"/>
                                  <p:tgtEl>
                                    <p:spTgt spid="1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42640" y="213372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x’s Argu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t Explanation is Ideology of the Eli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 Consciousness Will Overcome Blinding Ide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714240"/>
            <a:ext cx="784872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Conflict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rrent Applications of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nski’s Synthesi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66680" y="790560"/>
            <a:ext cx="7848720" cy="12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flict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6" dur="1" fill="hold"/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ology vs. F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lling Idea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lling Information and Using Techn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714240"/>
            <a:ext cx="777240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ow Do Elites Maintain Stratification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8" dur="1" fill="hold"/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ratification in Great Britai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ratification in Former Soviet Un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762120"/>
            <a:ext cx="70866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arative Social Stratific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62485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rst World—Industrialized Capitalist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World—Communist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World—Nations that Don’t Fit  in First Two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762120"/>
            <a:ext cx="67820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Stratification: Three World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Old Model)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6" dur="1" fill="hold"/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762120"/>
            <a:ext cx="67057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Stratification: Three World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8" dur="1" fill="hold"/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il-Rich, Non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304920"/>
            <a:ext cx="73152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Stratification: Three Worlds 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ying the Mod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6" dur="1" fill="hold"/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057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loni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rld System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valuating the Theor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714240"/>
            <a:ext cx="792504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ow Did World’s Nations Become Stratified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2640" y="266652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 hierarchy of relative privilege based on power, property, and prestige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143000" y="1447920"/>
            <a:ext cx="648324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Social Stratification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ocoloni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ultinational Corpor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echnology and Global Do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66680" y="76212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aintaining Global Stratific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2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6" dur="1" fill="hold"/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7" descr="Henslin final"/>
          <p:cNvPicPr/>
          <p:nvPr/>
        </p:nvPicPr>
        <p:blipFill>
          <a:blip r:embed="rId1"/>
          <a:stretch/>
        </p:blipFill>
        <p:spPr>
          <a:xfrm>
            <a:off x="2438280" y="228600"/>
            <a:ext cx="47055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di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lavery in the New Worl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lavery Tod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43000" y="685800"/>
            <a:ext cx="8001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stems of Social Stratification - Slaver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a’s Religious Cast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uth Africa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.S. Racial Caste Syst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623880"/>
            <a:ext cx="7848720" cy="14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stems of Social Stratification - Cast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528480" indent="-5284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sta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28480" indent="-5284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28480" indent="-5284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Stratification and Status of Fema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762120"/>
            <a:ext cx="70106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stems of Social Stratification - Other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28560" indent="-6285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Karl Marx: The Means of 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628560" indent="-6285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x Weber: Property, Prestige, and 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263600"/>
            <a:ext cx="800100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eterminants of Social Clas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" dur="1" fill="hold"/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4" name="Picture 5" descr="C:\PowerPoint Work\Allyn &amp; Bacon\2005 Work\Henslin 8ed\Artwork\09-01.jpg"/>
          <p:cNvPicPr/>
          <p:nvPr/>
        </p:nvPicPr>
        <p:blipFill>
          <a:blip r:embed="rId1"/>
          <a:srcRect l="0" t="0" r="0" b="17076"/>
          <a:stretch/>
        </p:blipFill>
        <p:spPr>
          <a:xfrm>
            <a:off x="3352680" y="152280"/>
            <a:ext cx="245448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avis and Moore’s Expla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ety Must Make Sure all Positions are Fill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me Positions are More Important than 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68580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unctionalist Vie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" dur="1" fill="hold"/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228564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58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o Motivate Qualified People, They Must Be Reward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066680" y="68580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Functionalist Vie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066680" y="2057400"/>
            <a:ext cx="632484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Davis and Moore’s Explanation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re Important Positions Filled by More Qualified Peop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2" dur="1" fill="hold"/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22:36Z</dcterms:modified>
  <cp:revision>183</cp:revision>
  <dc:subject>Chapter 9: Global Stratification</dc:subject>
  <dc:title>Sociology: A Down-to-Earth Approach, 8/e</dc:title>
</cp:coreProperties>
</file>