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welv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and Eth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-Reaching Nature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 and Car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 and Institutional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ustration and Scapego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itarian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Persp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 Create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Fulfilling Proph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ies of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oc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 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re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m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ultur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Patterns of Intergroup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1 - Idea That Any Race is Sup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Races Have Geniuses and Idi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 2 - Idea that Any Race is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Characteristics Flow Endlessly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: Myth and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’s Founders Included Only Those from England (WAS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“White” Europeans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s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s Origins,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nish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s (Hispan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ruggle for Civil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ing Expectations and Civil Str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G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Lo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or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ism as an Everyda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ground of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-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of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reaties to Genocide and Population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isible Minority and Self-Deter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and Ethnic Relations in the United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igration Deb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irmativ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wards a True Multicultural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ing Towards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 Refers to Biologic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ity Refers to Cultural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c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al Heri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s of Ori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- People Singled Out for Unequal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Not Necessarily Numerical Min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- Group with Mo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vile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ocial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minant Group Does the Discrimin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and Domina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ority Group Occur Because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sion of Political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e of Minority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nic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ing Racial-Ethnic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rejud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vs.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imination is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from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lizing Dominant N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gainst Ow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judice and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AF30E-4743-4DB2-A787-E30211E622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04B7F-DD7C-4D49-906C-A053669F6F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0EA07-43A5-4E83-B50F-E635342FB4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4A079-CE03-4AD3-8BBF-498CB6EC26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BA7BB-7112-451C-9999-F21F18F5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2D933-0166-4702-A2F5-E65B6097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E348E-EB8E-4D80-9E08-F74904D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136DE-B88D-482C-BE48-F00B4C55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DB6DE-67F8-4C5C-8298-BFF678A4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DDD1-019B-4A25-8173-F538F72E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AB8F5-C2F4-4A22-B317-BDEA259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7228-E1AD-483E-94BB-A679F7A70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775CF-D3C0-479D-98A9-FF28D9FF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ACCB4-C2EC-424A-A8F6-16AC2E1C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C56C0-D330-46D9-92C2-DEFF91B0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5C815-D882-4F3E-B90C-80DE4CCE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5B79C-A352-4890-9C1D-F8B93BE1C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FDD7C-13AD-48F4-9681-0B36E8046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36720-D43E-48BA-A64B-F84A0D16E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73294-C686-4D5B-AEBF-4801B0839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22B36-B96C-49AE-A842-7BB62C173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63F03-94A5-49B8-9EF9-E968FC6073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1F99-71CC-4C56-AE7D-8690C49FAB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EA41B-17C0-4558-9C19-2F7E453D6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C605-5F61-430A-92CB-CAED7F30D642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2: Race and Ethnicit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BD2E7-02A9-4089-B68F-594ACE4EFD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124080" y="3809880"/>
            <a:ext cx="51055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welv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Race and Ethnicit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r-Reaching Nature of Prejudi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838080" y="914400"/>
            <a:ext cx="800100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ealth Car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6300"/>
                </a:solidFill>
                <a:latin typeface="Times New Roman"/>
              </a:rPr>
              <a:t>Home Mortgage and Car Loan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409680"/>
            <a:ext cx="7696440" cy="164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Individual and Institutional Discrimin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2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8" name="Picture 3" descr="C:\PowerPoint Work\Allyn &amp; Bacon\2005 Work\Henslin 8ed\Artwork\12-02.jpg"/>
          <p:cNvPicPr/>
          <p:nvPr/>
        </p:nvPicPr>
        <p:blipFill>
          <a:blip r:embed="rId1"/>
          <a:stretch/>
        </p:blipFill>
        <p:spPr>
          <a:xfrm>
            <a:off x="380880" y="914400"/>
            <a:ext cx="8534520" cy="4984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ustration and Scapegoa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Authoritarian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66680" y="1111320"/>
            <a:ext cx="6400800" cy="94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5" dur="1" fill="hold"/>
                                  <p:tgtEl>
                                    <p:spTgt spid="1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cal Perspec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Labels Create Prejudic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Self-Fulfilling Prophes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685800"/>
            <a:ext cx="64008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Theories of Prejudic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3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1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5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oc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nal 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66680" y="561960"/>
            <a:ext cx="640080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greg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simil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cultur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066680" y="561960"/>
            <a:ext cx="632484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Patterns of Intergroup Rela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2" name="Picture 3" descr="C:\PowerPoint Work\Allyn &amp; Bacon\2005 Work\Henslin 8ed\Artwork\12-03.jpg"/>
          <p:cNvPicPr/>
          <p:nvPr/>
        </p:nvPicPr>
        <p:blipFill>
          <a:blip r:embed="rId1"/>
          <a:stretch/>
        </p:blipFill>
        <p:spPr>
          <a:xfrm>
            <a:off x="457200" y="1676520"/>
            <a:ext cx="8381880" cy="313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5" descr="C:\PowerPoint Work\Allyn &amp; Bacon\2005 Work\Henslin 8ed\Artwork\12-05.jpg"/>
          <p:cNvPicPr/>
          <p:nvPr/>
        </p:nvPicPr>
        <p:blipFill>
          <a:blip r:embed="rId1"/>
          <a:stretch/>
        </p:blipFill>
        <p:spPr>
          <a:xfrm>
            <a:off x="1676520" y="380880"/>
            <a:ext cx="6932520" cy="6167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135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6" descr="C:\PowerPoint Work\Allyn &amp; Bacon\2005 Work\Henslin 8ed\Artwork\12-04.jpg"/>
          <p:cNvPicPr/>
          <p:nvPr/>
        </p:nvPicPr>
        <p:blipFill>
          <a:blip r:embed="rId2"/>
          <a:stretch/>
        </p:blipFill>
        <p:spPr>
          <a:xfrm>
            <a:off x="6324480" y="380880"/>
            <a:ext cx="2286000" cy="2362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 rot="16200000">
            <a:off x="-1956960" y="2414520"/>
            <a:ext cx="586728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12-06.jpg"/>
          <p:cNvPicPr/>
          <p:nvPr/>
        </p:nvPicPr>
        <p:blipFill>
          <a:blip r:embed="rId1"/>
          <a:stretch/>
        </p:blipFill>
        <p:spPr>
          <a:xfrm>
            <a:off x="1676520" y="685800"/>
            <a:ext cx="6858000" cy="5452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1 - Idea That Any Race is Sup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ll Races Have Geniuses and Idio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yth 2 - Idea that Any Race is P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uman Characteristics Flow Endlessly Togeth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263600"/>
            <a:ext cx="784872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: Myth and Real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on’s Founders Included Only Those from England (WASP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“White” Europeans Infer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104760"/>
            <a:ext cx="762012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uropeans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1" dur="1" fill="hold"/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s Origins, Lo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anish Langu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parative 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228600"/>
            <a:ext cx="73152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atinos (Hispanics)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3" dur="1" fill="hold"/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12-08.jpg"/>
          <p:cNvPicPr/>
          <p:nvPr/>
        </p:nvPicPr>
        <p:blipFill>
          <a:blip r:embed="rId1"/>
          <a:stretch/>
        </p:blipFill>
        <p:spPr>
          <a:xfrm>
            <a:off x="1828800" y="762120"/>
            <a:ext cx="5051520" cy="5333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truggle for Civil Righ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ising Expectations and Civil Str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Gai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5" dur="1" fill="hold"/>
                                  <p:tgtEl>
                                    <p:spTgt spid="1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Los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or Social Class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ism as an Everyday Burd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066680" y="28440"/>
            <a:ext cx="7467840" cy="202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fric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6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0" dur="1" fill="hold"/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5" name="Picture 4" descr="C:\PowerPoint Work\Allyn &amp; Bacon\2005 Work\Henslin 8ed\Artwork\12-09.jpg"/>
          <p:cNvPicPr/>
          <p:nvPr/>
        </p:nvPicPr>
        <p:blipFill>
          <a:blip r:embed="rId1"/>
          <a:stretch/>
        </p:blipFill>
        <p:spPr>
          <a:xfrm>
            <a:off x="2438280" y="228600"/>
            <a:ext cx="38307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ckground of 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asons for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066680" y="104760"/>
            <a:ext cx="7696440" cy="195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sian-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0" name="Picture 3" descr="C:\PowerPoint Work\Allyn &amp; Bacon\2005 Work\Henslin 8ed\Artwork\12-10.jpg"/>
          <p:cNvPicPr/>
          <p:nvPr/>
        </p:nvPicPr>
        <p:blipFill>
          <a:blip r:embed="rId1"/>
          <a:stretch/>
        </p:blipFill>
        <p:spPr>
          <a:xfrm>
            <a:off x="1523880" y="685800"/>
            <a:ext cx="5715000" cy="5292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om Treaties to Genocide and Population Transf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nvisible Minority and Self-Deter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66680" y="257040"/>
            <a:ext cx="754380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Race and Ethnic Relations in the United State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ative America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3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7" dur="1" fill="hold"/>
                                  <p:tgtEl>
                                    <p:spTgt spid="1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Immigration Deb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firmative 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wards a True Multicultural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1143000" y="1187280"/>
            <a:ext cx="8001000" cy="870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ooking Towards the Futur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12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 Refers to Biologic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ity Refers to Cultural Characteris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ommon Ancestry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Cultural Heritage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7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Nations of Origi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066680" y="1035000"/>
            <a:ext cx="4953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thnic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" dur="1" fill="hold"/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8" name="Picture 3" descr="C:\PowerPoint Work\Allyn &amp; Bacon\2005 Work\Henslin 8ed\Artwork\12-11.jpg"/>
          <p:cNvPicPr/>
          <p:nvPr/>
        </p:nvPicPr>
        <p:blipFill>
          <a:blip r:embed="rId1"/>
          <a:stretch/>
        </p:blipFill>
        <p:spPr>
          <a:xfrm>
            <a:off x="380880" y="1523880"/>
            <a:ext cx="8305920" cy="3198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0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- People Singled Out for Unequal Trea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Not Necessarily Numerical Min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577800"/>
            <a:ext cx="61722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142640" y="2133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- Group with Most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ivileg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ighest Social Stat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minant Group Does the Discrimina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30080"/>
            <a:ext cx="601992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inority and Dominant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nority Group Occur Because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ansion of Political Bounda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igr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143000" y="685800"/>
            <a:ext cx="609588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Emergence of Minority Group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ative Siz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ear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scri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thnic 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nstructing Racial-Ethnic Identit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7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5" descr="C:\PowerPoint Work\Allyn &amp; Bacon\2005 Work\Henslin 8ed\Artwork\12-01.jpg"/>
          <p:cNvPicPr/>
          <p:nvPr/>
        </p:nvPicPr>
        <p:blipFill>
          <a:blip r:embed="rId1"/>
          <a:stretch/>
        </p:blipFill>
        <p:spPr>
          <a:xfrm>
            <a:off x="685800" y="990720"/>
            <a:ext cx="7696080" cy="4803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99072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Prejudi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Prejudice vs. Discrimination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crimination is </a:t>
            </a:r>
            <a:r>
              <a:rPr b="1" i="1" lang="en-US" sz="2800" spc="-1" strike="noStrike">
                <a:solidFill>
                  <a:srgbClr val="866300"/>
                </a:solidFill>
                <a:latin typeface="Times New Roman"/>
              </a:rPr>
              <a:t>Ac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Learning from Associ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rnalizing Dominant Norm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Media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lvl="1" marL="776880" indent="-259560">
              <a:lnSpc>
                <a:spcPct val="15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Group Membership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 marL="412920" indent="-41292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rejudice Against Own Grou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43000" y="0"/>
            <a:ext cx="769608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Prejudice and Discriminatio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6" dur="1" fill="hold"/>
                                  <p:tgtEl>
                                    <p:spTgt spid="10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45:50Z</dcterms:modified>
  <cp:revision>179</cp:revision>
  <dc:subject>Chapter 12: Race and Ethnicity</dc:subject>
  <dc:title>Sociology: A Down-to-Earth Approach, 8/e</dc:title>
</cp:coreProperties>
</file>