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elv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and Eth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Reaching Nature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 and Car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Institution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ration and Scapeg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itaria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reat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ing Proph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1 - Idea That Any Race is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ces Have Geniuses and Id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2 - Idea that Any Race is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Characteristics Flow Endless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: Myth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’s Founders Included Only Those from England (WA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“White” Europeans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Origins,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s (Hispan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ggle for Civi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Expectations and Civil Str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or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s an Everyda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of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eaties to Genocide and 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isible Minority and Self-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igration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a True Multicultu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wards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Refers to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Refers to Cultu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c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s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- People Singled Out for Unequ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Not Necessarily Numerical Min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- Group with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Does the Discrim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Occur Because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Politic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Minorit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Racial-Ethnic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vs.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 i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from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gainst Ow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23EA-6EFF-4A37-A4A7-96DAA642E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E9A9-5E1C-40C4-B634-ED01232C2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FAFD-3AE4-4CBA-BF2E-6035ECA85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2BB6-3609-4A4E-8E67-84F3305FC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E50C1-E375-4458-9580-A32A6B1B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CA695-865B-401C-802B-6695CA1C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37194-701F-40B8-A919-96159F4E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6E6F9-E5DF-4E72-A9E7-5F915DCB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F0555-6B1A-45E8-8130-E84683C4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3B218-C917-4BD2-9CCC-633CA3A4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DA7BD-350E-4213-B502-2EA6CAD5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6050-9F6B-4484-A4B4-F332B2D66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596E5-7F99-4F6E-ABA0-1D05B251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D2BB2-73F8-4D5E-9B1F-AE24281B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404CB-322B-4D72-BEE4-FFE05245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A27A8-D1C4-451D-87EF-10F4CC39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28212-31F0-4D1E-9727-CA97AD19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4DFB-0947-4A5A-B805-4A40E46BD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D1FF-D737-4493-9238-440FA3D84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0025-506A-4E7E-AE28-5ECAA6D07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BADD-A3F8-4D1D-B93E-972B6DE4C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8CB4-0668-4B04-ADE0-060DEC314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34F1-482B-4DA4-876F-C4DC673F3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9D53-2DD3-475B-B4A3-8279BB5CD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7425-965C-46B2-ABBB-AC35B9433324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2: Race and Ethnicit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77BD-B3DC-4F0C-B241-C07E8446F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809880"/>
            <a:ext cx="5105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elv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ace and Ethnicit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r-Reaching Nature of Prejudi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914400"/>
            <a:ext cx="80010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ealth Car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ome Mortgage and Car Loan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09680"/>
            <a:ext cx="7696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dividual and Institutional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C:\PowerPoint Work\Allyn &amp; Bacon\2005 Work\Henslin 8ed\Artwork\12-02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ustration and Scapegoa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Authoritarian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111320"/>
            <a:ext cx="64008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Labels Create Prejudi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Self-Fulfilling Prophes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85800"/>
            <a:ext cx="64008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oc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 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561960"/>
            <a:ext cx="64008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greg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imi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cultur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561960"/>
            <a:ext cx="63248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C:\PowerPoint Work\Allyn &amp; Bacon\2005 Work\Henslin 8ed\Artwork\12-03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313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5" descr="C:\PowerPoint Work\Allyn &amp; Bacon\2005 Work\Henslin 8ed\Artwork\12-05.jpg"/>
          <p:cNvPicPr/>
          <p:nvPr/>
        </p:nvPicPr>
        <p:blipFill>
          <a:blip r:embed="rId1"/>
          <a:stretch/>
        </p:blipFill>
        <p:spPr>
          <a:xfrm>
            <a:off x="1676520" y="380880"/>
            <a:ext cx="6932520" cy="616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135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6" descr="C:\PowerPoint Work\Allyn &amp; Bacon\2005 Work\Henslin 8ed\Artwork\12-04.jpg"/>
          <p:cNvPicPr/>
          <p:nvPr/>
        </p:nvPicPr>
        <p:blipFill>
          <a:blip r:embed="rId2"/>
          <a:stretch/>
        </p:blipFill>
        <p:spPr>
          <a:xfrm>
            <a:off x="6324480" y="3808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12-06.jpg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45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1 - Idea That Any Race is Sup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ll Races Have Geniuses and Idio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2 - Idea that Any Race is P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uman Characteristics Flow Endlessly Togeth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263600"/>
            <a:ext cx="784872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: Myth and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on’s Founders Included Only Those from England (WASP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“White” Europeans Inf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4760"/>
            <a:ext cx="762012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uropeans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1" dur="1" fill="hold"/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s Origins, Lo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anish 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ative 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28600"/>
            <a:ext cx="73152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tinos (Hispanic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12-08.jpg"/>
          <p:cNvPicPr/>
          <p:nvPr/>
        </p:nvPicPr>
        <p:blipFill>
          <a:blip r:embed="rId1"/>
          <a:stretch/>
        </p:blipFill>
        <p:spPr>
          <a:xfrm>
            <a:off x="1828800" y="762120"/>
            <a:ext cx="50515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ruggle for Civil Righ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sing Expectations and Civil Str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Gai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Los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or Social Class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s an Everyday Burd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0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5" name="Picture 4" descr="C:\PowerPoint Work\Allyn &amp; Bacon\2005 Work\Henslin 8ed\Artwork\12-09.jpg"/>
          <p:cNvPicPr/>
          <p:nvPr/>
        </p:nvPicPr>
        <p:blipFill>
          <a:blip r:embed="rId1"/>
          <a:stretch/>
        </p:blipFill>
        <p:spPr>
          <a:xfrm>
            <a:off x="2438280" y="228600"/>
            <a:ext cx="38307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ckground of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asons for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66680" y="104760"/>
            <a:ext cx="769644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i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0" name="Picture 3" descr="C:\PowerPoint Work\Allyn &amp; Bacon\2005 Work\Henslin 8ed\Artwork\12-10.jpg"/>
          <p:cNvPicPr/>
          <p:nvPr/>
        </p:nvPicPr>
        <p:blipFill>
          <a:blip r:embed="rId1"/>
          <a:stretch/>
        </p:blipFill>
        <p:spPr>
          <a:xfrm>
            <a:off x="1523880" y="685800"/>
            <a:ext cx="5715000" cy="52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m Treaties to Genocide and 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nvisible Minority and Self-Deter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57040"/>
            <a:ext cx="7543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tive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7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mmigration Deb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firmative 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wards a True Multicultural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1187280"/>
            <a:ext cx="8001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ooking Towards the Fu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2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Refers to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ity Refers to Cultur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ommon Ancestr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ultural Heritag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ations of Origi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035000"/>
            <a:ext cx="4953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ic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8" name="Picture 3" descr="C:\PowerPoint Work\Allyn &amp; Bacon\2005 Work\Henslin 8ed\Artwork\12-1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- People Singled Out for Unequal Trea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Not Necessarily Numerical Min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77800"/>
            <a:ext cx="61722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- Group with Most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ivileg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ighest Social Stat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Does the Discrimina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Occur Because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ansion of Political Bounda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gr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6858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ence of Minority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Siz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structing Racial-Ethnic Ident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C:\PowerPoint Work\Allyn &amp; Bacon\2005 Work\Henslin 8ed\Artwork\12-01.jp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8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Prejudi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rejudice vs. Discriminatio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crimination is </a:t>
            </a:r>
            <a:r>
              <a:rPr b="1" i="1" lang="en-US" sz="2800" spc="-1" strike="noStrike">
                <a:solidFill>
                  <a:srgbClr val="866300"/>
                </a:solidFill>
                <a:latin typeface="Times New Roman"/>
              </a:rPr>
              <a:t>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from Associ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ejudice Against Own Grou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0"/>
            <a:ext cx="769608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45:50Z</dcterms:modified>
  <cp:revision>179</cp:revision>
  <dc:subject>Chapter 12: Race and Ethnicity</dc:subject>
  <dc:title>Sociology: A Down-to-Earth Approach, 8/e</dc:title>
</cp:coreProperties>
</file>