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lev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and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ing Back: The Rise of Fem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ave—Early 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ave Began 196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ave Emerging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aluation of the Fem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ver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ass Esca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cking the Glass Ce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Power, Prestige, and Property on the Basis of Sex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ender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trol of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Harassment and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ble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(Acquaintance)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in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sm and Gendere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 of Strength, Virility,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Losing Power, Reassert Through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Majority i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Law and Business Car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Face of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s Com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andoning 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mpsing the Future - With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-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 and 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and Secondary Sexu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- Soci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culinity and Femin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Position in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Primary, Not Bi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iological Should Be Less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 - 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the Door to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dical A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 Vetera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emales became a Minorit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igins of Patri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Typing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restige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reas of Glob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70713-32EF-42D0-A3E2-6B214B393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7AC4-A7A2-49DB-8ADE-70220AFBA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97153-DBC7-4280-847F-F0327F8BF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42C9-E2A1-4744-B7E3-52ED7DB9C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F88BF-1C9A-4459-BBDB-A5646EA1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40FC4-97BE-4D71-8FAD-3610E959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E3ED1-0665-419F-875A-8AB1A6E0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50904-0F70-4FBD-8757-6E5152D3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4DD09-222F-4085-87AF-82ACA558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ABE7F-F97E-4493-B410-45A391A7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5DAF1-7C85-457E-9093-0C51C2DC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E29F9-0614-4F65-BE18-AA58BE686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9CEEB-1FB7-44D1-8F93-8C2D0A74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EE861-EF06-40CB-87DD-BE67D3BC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A239D-9A6F-4638-8D43-CD0095F9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D4782-8D24-42D5-973B-D0EFC6B6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5BA1F-21B1-47C5-9ED2-F6BE1D22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A616-24F4-42AA-BF8F-A0C68C1ED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CB42-D63A-4B4C-94E4-C94207121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B37A-494C-4D0E-9859-43A34021E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0053-D69A-417E-A27C-7535226C6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EC62F-1FF9-4CDF-BAC9-41008E257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74B6-E75C-474D-AD5A-29FBAC34F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EE371-1E22-4EC3-8954-1CB45E7C5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F2D0-B14B-4848-BB27-AB546570045B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1: Sex and Gender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7C37-2611-4710-83C8-D4B2028F0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657600"/>
            <a:ext cx="5029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lev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ex and Gender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ghting Back: The Rise of Femi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ave—Early 19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ave Began 196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ave Emerging No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349200"/>
            <a:ext cx="57150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Health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25520"/>
            <a:ext cx="5943600" cy="16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11-02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564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0" name="Picture 3" descr="11-03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827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4" descr="11-04"/>
          <p:cNvPicPr/>
          <p:nvPr/>
        </p:nvPicPr>
        <p:blipFill>
          <a:blip r:embed="rId1"/>
          <a:stretch/>
        </p:blipFill>
        <p:spPr>
          <a:xfrm>
            <a:off x="533520" y="380880"/>
            <a:ext cx="7696080" cy="608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aluation of the Femin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vers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54120"/>
            <a:ext cx="571500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y Ga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7" dur="1" fill="hold"/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0" name="Picture 3" descr="11-07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11-08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620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ass Escalat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66680" y="2057400"/>
            <a:ext cx="8077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Pay Gap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acking the Glass Cei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1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Power, Prestige, and Property on the Basis of Sex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79250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Gender Stratification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trol of 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Harassment and Wo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5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rcible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ate (Acquaintance)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urd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ence in the H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Women and Criminal Justice System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9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11-09"/>
          <p:cNvPicPr/>
          <p:nvPr/>
        </p:nvPicPr>
        <p:blipFill>
          <a:blip r:embed="rId1"/>
          <a:stretch/>
        </p:blipFill>
        <p:spPr>
          <a:xfrm>
            <a:off x="838080" y="457200"/>
            <a:ext cx="7086600" cy="599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m and Gendered Viol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ic Interactionis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Association of Strength, Virility, and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n Losing Power, Reassert Through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l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Majority in Popu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Gover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Law and Business Car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hanging Face of Polit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rriers Coming Dow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andoning 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w Conscious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533520"/>
            <a:ext cx="7467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impsing the Future - With Hop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4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-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ale and Ma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and Secondary Sexu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187280"/>
            <a:ext cx="80773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- Soci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culinity and Femini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priate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1339920"/>
            <a:ext cx="8077320" cy="7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Position in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Primary, Not Biologic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f Biological Should Be Less Var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457200"/>
            <a:ext cx="8001000" cy="15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 -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pening the Door to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Medical Accid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etnam Veteran Stud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04760"/>
            <a:ext cx="617220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Females became a Minority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rigins of Patriarc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Typing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restige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533520"/>
            <a:ext cx="69343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11-01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05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Areas of Global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ay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609480"/>
            <a:ext cx="6934320" cy="141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0:01Z</dcterms:modified>
  <cp:revision>174</cp:revision>
  <dc:subject>Chapter 11: Sex and Gender</dc:subject>
  <dc:title>Sociology: A Down-to-Earth Approach, 8/e</dc:title>
</cp:coreProperties>
</file>