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lev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and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Back: The Rise of Fe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ave—Early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ave Began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ave Emerg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aluation of the Fem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ass Esca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cking the Glass Ce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Power, Prestige, and Property on the Basis of Se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der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trol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Harassment and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ble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(Acquaintance)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in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sm and Gendere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Strength, Virility,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Losing Power, Reassert Throug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Majority 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Law and Business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Face of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Com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ing 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mpsing the Future - With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-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and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nd Secondary Sex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- Soc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culinity and Femin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Position in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Primary, Not B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iological Should Be Less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 - 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he Door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dica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Vetera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emales became a Minorit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s of Patri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Typing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restig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reas of Glob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8F79-5235-44AD-BC93-6A954D2AF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CC01-63D1-4B5B-9FF6-AC1530510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D782-AF14-48CE-BFB0-8BD602F58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345A-62A9-4410-9E31-3C61CD7B6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F75E9-F5CE-497D-B6C9-6411B9DE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84387-B146-44BC-B7A6-D9F5B155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A9027-BD1E-42D0-9028-5EDA2370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D1B96-0F21-4B1D-A651-FCFE4E0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326B1-5103-474E-8B00-EC0114EA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9D8A0-C282-4E5E-9613-27180F68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3D0A9-3BAC-4A1A-AD8F-63CF9410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B424-CB30-4B33-8F21-4F8F0ACC8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6B167-2979-485E-BF99-08E9251E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B9C9B-6EC3-4CB1-AF8E-6CA0ABB7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C04DF-6148-4D12-BDE5-ECDC3851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C3796-FC80-4B25-91AC-87840F1F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48240-0FE2-48CB-9D58-86E49F9F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CFC5-0822-4067-8CF8-A4354C021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8592-D83B-40C9-AE32-CEDF63164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D8F5-5D8B-4EEC-9889-DB200599E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A9DA-67E1-4437-8D22-FA7E286E9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A2D7-3C85-4FEE-8893-C2005AB76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7124-04C9-40BB-B2CE-EA986FACB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0872-48BB-4B02-8A7C-0CA9F711F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4531-94AA-4B86-A57C-8EB07AF87E3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1: Sex and Gender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8C4A-FC5A-4BFB-AC29-C9CC49209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657600"/>
            <a:ext cx="5029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lev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ex and Gender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ghting Back: The Rise of Femi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ave—Early 19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ave Began 196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ave Emerging No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349200"/>
            <a:ext cx="57150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Health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25520"/>
            <a:ext cx="5943600" cy="16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11-02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564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0" name="Picture 3" descr="11-03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827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4" descr="11-04"/>
          <p:cNvPicPr/>
          <p:nvPr/>
        </p:nvPicPr>
        <p:blipFill>
          <a:blip r:embed="rId1"/>
          <a:stretch/>
        </p:blipFill>
        <p:spPr>
          <a:xfrm>
            <a:off x="533520" y="380880"/>
            <a:ext cx="769608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aluation of the Femin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vers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54120"/>
            <a:ext cx="571500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y Ga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0" name="Picture 3" descr="11-07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11-08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0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ass Escalat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66680" y="20574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Pay Gap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acking the Glass Cei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Power, Prestige, and Property on the Basis of Sex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79250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Gender Stratification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trol of 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Harassment and Wo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rcible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ate (Acquaintance)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urd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ence in the H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Women and Criminal Justice System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11-09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9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m and Gendered Viol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ic Interactionis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Association of Strength, Virility, and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n Losing Power, Reassert Through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Majority in Popu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Gover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Law and Business Car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hanging Face of Polit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rriers Coming Dow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andoning 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w Conscious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533520"/>
            <a:ext cx="7467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impsing the Future - With Hop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-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ale and Ma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and Secondary Sexu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187280"/>
            <a:ext cx="80773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- Soci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culinity and Femini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priate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339920"/>
            <a:ext cx="8077320" cy="7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Position in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Primary, Not Biologic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f Biological Should Be Less Var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457200"/>
            <a:ext cx="8001000" cy="15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 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pening the Door to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Medical Accid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etnam Veteran Stud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04760"/>
            <a:ext cx="61722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Females became a Minority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rigins of Patriarc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Typing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restige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533520"/>
            <a:ext cx="69343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11-01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05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Areas of Global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ay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609480"/>
            <a:ext cx="6934320" cy="141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0:01Z</dcterms:modified>
  <cp:revision>174</cp:revision>
  <dc:subject>Chapter 11: Sex and Gender</dc:subject>
  <dc:title>Sociology: A Down-to-Earth Approach, 8/e</dc:title>
</cp:coreProperties>
</file>