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lev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and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ing Back: The Rise of Femi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ave—Early 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ave Began 196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ave Emerging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aluation of the Fem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ver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ass Esca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y G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cking the Glass Ce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Power, Prestige, and Property on the Basis of Sex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Gender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ontrol of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Harassment and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Inequality in 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ble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(Acquaintance)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in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sm and Gendere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of Strength, Virility,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Losing Power, Reassert Through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Majority i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Underrepresented in Law and Business Car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Face of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iers Com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andoning 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mpsing the Future - With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-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ale and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and Secondary Sexu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- Soci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culinity and Femini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of Sex and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Position in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Primary, Not Bi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iological Should Be Less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 - 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the Door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dical Acc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 Veteran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Differences I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or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emales became a Minorit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igins of Patri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 Typing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restige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reas of Glob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Gap in P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ce Against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Inequality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144F-5615-4DB0-905B-B921AC068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0A44-795C-4578-BB24-27A7E1BFF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DCA0-1E5A-4823-B1E3-EA6B0427E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65DB6-8214-47AD-BFD8-22B2D4783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34B85-F349-4659-8AAB-1B595FE7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76CE1-F526-401A-85E5-CE5A082E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F26B9-3FEB-4055-A552-09ABEC12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8F07E-6C6F-41AC-93A8-FEDDAFA3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5DA90-D554-4D9B-BF24-E60D57D1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50C52-C34B-446F-8CD4-DA8DEDC0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167A4-626F-409F-B1CB-5B5D6DF5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EB38-8010-4E0B-B575-73F7E8D3B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D28BE-60F2-4D5C-BA29-0E3D2E9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C46E5-CE1E-4CF3-BD74-AC52EB6F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3A06E-EF64-44A2-9BB2-2D3F21B3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26396-1E3E-4766-A2F2-6FCC9402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B949C-B540-4E17-8656-B8AFC7C6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0CC8-8BC3-4836-B8CA-726EBCDA9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6E7C-8FBF-4BFB-B184-EFDF09460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E5F8-66BA-4B88-B0BA-E696F351C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0689-CCB3-4471-82C1-6A4B90C30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131D-CB69-487C-A799-11F00FF6A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D368-0C99-44B6-9CDA-F66DDB117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903B-A5AB-4A6E-8F50-F5A9673ED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1F4C-6FCC-42EC-ABB6-809EAF1C1C02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1: Sex and Gender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2A8-01C9-4681-88AB-C2DDEB6B3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657600"/>
            <a:ext cx="5029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lev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ex and Gender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ghting Back: The Rise of Femi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ave—Early 19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ave Began 196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ave Emerging No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349200"/>
            <a:ext cx="57150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Health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25520"/>
            <a:ext cx="5943600" cy="16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11-02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564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0" name="Picture 3" descr="11-03"/>
          <p:cNvPicPr/>
          <p:nvPr/>
        </p:nvPicPr>
        <p:blipFill>
          <a:blip r:embed="rId1"/>
          <a:stretch/>
        </p:blipFill>
        <p:spPr>
          <a:xfrm>
            <a:off x="914400" y="533520"/>
            <a:ext cx="7391520" cy="5827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4" descr="11-04"/>
          <p:cNvPicPr/>
          <p:nvPr/>
        </p:nvPicPr>
        <p:blipFill>
          <a:blip r:embed="rId1"/>
          <a:stretch/>
        </p:blipFill>
        <p:spPr>
          <a:xfrm>
            <a:off x="533520" y="380880"/>
            <a:ext cx="7696080" cy="608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Inequality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aluation of the Femin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vers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54120"/>
            <a:ext cx="571500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U.S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y Ga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7" dur="1" fill="hold"/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0" name="Picture 3" descr="11-07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11-08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620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ass Escalat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609480"/>
            <a:ext cx="579132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66680" y="2057400"/>
            <a:ext cx="8077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Pay Gap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acking the Glass Cei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5142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Power, Prestige, and Property on the Basis of Sex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79250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Gender Stratification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ontrol of 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Harassment and Wo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Inequality in the Workpla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5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rcible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ate (Acquaintance) Rap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urd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ence in the H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Women and Criminal Justice System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9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11-09"/>
          <p:cNvPicPr/>
          <p:nvPr/>
        </p:nvPicPr>
        <p:blipFill>
          <a:blip r:embed="rId1"/>
          <a:stretch/>
        </p:blipFill>
        <p:spPr>
          <a:xfrm>
            <a:off x="838080" y="457200"/>
            <a:ext cx="7086600" cy="599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m and Gendered Viol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ic Interactionis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Association of Strength, Virility, and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11080" indent="-271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2" marL="1136880" indent="-217080">
              <a:lnSpc>
                <a:spcPct val="16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n Losing Power, Reassert Through Violen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l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Viol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4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Majority in Popu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Gover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Underrepresented in Law and Business Car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hanging Face of Politic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rriers Coming Dow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andoning 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w Conscious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533520"/>
            <a:ext cx="7467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impsing the Future - With Hop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4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-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ale and Ma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mary and Secondary Sexu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187280"/>
            <a:ext cx="80773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- Soci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culinity and Femini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priate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1339920"/>
            <a:ext cx="8077320" cy="7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sues of Sex and Gende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Position in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Primary, Not Biologic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f Biological Should Be Less Var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457200"/>
            <a:ext cx="8001000" cy="15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 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pening the Door to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Medical Accid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etnam Veteran Stud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04760"/>
            <a:ext cx="617220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Differences In Behavi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iology or Cultur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Females became a Minority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rigins of Patriarc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 Typing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restige of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533520"/>
            <a:ext cx="693432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11-01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05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Areas of Global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Gap in Pay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iolence Against Wom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609480"/>
            <a:ext cx="6934320" cy="141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ender and Inequality in Glob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0:01Z</dcterms:modified>
  <cp:revision>174</cp:revision>
  <dc:subject>Chapter 11: Sex and Gender</dc:subject>
  <dc:title>Sociology: A Down-to-Earth Approach, 8/e</dc:title>
</cp:coreProperties>
</file>