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lass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pp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ds -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Executives - Lower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Ford Dealership - Upper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Salesperson -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Mechanics -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Detailer -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Lot Cleaner -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in the Auto Industry -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 of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and the Judic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and the Changing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gen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of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cent Studies with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 Doesn’t Fall Far Fro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of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ing Statistics on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zatio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are Trapped and Few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tino and African-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Single Mothers and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ve in Inner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on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or Relatively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structured i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rred G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Horatio Al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unctions of a My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s and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Pa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quire Mor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ntail More Abstrac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Offer Greater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ily Wealth, Power, and Prestige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y Don’t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Ma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D126-97B8-44A8-9FAC-176D3FB7F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4A6B-E79D-4346-B42F-114CA44BC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7B27-6DA8-4B92-9FD0-F3D4A0019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BE18-4716-4B1C-A4DB-49A998792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81B18-4822-4EF9-ABC0-C4ED803C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5D3A8-0F3E-421E-8D47-308395B9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E5CF0-7E7E-4F50-8C94-5CE118AF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47611-EFBB-46E2-89CD-D8A91566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5DE9D-C709-4D90-A2D2-09649764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2EADF-E8FC-481A-9A91-41BE85D1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4EFF1-40BC-488F-90DF-4D5D62C3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A8BF-D787-4A0E-AE53-3BCEB8BE3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0FBA5-FE95-423D-8322-E5CFE54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456BB-0921-4368-9762-71C5F17C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403B5-AB6D-476B-93AB-4B16E365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BEA5F-EA8F-454D-A90F-847BD559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1AD3E-B5E7-41C5-BA0D-20CF2376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4362-218D-4495-9F69-6658BD8AF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E0BE-C89A-491D-A80A-4FACE291F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56ADE-14CE-48E9-9CC2-E38E5CD2E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4AE6-17A5-4639-87D6-E216F2BCE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83FA-E390-4CB0-88B9-A8E57B115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31FF-28B3-4B34-B43E-05CFEE526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FE70-80A2-4C5C-B32D-AEE9C4B5B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332F-4637-402F-8DB0-7C4E9E57A22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0: Social Class in the United State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AFA4-CE12-4A37-826E-C78F4B248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819520" y="3657600"/>
            <a:ext cx="5638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Class in th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pp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7" name="Picture 4" descr="C:\PowerPoint Work\Allyn &amp; Bacon\2005 Work\Henslin 8ed\Artwork\10-05.jpg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ords -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Executives - Lower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wner Ford Dealership - Upper Midd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Salesperson -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Mechanics -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Detailer -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 Lot Cleaner -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Class in the Auto Industry - For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nt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533520"/>
            <a:ext cx="5181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oices of Husbands and Wiv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or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ild Rear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577800"/>
            <a:ext cx="49532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and the Judicial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and the Changing Ec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ree 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generation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Up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own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uc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and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ies of Bo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e Recent Studies with Gir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e Doesn’t Fall Far From T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in of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561960"/>
            <a:ext cx="670572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preting Statistics on 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6" name="Picture 4" descr="C:\PowerPoint Work\Allyn &amp; Bacon\2005 Work\Henslin 8ed\Artwork\10-07.jpg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93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1" name="Picture 2" descr="C:\PowerPoint Work\Allyn &amp; Bacon\2005 Work\Henslin 8ed\Artwork\10-06.jpg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6" name="Picture 3" descr="C:\PowerPoint Work\Allyn &amp; Bacon\2005 Work\Henslin 8ed\Artwork\10-08.jpg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4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zatio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66680" y="205740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ld 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5" descr="C:\PowerPoint Work\Allyn &amp; Bacon\2005 Work\Henslin 8ed\Artwork\10-09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71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z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or are Trapped and Few Esc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tino and African-Americ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Single Mothers and Ki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Live in Inner 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on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11430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5" descr="C:\PowerPoint Work\Allyn &amp; Bacon\2005 Work\Henslin 8ed\Artwork\10-01.jpg"/>
          <p:cNvPicPr/>
          <p:nvPr/>
        </p:nvPicPr>
        <p:blipFill>
          <a:blip r:embed="rId1"/>
          <a:srcRect l="0" t="0" r="0" b="46896"/>
          <a:stretch/>
        </p:blipFill>
        <p:spPr>
          <a:xfrm>
            <a:off x="1752480" y="152280"/>
            <a:ext cx="2792520" cy="517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3" name="Picture 6" descr="C:\PowerPoint Work\Allyn &amp; Bacon\2005 Work\Henslin 8ed\Artwork\10-01.jpg"/>
          <p:cNvPicPr/>
          <p:nvPr/>
        </p:nvPicPr>
        <p:blipFill>
          <a:blip r:embed="rId2"/>
          <a:srcRect l="0" t="53108" r="0" b="0"/>
          <a:stretch/>
        </p:blipFill>
        <p:spPr>
          <a:xfrm>
            <a:off x="4114800" y="2057400"/>
            <a:ext cx="2792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2" name="Picture 3" descr="C:\PowerPoint Work\Allyn &amp; Bacon\2005 Work\Henslin 8ed\Artwork\10-10.jpg"/>
          <p:cNvPicPr/>
          <p:nvPr/>
        </p:nvPicPr>
        <p:blipFill>
          <a:blip r:embed="rId1"/>
          <a:stretch/>
        </p:blipFill>
        <p:spPr>
          <a:xfrm>
            <a:off x="2514600" y="457200"/>
            <a:ext cx="41324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 of Poor Relatively Stab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ature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acteristics of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295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y are People Poor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lfare Reform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Welfare Restructured in 1996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erred Gratif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re is Horatio Alg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unctions of a My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9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5" name="Picture 4" descr="C:\PowerPoint Work\Allyn &amp; Bacon\2005 Work\Henslin 8ed\Artwork\10-02.jpg"/>
          <p:cNvPicPr/>
          <p:nvPr/>
        </p:nvPicPr>
        <p:blipFill>
          <a:blip r:embed="rId1"/>
          <a:srcRect l="0" t="0" r="0" b="20766"/>
          <a:stretch/>
        </p:blipFill>
        <p:spPr>
          <a:xfrm>
            <a:off x="1752480" y="57240"/>
            <a:ext cx="2514600" cy="672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6" name="Picture 5" descr="C:\PowerPoint Work\Allyn &amp; Bacon\2005 Work\Henslin 8ed\Artwork\10-02.jpg"/>
          <p:cNvPicPr/>
          <p:nvPr/>
        </p:nvPicPr>
        <p:blipFill>
          <a:blip r:embed="rId2"/>
          <a:srcRect l="0" t="76469" r="0" b="0"/>
          <a:stretch/>
        </p:blipFill>
        <p:spPr>
          <a:xfrm>
            <a:off x="4419720" y="2819520"/>
            <a:ext cx="3047760" cy="242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97" name="Rectangle 6"/>
          <p:cNvSpPr/>
          <p:nvPr/>
        </p:nvSpPr>
        <p:spPr>
          <a:xfrm>
            <a:off x="4792680" y="2819520"/>
            <a:ext cx="2141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5" descr="C:\PowerPoint Work\Allyn &amp; Bacon\2005 Work\Henslin 8ed\Artwork\10-03.jpg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s and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Pay M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Require More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Entail More Abstract Though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Offer Greater Aut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sti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rdinarily Wealth, Power, and Prestige are Simil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n they Don’t Mat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atus Inconsistenc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Marx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tty Bourgeois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nag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577800"/>
            <a:ext cx="63248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2" name="Picture 4" descr="C:\PowerPoint Work\Allyn &amp; Bacon\2005 Work\Henslin 8ed\Artwork\10-04.jpg"/>
          <p:cNvPicPr/>
          <p:nvPr/>
        </p:nvPicPr>
        <p:blipFill>
          <a:blip r:embed="rId1"/>
          <a:stretch/>
        </p:blipFill>
        <p:spPr>
          <a:xfrm>
            <a:off x="5638680" y="2057400"/>
            <a:ext cx="3017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4:23Z</dcterms:modified>
  <cp:revision>174</cp:revision>
  <dc:subject>Chapter 10: Social Class in the United States</dc:subject>
  <dc:title>Sociology: A Down-to-Earth Approach, 8/e</dc:title>
</cp:coreProperties>
</file>