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al Class in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ted St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We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pp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ords -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Executives - Lower Capitalist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wner Ford Dealership - Upper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Salesperson - Lower Middle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Mechanics - Working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d Detailer - Working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 Lot Cleaner - Under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in the Auto Industry - F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ntal H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mily Li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ices of Husbands and W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o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 Rea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i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me and the Judicia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Class and the Changing Ec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equence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genera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w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men and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ies of Bo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Recent Studies with G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e Doesn’t Fall Far From 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ain of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preting Statistics on Social Mo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wing the Poverty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ce-Ethn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o are Poor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minizatio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ld 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ildren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z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are Trapped and Few E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Latino and African-Ameri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Single Mothers and K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Live in Inner 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are on Welf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yths About the Po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Poverty is Short-l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Poor Relatively S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s of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 of Soci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acteristics of Individ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are People Po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fo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fare Restructured in 19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rred Grat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is Horatio Al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Functions of a My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inction Between Wealth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ion of Wealth, Property, and In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Social Cla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cupations and 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Pa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Require More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Entail More Abstract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Offer Greater Auton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ti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dinarily Wealth, Power, and Prestige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they Don’t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us Inconsis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ing Ma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ita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tty Bourgeoi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ological Models of Social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E5CDD-F897-4B73-B1AE-23AAA7FD61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ADA50-4191-4391-B34B-89D7CDBA64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04DF7-93A2-4C75-9192-4FFB55C4C9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45124-ECEC-45DB-8578-FAF88DF867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B2612-0E85-40E8-BABD-1ED4EFAB5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0C477E-D09B-4D90-AFCB-B13BE5A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0AF01B-A090-41F7-9304-9B0BC8F9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ED0CA1-69DC-4782-89E3-43293AFB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9FF17D-8910-46E5-9309-5AD470DC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1B3AE7-BD14-475F-8EDA-65F4D466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CB6DB-92C1-4D52-82D4-AD38021D0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66574-F166-49D4-A4F9-407E672C16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1FBD2-FE6C-4740-80CB-465FB8B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A12E2F-7CCA-45FC-993B-5C887A95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D62344-97D4-4F77-A3B5-02798EFD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A88204-C503-4A33-A2CC-AC158E0C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EFDCDE-F937-4969-8B5B-1C6CD058D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48471-2015-46D9-B4B9-211BEE525C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79438-E2E2-4234-958E-5E8AB2AD02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8BCA8-B0E8-4447-97F6-86103D19C0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7C7DB-68B4-4C82-93EF-F27FB8FEC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28033-FC41-49F2-8D54-0EF9827269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75FBB-784F-4477-8F1F-14838160A7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BAF7-A6EB-4725-A2FF-A31C8CD3D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-3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6C66-2708-412A-9451-7239EA955D64}" type="slidenum"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" name="Rectangle 39"/>
          <p:cNvSpPr/>
          <p:nvPr/>
        </p:nvSpPr>
        <p:spPr>
          <a:xfrm>
            <a:off x="2895480" y="0"/>
            <a:ext cx="6248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d4d4d"/>
                </a:solidFill>
                <a:latin typeface="Times New Roman"/>
              </a:rPr>
              <a:t>Chapter 10: Social Class in the United States</a:t>
            </a:r>
            <a:endParaRPr b="1" lang="en-US" sz="1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1085760" cy="68547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009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48920" indent="-44892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945360" indent="-40608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2" marL="1400760" indent="-36504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3" marL="1849680" indent="-3585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4" marL="2257560" indent="-317160"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5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6" marL="2257560" indent="-317160">
              <a:lnSpc>
                <a:spcPct val="130000"/>
              </a:lnSpc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1F3A2-932F-41CB-8626-4B3190F09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3"/>
          <p:cNvSpPr/>
          <p:nvPr/>
        </p:nvSpPr>
        <p:spPr>
          <a:xfrm>
            <a:off x="2819520" y="3657600"/>
            <a:ext cx="5638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Chapter Ten: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Social Class in the 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Times New Roman"/>
              </a:rPr>
              <a:t>United States</a:t>
            </a:r>
            <a:endParaRPr b="1" lang="en-US" sz="36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Web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pp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0" dur="1" fill="hold"/>
                                  <p:tgtEl>
                                    <p:spTgt spid="11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7" name="Picture 4" descr="C:\PowerPoint Work\Allyn &amp; Bacon\2005 Work\Henslin 8ed\Artwork\10-05.jpg"/>
          <p:cNvPicPr/>
          <p:nvPr/>
        </p:nvPicPr>
        <p:blipFill>
          <a:blip r:embed="rId1"/>
          <a:stretch/>
        </p:blipFill>
        <p:spPr>
          <a:xfrm>
            <a:off x="533520" y="380880"/>
            <a:ext cx="8076960" cy="609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Fords -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Executives - Lower Capitalist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wner Ford Dealership - Upper Midd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Salesperson - Lower Middle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Mechanics - Working 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ord Detailer - Working Poo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r Lot Cleaner - Underclas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066680" y="533520"/>
            <a:ext cx="64008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Class in the Auto Industry - Ford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69" dur="1" fill="hold"/>
                                  <p:tgtEl>
                                    <p:spTgt spid="11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hysic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ental H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1066680" y="533520"/>
            <a:ext cx="518184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3" dur="1" fill="hold"/>
                                  <p:tgtEl>
                                    <p:spTgt spid="12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8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amily Lif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oices of Husbands and Wive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vorc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8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Child Rearing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1066680" y="577800"/>
            <a:ext cx="49532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07" dur="1" fill="hold"/>
                                  <p:tgtEl>
                                    <p:spTgt spid="12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elig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litic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6" dur="1" fill="hold"/>
                                  <p:tgtEl>
                                    <p:spTgt spid="128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rime and the Judicial System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Class and the Changing Ec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1066680" y="533520"/>
            <a:ext cx="5029200" cy="15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Consequence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0" dur="1" fill="hold"/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ree Type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Intergeneration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Up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ownward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tructural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xchan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74" dur="1" fill="hold"/>
                                  <p:tgtEl>
                                    <p:spTgt spid="13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men and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Studies of Boy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9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More Recent Studies with Girls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1066680" y="1143000"/>
            <a:ext cx="807732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93" dur="1" fill="hold"/>
                                  <p:tgtEl>
                                    <p:spTgt spid="13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Apple Doesn’t Fall Far From Tre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 Pain of Social Mobil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1066680" y="561960"/>
            <a:ext cx="6705720" cy="1495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nterpreting Statistics on Social Mobili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7" dur="1" fill="hold"/>
                                  <p:tgtEl>
                                    <p:spTgt spid="14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66300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26" dur="1" fill="hold"/>
                                  <p:tgtEl>
                                    <p:spTgt spid="14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46" name="Picture 4" descr="C:\PowerPoint Work\Allyn &amp; Bacon\2005 Work\Henslin 8ed\Artwork\10-07.jpg"/>
          <p:cNvPicPr/>
          <p:nvPr/>
        </p:nvPicPr>
        <p:blipFill>
          <a:blip r:embed="rId1"/>
          <a:stretch/>
        </p:blipFill>
        <p:spPr>
          <a:xfrm>
            <a:off x="838080" y="609480"/>
            <a:ext cx="7315200" cy="5938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1" name="Picture 2" descr="C:\PowerPoint Work\Allyn &amp; Bacon\2005 Work\Henslin 8ed\Artwork\10-06.jpg"/>
          <p:cNvPicPr/>
          <p:nvPr/>
        </p:nvPicPr>
        <p:blipFill>
          <a:blip r:embed="rId1"/>
          <a:stretch/>
        </p:blipFill>
        <p:spPr>
          <a:xfrm>
            <a:off x="533520" y="685800"/>
            <a:ext cx="7772400" cy="5442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ho are Poo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Drawing the Poverty Lin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Geograph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Race-Ethni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56" name="Picture 3" descr="C:\PowerPoint Work\Allyn &amp; Bacon\2005 Work\Henslin 8ed\Artwork\10-08.jpg"/>
          <p:cNvPicPr/>
          <p:nvPr/>
        </p:nvPicPr>
        <p:blipFill>
          <a:blip r:embed="rId1"/>
          <a:stretch/>
        </p:blipFill>
        <p:spPr>
          <a:xfrm>
            <a:off x="685800" y="533520"/>
            <a:ext cx="7696080" cy="55483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o are Poor?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minizatio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066680" y="205740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ld A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ildren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61" name="Picture 5" descr="C:\PowerPoint Work\Allyn &amp; Bacon\2005 Work\Henslin 8ed\Artwork\10-09.jpg"/>
          <p:cNvPicPr/>
          <p:nvPr/>
        </p:nvPicPr>
        <p:blipFill>
          <a:blip r:embed="rId1"/>
          <a:stretch/>
        </p:blipFill>
        <p:spPr>
          <a:xfrm>
            <a:off x="6400800" y="304920"/>
            <a:ext cx="2427120" cy="6400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5" dur="1" fill="hold"/>
                                  <p:tgtEl>
                                    <p:spTgt spid="16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z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or are Trapped and Few Escap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2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Latino and African-America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4" dur="1" fill="hold"/>
                                  <p:tgtEl>
                                    <p:spTgt spid="16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Single Mothers and Kid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Live in Inner Ci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1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are on Welfa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1066680" y="1143000"/>
            <a:ext cx="6629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Myths About the Poor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93" dur="1" fill="hold"/>
                                  <p:tgtEl>
                                    <p:spTgt spid="16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07" dur="1" fill="hold"/>
                                  <p:tgtEl>
                                    <p:spTgt spid="1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2" name="Picture 5" descr="C:\PowerPoint Work\Allyn &amp; Bacon\2005 Work\Henslin 8ed\Artwork\10-01.jpg"/>
          <p:cNvPicPr/>
          <p:nvPr/>
        </p:nvPicPr>
        <p:blipFill>
          <a:blip r:embed="rId1"/>
          <a:srcRect l="0" t="0" r="0" b="46896"/>
          <a:stretch/>
        </p:blipFill>
        <p:spPr>
          <a:xfrm>
            <a:off x="1752480" y="152280"/>
            <a:ext cx="2792520" cy="5178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3" name="Picture 6" descr="C:\PowerPoint Work\Allyn &amp; Bacon\2005 Work\Henslin 8ed\Artwork\10-01.jpg"/>
          <p:cNvPicPr/>
          <p:nvPr/>
        </p:nvPicPr>
        <p:blipFill>
          <a:blip r:embed="rId2"/>
          <a:srcRect l="0" t="53108" r="0" b="0"/>
          <a:stretch/>
        </p:blipFill>
        <p:spPr>
          <a:xfrm>
            <a:off x="4114800" y="2057400"/>
            <a:ext cx="27925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72" name="Picture 3" descr="C:\PowerPoint Work\Allyn &amp; Bacon\2005 Work\Henslin 8ed\Artwork\10-10.jpg"/>
          <p:cNvPicPr/>
          <p:nvPr/>
        </p:nvPicPr>
        <p:blipFill>
          <a:blip r:embed="rId1"/>
          <a:stretch/>
        </p:blipFill>
        <p:spPr>
          <a:xfrm>
            <a:off x="2514600" y="457200"/>
            <a:ext cx="4132440" cy="6095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Culture of Pover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Most Poverty is Short-lived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Number of Poor Relatively Stabl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Dynamics of 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Structu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Features of Societ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haracteristics of Individual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066680" y="1295280"/>
            <a:ext cx="76201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y are People Poor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6" dur="1" fill="hold"/>
                                  <p:tgtEl>
                                    <p:spTgt spid="17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elfare Reform 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200000"/>
              </a:lnSpc>
              <a:spcBef>
                <a:spcPts val="601"/>
              </a:spcBef>
              <a:buClr>
                <a:srgbClr val="ffcc66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66300"/>
                </a:solidFill>
                <a:latin typeface="Times New Roman"/>
              </a:rPr>
              <a:t>Welfare Restructured in 1996</a:t>
            </a:r>
            <a:endParaRPr b="1" lang="en-US" sz="24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Deferred Gratifi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4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45" dur="1" fill="hold"/>
                                  <p:tgtEl>
                                    <p:spTgt spid="18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re is Horatio Alger?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2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Social Functions of a My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66680" y="1295280"/>
            <a:ext cx="662940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overt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59" dur="1" fill="hold"/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7" descr="Henslin final"/>
          <p:cNvPicPr/>
          <p:nvPr/>
        </p:nvPicPr>
        <p:blipFill>
          <a:blip r:embed="rId1"/>
          <a:stretch/>
        </p:blipFill>
        <p:spPr>
          <a:xfrm>
            <a:off x="2362320" y="304920"/>
            <a:ext cx="4647960" cy="6324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5" name="Picture 4" descr="C:\PowerPoint Work\Allyn &amp; Bacon\2005 Work\Henslin 8ed\Artwork\10-02.jpg"/>
          <p:cNvPicPr/>
          <p:nvPr/>
        </p:nvPicPr>
        <p:blipFill>
          <a:blip r:embed="rId1"/>
          <a:srcRect l="0" t="0" r="0" b="20766"/>
          <a:stretch/>
        </p:blipFill>
        <p:spPr>
          <a:xfrm>
            <a:off x="1752480" y="57240"/>
            <a:ext cx="2514600" cy="67244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pic>
        <p:nvPicPr>
          <p:cNvPr id="96" name="Picture 5" descr="C:\PowerPoint Work\Allyn &amp; Bacon\2005 Work\Henslin 8ed\Artwork\10-02.jpg"/>
          <p:cNvPicPr/>
          <p:nvPr/>
        </p:nvPicPr>
        <p:blipFill>
          <a:blip r:embed="rId2"/>
          <a:srcRect l="0" t="76469" r="0" b="0"/>
          <a:stretch/>
        </p:blipFill>
        <p:spPr>
          <a:xfrm>
            <a:off x="4419720" y="2819520"/>
            <a:ext cx="3047760" cy="2420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  <p:sp>
        <p:nvSpPr>
          <p:cNvPr id="97" name="Rectangle 6"/>
          <p:cNvSpPr/>
          <p:nvPr/>
        </p:nvSpPr>
        <p:spPr>
          <a:xfrm>
            <a:off x="4792680" y="2819520"/>
            <a:ext cx="2141640" cy="28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0000"/>
              </a:lnSpc>
              <a:spcBef>
                <a:spcPts val="799"/>
              </a:spcBef>
              <a:buClr>
                <a:srgbClr val="996633"/>
              </a:buClr>
              <a:buSzPct val="60000"/>
              <a:buFont typeface="Wingdings" charset="2"/>
              <a:buChar char="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99" name="Picture 5" descr="C:\PowerPoint Work\Allyn &amp; Bacon\2005 Work\Henslin 8ed\Artwork\10-03.jpg"/>
          <p:cNvPicPr/>
          <p:nvPr/>
        </p:nvPicPr>
        <p:blipFill>
          <a:blip r:embed="rId1"/>
          <a:stretch/>
        </p:blipFill>
        <p:spPr>
          <a:xfrm>
            <a:off x="457200" y="1143000"/>
            <a:ext cx="8305920" cy="4414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66320" y="21333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lnSpc>
                <a:spcPct val="17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Wealt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inction Between Wealth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b2b2b2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imes New Roman"/>
              </a:rPr>
              <a:t>Distribution of Wealth, Property, and Income</a:t>
            </a:r>
            <a:endParaRPr b="1" lang="en-US" sz="28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7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owe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066680" y="11430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What is Social Class?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ccupations and Prestig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Pay Mor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Require More Education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Entail More Abstract Thought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They Offer Greater Autonomy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restige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8" dur="1" fill="hold"/>
                                  <p:tgtEl>
                                    <p:spTgt spid="10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066680" y="213372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Ordinarily Wealth, Power, and Prestige are Similar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 marL="453960" indent="-453960">
              <a:lnSpc>
                <a:spcPct val="24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hen they Don’t Match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066680" y="1143000"/>
            <a:ext cx="769644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tatus Inconsistency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2" dur="1" fill="hold"/>
                                  <p:tgtEl>
                                    <p:spTgt spid="10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Footer Placeholder 4"/>
          <p:cNvSpPr/>
          <p:nvPr/>
        </p:nvSpPr>
        <p:spPr>
          <a:xfrm>
            <a:off x="0" y="662940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4d4d4d"/>
                </a:solidFill>
                <a:latin typeface="Times New Roman"/>
              </a:rPr>
              <a:t>www.sliderbase.com</a:t>
            </a:r>
            <a:endParaRPr b="1" lang="en-US" sz="8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320" y="21337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Updating Marx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Capitalist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Petty Bourgeoisie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Manag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  <a:p>
            <a:pPr>
              <a:lnSpc>
                <a:spcPct val="16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66300"/>
                </a:solidFill>
                <a:latin typeface="Times New Roman"/>
              </a:rPr>
              <a:t>Workers</a:t>
            </a:r>
            <a:endParaRPr b="1" lang="en-US" sz="3200" spc="-1" strike="noStrike">
              <a:solidFill>
                <a:srgbClr val="866300"/>
              </a:solidFill>
              <a:latin typeface="Times New Roman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1066680" y="577800"/>
            <a:ext cx="6324840" cy="1479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Sociological Models of Social Class</a:t>
            </a:r>
            <a:endParaRPr b="1" lang="en-US" sz="4800" spc="-1" strike="noStrike">
              <a:solidFill>
                <a:srgbClr val="866300"/>
              </a:solidFill>
              <a:latin typeface="Times New Roman"/>
            </a:endParaRPr>
          </a:p>
        </p:txBody>
      </p:sp>
      <p:pic>
        <p:nvPicPr>
          <p:cNvPr id="112" name="Picture 4" descr="C:\PowerPoint Work\Allyn &amp; Bacon\2005 Work\Henslin 8ed\Artwork\10-04.jpg"/>
          <p:cNvPicPr/>
          <p:nvPr/>
        </p:nvPicPr>
        <p:blipFill>
          <a:blip r:embed="rId1"/>
          <a:stretch/>
        </p:blipFill>
        <p:spPr>
          <a:xfrm>
            <a:off x="5638680" y="2057400"/>
            <a:ext cx="301788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1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05T18:08:30Z</dcterms:created>
  <dc:creator>James Henslin</dc:creator>
  <dc:description/>
  <dc:language>en-US</dc:language>
  <cp:lastModifiedBy>Legion</cp:lastModifiedBy>
  <dcterms:modified xsi:type="dcterms:W3CDTF">2017-07-05T06:54:23Z</dcterms:modified>
  <cp:revision>174</cp:revision>
  <dc:subject>Chapter 10: Social Class in the United States</dc:subject>
  <dc:title>Sociology: A Down-to-Earth Approach, 8/e</dc:title>
</cp:coreProperties>
</file>