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Fou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Structu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Inte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Media as an Emerging Social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ng Functionalist and Conflict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-Scale Features of Social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n Social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s of Sociolog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ing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ing New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ing and Distributing Good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rving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a Sense of Pur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ful Groups Contro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Groups Garner Lion’s Share of 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stitutions Affect Gender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Purpose is to Preserve Social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olds Society Toge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and Organic Solid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einschaft and 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Relevant To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in Social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 Face-to-Face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 People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People Look at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t Affects Behavior and Orientations to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ical Perspec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re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s About What People Are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Others By Visible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s About Characteristics Guide Ou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ical Perspec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imate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e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ical Perspec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ving Goff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tu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essio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and Back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 Strain Between and Within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tur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entation of Self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Become the Roles we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-Veh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e Saving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tur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entation of Self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dy of How People Do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old Garfinkle’s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omethod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overing Background 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of the Situation -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as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 Reality vs. Subjective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ynecological Exam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onstruction of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Incomplete Without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Example of Groups Studied by William Chambl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Macrosociology and Micro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es Ou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 Decided by Location in 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Divides People b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al 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ri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Stat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Soci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0DEB5-3F41-4A29-94ED-B98190AA1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B3BA7-BFDE-46F4-955F-206F1C86CD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AFBEA-60AF-4AE2-A66B-05C5AA366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8B902-C6DD-4565-B2C3-81EA11596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B7F2F-A7D0-48F3-8D34-850380A2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C6107-4558-4779-BED9-23D4F0E0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5E3D9-E800-4CC1-ABB4-F59F90F9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B07A3-503D-4E98-A790-D4FA1974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129E7-DD80-48B5-B3D1-7A36CBC6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F6FFD-BA24-44E3-83EA-54A56F12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3CEAC-A07D-403E-8811-10600265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93AE0-E9B3-46A7-8F94-BF06A3678E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F8767-52CA-4709-A18E-2A626B46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4CF1E-9D4A-4F90-BE38-3B50FC16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5CF24-AAAC-48A6-8730-089E0D01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5A9C1-3825-44FE-A4D7-7E5CE260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0A864-BB07-4B57-B5D4-7336AEE3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7CF5D-FAA8-4076-9FE8-B5B50EEA3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FBD5D-6B94-418E-87FE-08B39AB18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17C6E-56CE-46D2-8382-0DDF223B0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228B0-60B6-4743-B5C9-7093C8156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089F0-9422-45E0-B318-C0A8CC2D7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CC2AD-1DB7-41BF-A468-0252C7CAD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504D7-06AF-4CB8-A982-2A3D7B1AA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74F1-9DE1-4330-AB40-70C432898A77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4: Social Structure and Social Interac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500C-65B4-4FC0-AD94-D6B8D3DF98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743200" y="3733920"/>
            <a:ext cx="6019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Four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Structure and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Interac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3" name="Picture 3" descr="C:\PowerPoint Work\Allyn &amp; Bacon\2005 Work\Henslin 8ed\Artwork\04-02.jpg"/>
          <p:cNvPicPr/>
          <p:nvPr/>
        </p:nvPicPr>
        <p:blipFill>
          <a:blip r:embed="rId1"/>
          <a:srcRect l="0" t="0" r="0" b="68110"/>
          <a:stretch/>
        </p:blipFill>
        <p:spPr>
          <a:xfrm>
            <a:off x="914400" y="2057400"/>
            <a:ext cx="731520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6" name="Picture 3" descr="C:\PowerPoint Work\Allyn &amp; Bacon\2005 Work\Henslin 8ed\Artwork\04-02.jpg"/>
          <p:cNvPicPr/>
          <p:nvPr/>
        </p:nvPicPr>
        <p:blipFill>
          <a:blip r:embed="rId1"/>
          <a:srcRect l="0" t="0" r="0" b="60820"/>
          <a:stretch/>
        </p:blipFill>
        <p:spPr>
          <a:xfrm>
            <a:off x="914400" y="2057400"/>
            <a:ext cx="731520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9" name="Picture 3" descr="C:\PowerPoint Work\Allyn &amp; Bacon\2005 Work\Henslin 8ed\Artwork\04-02.jpg"/>
          <p:cNvPicPr/>
          <p:nvPr/>
        </p:nvPicPr>
        <p:blipFill>
          <a:blip r:embed="rId1"/>
          <a:srcRect l="0" t="0" r="0" b="53529"/>
          <a:stretch/>
        </p:blipFill>
        <p:spPr>
          <a:xfrm>
            <a:off x="914400" y="2057400"/>
            <a:ext cx="731520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2" name="Picture 3" descr="C:\PowerPoint Work\Allyn &amp; Bacon\2005 Work\Henslin 8ed\Artwork\04-02.jpg"/>
          <p:cNvPicPr/>
          <p:nvPr/>
        </p:nvPicPr>
        <p:blipFill>
          <a:blip r:embed="rId1"/>
          <a:srcRect l="0" t="0" r="0" b="44797"/>
          <a:stretch/>
        </p:blipFill>
        <p:spPr>
          <a:xfrm>
            <a:off x="914400" y="2057400"/>
            <a:ext cx="7315200" cy="4616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25" name="Group 10"/>
          <p:cNvGrpSpPr/>
          <p:nvPr/>
        </p:nvGrpSpPr>
        <p:grpSpPr>
          <a:xfrm>
            <a:off x="1066680" y="2057400"/>
            <a:ext cx="7010640" cy="1600200"/>
            <a:chOff x="1066680" y="2057400"/>
            <a:chExt cx="7010640" cy="1600200"/>
          </a:xfrm>
        </p:grpSpPr>
        <p:pic>
          <p:nvPicPr>
            <p:cNvPr id="126" name="Picture 6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27" name="Picture 4" descr="C:\PowerPoint Work\Allyn &amp; Bacon\2005 Work\Henslin 8ed\Artwork\04-02.jpg"/>
            <p:cNvPicPr/>
            <p:nvPr/>
          </p:nvPicPr>
          <p:blipFill>
            <a:blip r:embed="rId2"/>
            <a:srcRect l="0" t="55208" r="1139" b="36998"/>
            <a:stretch/>
          </p:blipFill>
          <p:spPr>
            <a:xfrm>
              <a:off x="1066680" y="2995560"/>
              <a:ext cx="7010640" cy="6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1066680" y="2057400"/>
            <a:ext cx="7010640" cy="2209680"/>
            <a:chOff x="1066680" y="2057400"/>
            <a:chExt cx="7010640" cy="2209680"/>
          </a:xfrm>
        </p:grpSpPr>
        <p:pic>
          <p:nvPicPr>
            <p:cNvPr id="131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32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29817"/>
            <a:stretch/>
          </p:blipFill>
          <p:spPr>
            <a:xfrm>
              <a:off x="1066680" y="2995560"/>
              <a:ext cx="7010640" cy="1271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1066680" y="2057400"/>
            <a:ext cx="7010640" cy="2971800"/>
            <a:chOff x="1066680" y="2057400"/>
            <a:chExt cx="7010640" cy="2971800"/>
          </a:xfrm>
        </p:grpSpPr>
        <p:pic>
          <p:nvPicPr>
            <p:cNvPr id="136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37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20842"/>
            <a:stretch/>
          </p:blipFill>
          <p:spPr>
            <a:xfrm>
              <a:off x="1066680" y="2995560"/>
              <a:ext cx="7010640" cy="2033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40" name="Group 6"/>
          <p:cNvGrpSpPr/>
          <p:nvPr/>
        </p:nvGrpSpPr>
        <p:grpSpPr>
          <a:xfrm>
            <a:off x="1066680" y="2057400"/>
            <a:ext cx="7010640" cy="3733920"/>
            <a:chOff x="1066680" y="2057400"/>
            <a:chExt cx="7010640" cy="3733920"/>
          </a:xfrm>
        </p:grpSpPr>
        <p:pic>
          <p:nvPicPr>
            <p:cNvPr id="141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42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11868"/>
            <a:stretch/>
          </p:blipFill>
          <p:spPr>
            <a:xfrm>
              <a:off x="1066680" y="2995560"/>
              <a:ext cx="7010640" cy="2795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066680" y="2057400"/>
            <a:ext cx="7010280" cy="4571640"/>
            <a:chOff x="1066680" y="2057400"/>
            <a:chExt cx="7010280" cy="4571640"/>
          </a:xfrm>
        </p:grpSpPr>
        <p:pic>
          <p:nvPicPr>
            <p:cNvPr id="146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28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47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1992"/>
            <a:stretch/>
          </p:blipFill>
          <p:spPr>
            <a:xfrm>
              <a:off x="1066680" y="2995560"/>
              <a:ext cx="7010280" cy="3633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680" y="21333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ss Media as an Emerging Social Institu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paring Functionalist and Conflict Perspec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066680" y="1035000"/>
            <a:ext cx="79250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 Institu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6" dur="1" fill="hold"/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cro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arge-Scale Features of Social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cro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ocus on Social Interac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685800"/>
            <a:ext cx="72392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evels of Sociological Analysi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0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65534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placing Memb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izing New Memb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ducing and Distributing Goods and Servi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serving Ord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ing a Sense of Purpo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609480"/>
            <a:ext cx="762012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5" dur="1" fill="hold"/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ful Groups Control Institu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mall Groups Garner Lion’s Share of 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Institutions Affect Gender Rel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in Purpose is to Preserve Social Ord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9" dur="1" fill="hold"/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6782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Holds Society Togeth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echanical and Organic Solidar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emeinschaft and Gesellschaft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Relevant Today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990720"/>
            <a:ext cx="79250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hanges in Social Ord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9" dur="1" fill="hold"/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amine Face-to-Face Intera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ymbols People Us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ow People Look at Thing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ow it Affects Behavior and Orientations to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243000"/>
            <a:ext cx="8077320" cy="18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crosociological Perspective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Interaction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9" dur="1" fill="hold"/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0" dur="1" fill="hold"/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1" dur="1" fill="hold"/>
                                  <p:tgtEl>
                                    <p:spTgt spid="1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2" dur="1" fill="hold"/>
                                  <p:tgtEl>
                                    <p:spTgt spid="1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248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ereo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sumptions About What People Are Lik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ify Others By Visible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as About Characteristics Guide Our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66680" y="243000"/>
            <a:ext cx="8077320" cy="18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crosociological Perspective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Interaction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1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rsonal Sp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imate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rsonal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ocial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ublic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uch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ye Contac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395280"/>
            <a:ext cx="7772400" cy="16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crosociological Perspective: 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Interaction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7" dur="1" fill="hold"/>
                                  <p:tgtEl>
                                    <p:spTgt spid="1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0" name="Picture 5" descr="C:\PowerPoint Work\Allyn &amp; Bacon\2005 Work\Henslin 8ed\Artwork\04-03.jpg"/>
          <p:cNvPicPr/>
          <p:nvPr/>
        </p:nvPicPr>
        <p:blipFill>
          <a:blip r:embed="rId1"/>
          <a:stretch/>
        </p:blipFill>
        <p:spPr>
          <a:xfrm>
            <a:off x="3124080" y="152280"/>
            <a:ext cx="2514600" cy="6553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rving Goffma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ramatur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ression Manage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ont and Back Stag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 Perform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 Strain Between and Within 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066680" y="685800"/>
            <a:ext cx="76964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ramaturgy: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Presentation of Self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1" dur="1" fill="hold"/>
                                  <p:tgtEl>
                                    <p:spTgt spid="1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5" name="Picture 3" descr="C:\PowerPoint Work\Allyn &amp; Bacon\2005 Work\Henslin 8ed\Artwork\04-04.jpg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4859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Become the Roles we 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gn-Vehic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ocial Sett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ppear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ann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ce Saving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66680" y="685800"/>
            <a:ext cx="76964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ramaturgy: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Presentation of Self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4" dur="1" fill="hold"/>
                                  <p:tgtEl>
                                    <p:spTgt spid="17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2" name="Picture 1029" descr="C:\PowerPoint Work\Allyn &amp; Bacon\2005 Work\Henslin 8ed\Artwork\04-01.jpg"/>
          <p:cNvPicPr/>
          <p:nvPr/>
        </p:nvPicPr>
        <p:blipFill>
          <a:blip r:embed="rId1"/>
          <a:stretch/>
        </p:blipFill>
        <p:spPr>
          <a:xfrm>
            <a:off x="1066680" y="533520"/>
            <a:ext cx="6629400" cy="5870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tudy of How People Do Thing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arold Garfinkle’s Experi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762120"/>
            <a:ext cx="76201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thnomethodology: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ncovering Background Assump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791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finition of the Situation - </a:t>
            </a:r>
            <a:br>
              <a:rPr sz="3200"/>
            </a:b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omas Theor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bjective Reality vs. Subjective Interpre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ynecological Exami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4" name="Text Box 1027"/>
          <p:cNvSpPr/>
          <p:nvPr/>
        </p:nvSpPr>
        <p:spPr>
          <a:xfrm>
            <a:off x="1066680" y="730080"/>
            <a:ext cx="601992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 Construction of Reali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derstanding Incomplete Without Bo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sider the Example of Groups Studied by William Chambli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066680" y="638280"/>
            <a:ext cx="769644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Need for Macrosociology and Microsoc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1" dur="1" fill="hold"/>
                                  <p:tgtEl>
                                    <p:spTgt spid="1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Henslin final"/>
          <p:cNvPicPr/>
          <p:nvPr/>
        </p:nvPicPr>
        <p:blipFill>
          <a:blip r:embed="rId1"/>
          <a:stretch/>
        </p:blipFill>
        <p:spPr>
          <a:xfrm>
            <a:off x="22096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6248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cal Significance of Social Struc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uides Our Behavio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Behavior Decided by Location in Social Structur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806400"/>
            <a:ext cx="76964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 Divides People by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co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ccupational Presti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66680" y="609480"/>
            <a:ext cx="75438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at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crib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hie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atus Symb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ster Stat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066680" y="730080"/>
            <a:ext cx="769644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806400"/>
            <a:ext cx="72392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2" dur="1" fill="hold"/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6096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cal Significance of Social Institu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n Social Institutions in Industrialized Socie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1263600"/>
            <a:ext cx="777240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 Institu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6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0" name="Picture 6" descr="C:\PowerPoint Work\Allyn &amp; Bacon\2005 Work\Henslin 8ed\Artwork\04-02.jpg"/>
          <p:cNvPicPr/>
          <p:nvPr/>
        </p:nvPicPr>
        <p:blipFill>
          <a:blip r:embed="rId1"/>
          <a:srcRect l="0" t="0" r="0" b="79044"/>
          <a:stretch/>
        </p:blipFill>
        <p:spPr>
          <a:xfrm>
            <a:off x="914400" y="2057400"/>
            <a:ext cx="73152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8:02Z</dcterms:modified>
  <cp:revision>182</cp:revision>
  <dc:subject>Chapter 4: Social Structure and Social Interaction</dc:subject>
  <dc:title>Sociology: A Down-to-Earth Approach, 8/e</dc:title>
</cp:coreProperties>
</file>