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Fou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Structur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Inte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 Media as an Emerging Social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ing Functionalist and Conflict Persp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ro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-Scale Features of Social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on Social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s of Sociolog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ing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ing New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ing and Distributing Goods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rving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ing a Sense of Purp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ful Groups Control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Groups Garner Lion’s Share of W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stitutions Affect Gender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Purpose is to Preserve Social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olds Society Toget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and Organic Solid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einschaft and Gesell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Relevant Tod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in Social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e Face-to-Face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s People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People Look at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it Affects Behavior and Orientations to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ciological Perspecti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teraction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reo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ptions About What People Are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Others By Visible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s About Characteristics Guide Our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ciological Perspecti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teraction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imate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ye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ciological Perspecti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teraction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ving Goff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matu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ession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 and Back 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 Strain Between and Within 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matur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sentation of Self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Become the Roles we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-Veh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e Saving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matur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sentation of Self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udy of How People Do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old Garfinkle’s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omethodo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overing Background Assum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 of the Situation -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mas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 Reality vs. Subjective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ynecological Exami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onstruction of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ing Incomplete Without 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Example of Groups Studied by William Chambl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or Macrosociology and Micro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Significance of Soci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des Our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 Decided by Location in Soci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crosociolog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 Divides People b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pational Prest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crosociolog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crib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 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 Stat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crosociolog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crosociolog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Significance of Social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73D2E-F491-4945-8759-2033AD15FE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2B401-2A4D-473C-8107-0A7FFF31EC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B0DE0-2D0B-4DC9-AAAC-CF9A86EA37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005B0-7728-4485-99C3-0ADEE3B777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C2918-186D-452D-9E50-AB3F243BB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F5FCD-18FB-4CC5-B69D-FCF43E86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FE520-FBEA-454E-8244-BEBFF9AE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BE893-197D-440E-8A91-5300A15C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F8066-1AD1-45DB-B866-962F26B0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9F6C4-AEF2-4C1E-8AB7-4DC01E28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64F78-52E9-4D76-A613-492A3DB8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7C421-E210-4496-92A2-CA05A16E4A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0E847-6958-4689-8A8E-2F2EDB55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2B6F5-D455-4B16-8750-E7518897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1F8E4-0447-40C9-A89A-99040749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30147-B69E-4632-A1EF-62364927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99E67-F050-4F85-897C-60B5772F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5D84F-FF6D-423B-9E79-BC3603E48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836E3-4921-4B91-B556-2685C83B73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BFFDB-E558-4E6A-96A6-E0FB41A68A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71117-4BA1-4BD9-AB4E-05F13101A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183A9-D002-48CA-9C31-373F635453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1665E-CC57-4907-BD05-BC711AF64A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2B0A6-29FB-4A79-AA45-B5537CBEAE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4161-911B-4261-BE3C-347156331C1D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4: Social Structure and Social Interaction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64ED-7266-4110-A927-7D84CA0621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743200" y="3733920"/>
            <a:ext cx="6019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Four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al Structure and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al Interaction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3" name="Picture 3" descr="C:\PowerPoint Work\Allyn &amp; Bacon\2005 Work\Henslin 8ed\Artwork\04-02.jpg"/>
          <p:cNvPicPr/>
          <p:nvPr/>
        </p:nvPicPr>
        <p:blipFill>
          <a:blip r:embed="rId1"/>
          <a:srcRect l="0" t="0" r="0" b="68110"/>
          <a:stretch/>
        </p:blipFill>
        <p:spPr>
          <a:xfrm>
            <a:off x="914400" y="2057400"/>
            <a:ext cx="731520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6" name="Picture 3" descr="C:\PowerPoint Work\Allyn &amp; Bacon\2005 Work\Henslin 8ed\Artwork\04-02.jpg"/>
          <p:cNvPicPr/>
          <p:nvPr/>
        </p:nvPicPr>
        <p:blipFill>
          <a:blip r:embed="rId1"/>
          <a:srcRect l="0" t="0" r="0" b="60820"/>
          <a:stretch/>
        </p:blipFill>
        <p:spPr>
          <a:xfrm>
            <a:off x="914400" y="2057400"/>
            <a:ext cx="731520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9" name="Picture 3" descr="C:\PowerPoint Work\Allyn &amp; Bacon\2005 Work\Henslin 8ed\Artwork\04-02.jpg"/>
          <p:cNvPicPr/>
          <p:nvPr/>
        </p:nvPicPr>
        <p:blipFill>
          <a:blip r:embed="rId1"/>
          <a:srcRect l="0" t="0" r="0" b="53529"/>
          <a:stretch/>
        </p:blipFill>
        <p:spPr>
          <a:xfrm>
            <a:off x="914400" y="2057400"/>
            <a:ext cx="731520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2" name="Picture 3" descr="C:\PowerPoint Work\Allyn &amp; Bacon\2005 Work\Henslin 8ed\Artwork\04-02.jpg"/>
          <p:cNvPicPr/>
          <p:nvPr/>
        </p:nvPicPr>
        <p:blipFill>
          <a:blip r:embed="rId1"/>
          <a:srcRect l="0" t="0" r="0" b="44797"/>
          <a:stretch/>
        </p:blipFill>
        <p:spPr>
          <a:xfrm>
            <a:off x="914400" y="2057400"/>
            <a:ext cx="7315200" cy="4616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25" name="Group 10"/>
          <p:cNvGrpSpPr/>
          <p:nvPr/>
        </p:nvGrpSpPr>
        <p:grpSpPr>
          <a:xfrm>
            <a:off x="1066680" y="2057400"/>
            <a:ext cx="7010640" cy="1600200"/>
            <a:chOff x="1066680" y="2057400"/>
            <a:chExt cx="7010640" cy="1600200"/>
          </a:xfrm>
        </p:grpSpPr>
        <p:pic>
          <p:nvPicPr>
            <p:cNvPr id="126" name="Picture 6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64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27" name="Picture 4" descr="C:\PowerPoint Work\Allyn &amp; Bacon\2005 Work\Henslin 8ed\Artwork\04-02.jpg"/>
            <p:cNvPicPr/>
            <p:nvPr/>
          </p:nvPicPr>
          <p:blipFill>
            <a:blip r:embed="rId2"/>
            <a:srcRect l="0" t="55208" r="1139" b="36998"/>
            <a:stretch/>
          </p:blipFill>
          <p:spPr>
            <a:xfrm>
              <a:off x="1066680" y="2995560"/>
              <a:ext cx="7010640" cy="662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30" name="Group 6"/>
          <p:cNvGrpSpPr/>
          <p:nvPr/>
        </p:nvGrpSpPr>
        <p:grpSpPr>
          <a:xfrm>
            <a:off x="1066680" y="2057400"/>
            <a:ext cx="7010640" cy="2209680"/>
            <a:chOff x="1066680" y="2057400"/>
            <a:chExt cx="7010640" cy="2209680"/>
          </a:xfrm>
        </p:grpSpPr>
        <p:pic>
          <p:nvPicPr>
            <p:cNvPr id="131" name="Picture 4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64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32" name="Picture 5" descr="C:\PowerPoint Work\Allyn &amp; Bacon\2005 Work\Henslin 8ed\Artwork\04-02.jpg"/>
            <p:cNvPicPr/>
            <p:nvPr/>
          </p:nvPicPr>
          <p:blipFill>
            <a:blip r:embed="rId2"/>
            <a:srcRect l="0" t="55208" r="1139" b="29817"/>
            <a:stretch/>
          </p:blipFill>
          <p:spPr>
            <a:xfrm>
              <a:off x="1066680" y="2995560"/>
              <a:ext cx="7010640" cy="1271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35" name="Group 6"/>
          <p:cNvGrpSpPr/>
          <p:nvPr/>
        </p:nvGrpSpPr>
        <p:grpSpPr>
          <a:xfrm>
            <a:off x="1066680" y="2057400"/>
            <a:ext cx="7010640" cy="2971800"/>
            <a:chOff x="1066680" y="2057400"/>
            <a:chExt cx="7010640" cy="2971800"/>
          </a:xfrm>
        </p:grpSpPr>
        <p:pic>
          <p:nvPicPr>
            <p:cNvPr id="136" name="Picture 4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64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37" name="Picture 5" descr="C:\PowerPoint Work\Allyn &amp; Bacon\2005 Work\Henslin 8ed\Artwork\04-02.jpg"/>
            <p:cNvPicPr/>
            <p:nvPr/>
          </p:nvPicPr>
          <p:blipFill>
            <a:blip r:embed="rId2"/>
            <a:srcRect l="0" t="55208" r="1139" b="20842"/>
            <a:stretch/>
          </p:blipFill>
          <p:spPr>
            <a:xfrm>
              <a:off x="1066680" y="2995560"/>
              <a:ext cx="7010640" cy="2033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40" name="Group 6"/>
          <p:cNvGrpSpPr/>
          <p:nvPr/>
        </p:nvGrpSpPr>
        <p:grpSpPr>
          <a:xfrm>
            <a:off x="1066680" y="2057400"/>
            <a:ext cx="7010640" cy="3733920"/>
            <a:chOff x="1066680" y="2057400"/>
            <a:chExt cx="7010640" cy="3733920"/>
          </a:xfrm>
        </p:grpSpPr>
        <p:pic>
          <p:nvPicPr>
            <p:cNvPr id="141" name="Picture 4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64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42" name="Picture 5" descr="C:\PowerPoint Work\Allyn &amp; Bacon\2005 Work\Henslin 8ed\Artwork\04-02.jpg"/>
            <p:cNvPicPr/>
            <p:nvPr/>
          </p:nvPicPr>
          <p:blipFill>
            <a:blip r:embed="rId2"/>
            <a:srcRect l="0" t="55208" r="1139" b="11868"/>
            <a:stretch/>
          </p:blipFill>
          <p:spPr>
            <a:xfrm>
              <a:off x="1066680" y="2995560"/>
              <a:ext cx="7010640" cy="27957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1066680" y="2057400"/>
            <a:ext cx="7010280" cy="4571640"/>
            <a:chOff x="1066680" y="2057400"/>
            <a:chExt cx="7010280" cy="4571640"/>
          </a:xfrm>
        </p:grpSpPr>
        <p:pic>
          <p:nvPicPr>
            <p:cNvPr id="146" name="Picture 4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28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47" name="Picture 5" descr="C:\PowerPoint Work\Allyn &amp; Bacon\2005 Work\Henslin 8ed\Artwork\04-02.jpg"/>
            <p:cNvPicPr/>
            <p:nvPr/>
          </p:nvPicPr>
          <p:blipFill>
            <a:blip r:embed="rId2"/>
            <a:srcRect l="0" t="55208" r="1139" b="1992"/>
            <a:stretch/>
          </p:blipFill>
          <p:spPr>
            <a:xfrm>
              <a:off x="1066680" y="2995560"/>
              <a:ext cx="7010280" cy="3633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680" y="2133360"/>
            <a:ext cx="65534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ss Media as an Emerging Social Institu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mparing Functionalist and Conflict Perspec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066680" y="1035000"/>
            <a:ext cx="792504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 Institu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6" dur="1" fill="hold"/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cro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arge-Scale Features of Social Lif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cro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ocus on Social Interact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685800"/>
            <a:ext cx="723924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evels of Sociological Analysi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0" dur="1" fill="hold"/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680" y="1523520"/>
            <a:ext cx="65534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placing Memb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izing New Memb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ducing and Distributing Goods and Servi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eserving Ord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ing a Sense of Purpo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066680" y="609480"/>
            <a:ext cx="762012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5" dur="1" fill="hold"/>
                                  <p:tgtEl>
                                    <p:spTgt spid="1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ful Groups Control Institu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mall Groups Garner Lion’s Share of W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Institutions Affect Gender Rel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in Purpose is to Preserve Social Ord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066680" y="1035000"/>
            <a:ext cx="807732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nflic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9" dur="1" fill="hold"/>
                                  <p:tgtEl>
                                    <p:spTgt spid="1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6782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at Holds Society Togethe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echanical and Organic Solidar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emeinschaft and Gesellschaft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Relevant Today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066680" y="990720"/>
            <a:ext cx="79250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hanges in Social Order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9" dur="1" fill="hold"/>
                                  <p:tgtEl>
                                    <p:spTgt spid="1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amine Face-to-Face Intera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ymbolic Intera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ymbols People Us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ow People Look at Thing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ow it Affects Behavior and Orientations to Lif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066680" y="243000"/>
            <a:ext cx="8077320" cy="18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crosociological Perspective: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ocial Interaction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9" dur="1" fill="hold"/>
                                  <p:tgtEl>
                                    <p:spTgt spid="1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0" dur="1" fill="hold"/>
                                  <p:tgtEl>
                                    <p:spTgt spid="1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1" dur="1" fill="hold"/>
                                  <p:tgtEl>
                                    <p:spTgt spid="16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2" dur="1" fill="hold"/>
                                  <p:tgtEl>
                                    <p:spTgt spid="1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248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ereotyp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sumptions About What People Are Lik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ssify Others By Visible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deas About Characteristics Guide Our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066680" y="243000"/>
            <a:ext cx="8077320" cy="18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crosociological Perspective: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ocial Interaction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6" dur="1" fill="hold"/>
                                  <p:tgtEl>
                                    <p:spTgt spid="16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rsonal Spa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timate Dist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ersonal Dist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ocial Dist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ublic Dist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ouch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ye Contac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066680" y="395280"/>
            <a:ext cx="7772400" cy="16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crosociological Perspective: 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ocial Interaction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7" dur="1" fill="hold"/>
                                  <p:tgtEl>
                                    <p:spTgt spid="16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70" name="Picture 5" descr="C:\PowerPoint Work\Allyn &amp; Bacon\2005 Work\Henslin 8ed\Artwork\04-03.jpg"/>
          <p:cNvPicPr/>
          <p:nvPr/>
        </p:nvPicPr>
        <p:blipFill>
          <a:blip r:embed="rId1"/>
          <a:stretch/>
        </p:blipFill>
        <p:spPr>
          <a:xfrm>
            <a:off x="3124080" y="152280"/>
            <a:ext cx="2514600" cy="6553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rving Goffma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ramatur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pression Manage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ont and Back Stag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le Perform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le Strain Between and Within 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066680" y="685800"/>
            <a:ext cx="769644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ramaturgy: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Presentation of Self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1" dur="1" fill="hold"/>
                                  <p:tgtEl>
                                    <p:spTgt spid="1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75" name="Picture 3" descr="C:\PowerPoint Work\Allyn &amp; Bacon\2005 Work\Henslin 8ed\Artwork\04-04.jpg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4859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 Become the Roles we Pl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gn-Vehic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ocial Setting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ppear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anne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ce Saving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066680" y="685800"/>
            <a:ext cx="769644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ramaturgy: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Presentation of Self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4" dur="1" fill="hold"/>
                                  <p:tgtEl>
                                    <p:spTgt spid="17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2" name="Picture 1029" descr="C:\PowerPoint Work\Allyn &amp; Bacon\2005 Work\Henslin 8ed\Artwork\04-01.jpg"/>
          <p:cNvPicPr/>
          <p:nvPr/>
        </p:nvPicPr>
        <p:blipFill>
          <a:blip r:embed="rId1"/>
          <a:stretch/>
        </p:blipFill>
        <p:spPr>
          <a:xfrm>
            <a:off x="1066680" y="533520"/>
            <a:ext cx="6629400" cy="5870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tudy of How People Do Thing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arold Garfinkle’s Experim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066680" y="762120"/>
            <a:ext cx="76201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thnomethodology: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Uncovering Background Assumptions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8" dur="1" fill="hold"/>
                                  <p:tgtEl>
                                    <p:spTgt spid="1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5791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finition of the Situation - </a:t>
            </a:r>
            <a:br>
              <a:rPr sz="3200"/>
            </a:b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omas Theore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bjective Reality vs. Subjective Interpre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ynecological Exami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4" name="Text Box 1027"/>
          <p:cNvSpPr/>
          <p:nvPr/>
        </p:nvSpPr>
        <p:spPr>
          <a:xfrm>
            <a:off x="1066680" y="730080"/>
            <a:ext cx="601992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 Construction of Reali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7" dur="1" fill="hold"/>
                                  <p:tgtEl>
                                    <p:spTgt spid="1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7820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derstanding Incomplete Without Bo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sider the Example of Groups Studied by William Chambli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066680" y="638280"/>
            <a:ext cx="769644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Need for Macrosociology and Microsociolog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1" dur="1" fill="hold"/>
                                  <p:tgtEl>
                                    <p:spTgt spid="18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7" descr="Henslin final"/>
          <p:cNvPicPr/>
          <p:nvPr/>
        </p:nvPicPr>
        <p:blipFill>
          <a:blip r:embed="rId1"/>
          <a:stretch/>
        </p:blipFill>
        <p:spPr>
          <a:xfrm>
            <a:off x="2209680" y="228600"/>
            <a:ext cx="470556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6248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cal Significance of Social Struc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uides Our Behavio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Behavior Decided by Location in Social Structur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66680" y="806400"/>
            <a:ext cx="76964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Macrosociological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" dur="1" fill="hold"/>
                                  <p:tgtEl>
                                    <p:spTgt spid="9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 Divides People by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co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ccupational Presti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066680" y="609480"/>
            <a:ext cx="75438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Macrosociological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" dur="1" fill="hold"/>
                                  <p:tgtEl>
                                    <p:spTgt spid="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Stat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crib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chiev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atus Symbo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ster Statu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066680" y="730080"/>
            <a:ext cx="769644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Macrosociological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" dur="1" fill="hold"/>
                                  <p:tgtEl>
                                    <p:spTgt spid="1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066680" y="806400"/>
            <a:ext cx="72392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Macrosociological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2" dur="1" fill="hold"/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6096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cal Significance of Social Institu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en Social Institutions in Industrialized Societ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066680" y="1263600"/>
            <a:ext cx="777240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 Institu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6" dur="1" fill="hold"/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0" name="Picture 6" descr="C:\PowerPoint Work\Allyn &amp; Bacon\2005 Work\Henslin 8ed\Artwork\04-02.jpg"/>
          <p:cNvPicPr/>
          <p:nvPr/>
        </p:nvPicPr>
        <p:blipFill>
          <a:blip r:embed="rId1"/>
          <a:srcRect l="0" t="0" r="0" b="79044"/>
          <a:stretch/>
        </p:blipFill>
        <p:spPr>
          <a:xfrm>
            <a:off x="914400" y="2057400"/>
            <a:ext cx="731520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6:58:02Z</dcterms:modified>
  <cp:revision>182</cp:revision>
  <dc:subject>Chapter 4: Social Structure and Social Interaction</dc:subject>
  <dc:title>Sociology: A Down-to-Earth Approach, 8/e</dc:title>
</cp:coreProperties>
</file>