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hre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 - 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in Turnbull and the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on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ishness, Numbness, Lack of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Good is Pursuit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, No Church, No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-to-Earth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F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s of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from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le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and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 and Competitiv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- New B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e - Alcoholics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nstitutions - Boot 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hood - Birth to ~12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lescence - 13 to 17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al Adulthood - 18 to 2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Years - 3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ddle Years - 30 to 4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Middle Years - 5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 - Oscar and 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a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iz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ive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uman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r Years ~65 yr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Older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Older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Merely Represent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Influenc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ocation Ver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th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o Not Think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Actively Involved in the Construction of the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Prisoners of So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akes Us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and the Looking 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agine How We Appear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erpret Others’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a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get and the Development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spects of Self and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ud and the Development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ber and the Development of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igan and Gender Differences in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ersonality, Morality,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32EA-71AE-45E7-9215-7D0FCE9FE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1EF9-9852-4704-A502-1B2E17AD9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CB52-B070-45F5-95E2-2B6EABF54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0024-38DD-404D-98B5-3BFBE1F66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CC5AE-C21A-40EE-81BC-F7D7B67B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3230A-483B-402C-B58C-9F8DB115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E55F2-2195-4683-A1FB-0D309410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A7E56-9B10-4F26-9F41-A6BE3998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55A9A-1DB3-4567-8EFD-BE758C4B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46424-6E44-4DA8-8BE1-C07AC6EE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1C75-EA9E-4C8D-B6F4-3983C448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7609-2CDB-49FC-AC78-3E085CF95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C099E-7CAD-4C42-98FD-CFDE0A41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E910B-1BD3-42BD-BF32-2190C921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4F94D-FCDB-4313-9C36-4D5D49A4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82A2B-722D-4D35-82D5-290BCDA9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A35C5-C05B-4477-A5CA-5ADE9CAF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7686-AEA3-4AA9-BF83-DF7F7E3FF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A31E-6A7F-4A69-9090-FC2EB1B38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9C4C-7202-4BB6-9CB5-C8BAA9569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10301-2A51-45A6-BE61-7821214E7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4FAD-7374-449B-899E-44275F4E2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73B8-C1DE-4FD0-8E61-5BE0953E4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9CAE-0EE8-44D7-9ABA-BE226BC2A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DA11-8824-4153-865C-DE0AFFF445A9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3:Socializ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0B33-377C-4862-A875-5172135C7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86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hre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iz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ressing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We Fe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Nee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 - Society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in Turnbull and the I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sionless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ishness, Numbness, Lack of Concer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ly Good is Pursuit of F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chool, No Church, No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wn-to-Earth 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We Fre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ectations of Family and Frien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Mirr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882720"/>
            <a:ext cx="71629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ety Within U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from P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Mass Medi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vertis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elevis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09480"/>
            <a:ext cx="7162920" cy="11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Gen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ubtle Socializ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 and Social Cla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ighbo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1066680" y="577800"/>
            <a:ext cx="69343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cho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er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rts and Competitive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pl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oci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ild - New Bo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nse - Alcoholics Anonymo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otal Institutions - Boot Cam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533520"/>
            <a:ext cx="7239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4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/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hood - Birth to ~12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olescence - 13 to 17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nsitional Adulthood - 18 to 29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882720"/>
            <a:ext cx="7696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03-02.jpg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iddle Years - 3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Middle Years - 30 to 4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Middle Years - 5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9144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 - Oscar and Ja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ral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iz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prived Anim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Human Na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lder Years ~65 yrs 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Older Years 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Older Year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806400"/>
            <a:ext cx="76201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es Not Merely Represent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Influence Life Cou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Location Very Significa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380880"/>
            <a:ext cx="70106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logical Significance of the Life Cours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Do Not Think S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s Are Actively Involved in the Construction of the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76212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re We Prisoners of Socializ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4798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Sum…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Society Makes Us Huma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oley and the Looking Glass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magine How We Appear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nterpret Others’ Re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Develop a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762120"/>
            <a:ext cx="5639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1028" descr="C:\PowerPoint Work\Allyn &amp; Bacon\2005 Work\Henslin 8ed\Artwork\03-01.jpg"/>
          <p:cNvPicPr/>
          <p:nvPr/>
        </p:nvPicPr>
        <p:blipFill>
          <a:blip r:embed="rId1"/>
          <a:srcRect l="0" t="0" r="0" b="48653"/>
          <a:stretch/>
        </p:blipFill>
        <p:spPr>
          <a:xfrm>
            <a:off x="5943600" y="914400"/>
            <a:ext cx="29084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3" name="Picture 4" descr="C:\PowerPoint Work\Allyn &amp; Bacon\2005 Work\Henslin 8ed\Artwork\03-01.jpg"/>
          <p:cNvPicPr/>
          <p:nvPr/>
        </p:nvPicPr>
        <p:blipFill>
          <a:blip r:embed="rId1"/>
          <a:srcRect l="0" t="0" r="0" b="25678"/>
          <a:stretch/>
        </p:blipFill>
        <p:spPr>
          <a:xfrm>
            <a:off x="5943600" y="914400"/>
            <a:ext cx="2908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4" descr="C:\PowerPoint Work\Allyn &amp; Bacon\2005 Work\Henslin 8ed\Artwork\03-01.jpg"/>
          <p:cNvPicPr/>
          <p:nvPr/>
        </p:nvPicPr>
        <p:blipFill>
          <a:blip r:embed="rId1"/>
          <a:stretch/>
        </p:blipFill>
        <p:spPr>
          <a:xfrm>
            <a:off x="5943600" y="914400"/>
            <a:ext cx="2908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1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iaget and the Development of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nsorimotor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rete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mal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Aspects of Self and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380880"/>
            <a:ext cx="5334120" cy="1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ud and the Development of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ohlber and the Development of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illigan and Gender Differences in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457200"/>
            <a:ext cx="74678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arning Personality, Morality, and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04:17Z</dcterms:modified>
  <cp:revision>175</cp:revision>
  <dc:subject>Chapter 3:Socialization</dc:subject>
  <dc:title>Sociology: A Down-to-Earth Approach, 8/e</dc:title>
</cp:coreProperties>
</file>