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hre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 - 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in Turnbull and the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on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ishness, Numbness, Lack of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Good is Pursuit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, No Church, No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-to-Earth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F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s of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from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le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and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 and Competitiv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- New B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e - Alcoholics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nstitutions - Boot 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hood - Birth to ~12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lescence - 13 to 17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al Adulthood - 18 to 2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Years - 3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ddle Years - 30 to 4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Middle Years - 5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 - Oscar and 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a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iz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ive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uman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r Years ~65 yr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Older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Older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Merely Represent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Influenc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ocation Ver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th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o Not Think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Actively Involved in the Construction of the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Prisoners of So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akes Us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and the Looking 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agine How We Appear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erpret Others’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a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get and the Development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spects of Self and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ud and the Development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ber and the Development of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igan and Gender Differences in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ersonality, Morality,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CAE0-5D82-4225-B687-A9680205C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0E9D-C295-492C-971D-145F783C7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A4D4-0063-4013-B419-181EE8E33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E25C-1213-412E-809B-0020722FE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F8EA8-EA2D-491B-9CD7-37EF95A1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527D1-AE1E-4E43-9641-687F6D9F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9C1AA-7232-4161-8154-A5076061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3B056-1523-4207-B674-E8744496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F9F2C-5AFF-4606-B44C-66E3DFF8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4BE5E-DEB0-425A-894B-94E4D0FB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A00DD-215F-4FB2-AF1F-980D31BB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4AA8-6BB8-489D-A6DC-4F3D8B545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3B2B9-EC4C-46BA-B8EB-3AB47CE9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B3DD0-813D-44F5-82CA-5E0D8EE8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E0F52-A8EF-4B2A-B1C6-690F924E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D2639-1F9B-4130-9AA2-AC64522A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D1CB8-DD0B-43C5-9791-FFA536AB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7AF0-6E7D-494B-B10F-E93EDB57A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1DAF-F032-4F1D-9AB8-0C90FE6EE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DA25-D0D6-4F39-94E6-6E8786097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A53E-7DEE-4205-838B-5C28F8034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0769-CF87-4FEB-8B8A-0B8E3E7F4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9271-F366-44C8-9C79-80253AC5B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DB73-800B-4ACC-B976-A6531E806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853A-7B3F-4E6C-8CD9-1B35397870BE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3:Socializ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B68E-E87E-4714-A08B-547303E67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86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hre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iz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ressing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We Fe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Nee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 - Society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in Turnbull and the I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sionless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ishness, Numbness, Lack of Concer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ly Good is Pursuit of F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chool, No Church, No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wn-to-Earth 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We Fre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ectations of Family and Frien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Mirr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882720"/>
            <a:ext cx="71629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ety Within U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from P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Mass Medi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vertis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elevis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09480"/>
            <a:ext cx="7162920" cy="11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Gen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ubtle Socializ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 and Social Cla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ighbo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1066680" y="577800"/>
            <a:ext cx="69343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cho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er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rts and Competitive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pl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oci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ild - New Bo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nse - Alcoholics Anonymo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otal Institutions - Boot Cam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533520"/>
            <a:ext cx="7239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4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/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hood - Birth to ~12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olescence - 13 to 17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nsitional Adulthood - 18 to 29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882720"/>
            <a:ext cx="7696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03-02.jpg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iddle Years - 3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Middle Years - 30 to 4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Middle Years - 5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9144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 - Oscar and Ja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ral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iz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prived Anim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Human Na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lder Years ~65 yrs 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Older Years 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Older Year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806400"/>
            <a:ext cx="76201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es Not Merely Represent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Influence Life Cou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Location Very Significa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380880"/>
            <a:ext cx="70106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logical Significance of the Life Cours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Do Not Think S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s Are Actively Involved in the Construction of the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76212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re We Prisoners of Socializ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4798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Sum…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Society Makes Us Huma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oley and the Looking Glass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magine How We Appear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nterpret Others’ Re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Develop a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762120"/>
            <a:ext cx="5639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1028" descr="C:\PowerPoint Work\Allyn &amp; Bacon\2005 Work\Henslin 8ed\Artwork\03-01.jpg"/>
          <p:cNvPicPr/>
          <p:nvPr/>
        </p:nvPicPr>
        <p:blipFill>
          <a:blip r:embed="rId1"/>
          <a:srcRect l="0" t="0" r="0" b="48653"/>
          <a:stretch/>
        </p:blipFill>
        <p:spPr>
          <a:xfrm>
            <a:off x="5943600" y="914400"/>
            <a:ext cx="29084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3" name="Picture 4" descr="C:\PowerPoint Work\Allyn &amp; Bacon\2005 Work\Henslin 8ed\Artwork\03-01.jpg"/>
          <p:cNvPicPr/>
          <p:nvPr/>
        </p:nvPicPr>
        <p:blipFill>
          <a:blip r:embed="rId1"/>
          <a:srcRect l="0" t="0" r="0" b="25678"/>
          <a:stretch/>
        </p:blipFill>
        <p:spPr>
          <a:xfrm>
            <a:off x="5943600" y="914400"/>
            <a:ext cx="2908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4" descr="C:\PowerPoint Work\Allyn &amp; Bacon\2005 Work\Henslin 8ed\Artwork\03-01.jpg"/>
          <p:cNvPicPr/>
          <p:nvPr/>
        </p:nvPicPr>
        <p:blipFill>
          <a:blip r:embed="rId1"/>
          <a:stretch/>
        </p:blipFill>
        <p:spPr>
          <a:xfrm>
            <a:off x="5943600" y="914400"/>
            <a:ext cx="2908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1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iaget and the Development of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nsorimotor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rete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mal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Aspects of Self and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380880"/>
            <a:ext cx="5334120" cy="1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ud and the Development of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ohlber and the Development of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illigan and Gender Differences in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457200"/>
            <a:ext cx="74678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arning Personality, Morality, and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04:17Z</dcterms:modified>
  <cp:revision>175</cp:revision>
  <dc:subject>Chapter 3:Socialization</dc:subject>
  <dc:title>Sociology: A Down-to-Earth Approach, 8/e</dc:title>
</cp:coreProperties>
</file>