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hre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ng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f and Emotions as Social Control - Society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in Turnbull and the 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onless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ishness, Numbness, Lack of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Good is Pursuit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chool, No Church, No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-to-Earth 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f and Emotions as Soci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F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ations of Family and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i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in 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from P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in the Mas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le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and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s and Competitive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- New B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e - Alcoholics 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Institutions - Boot C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hood - Birth to ~12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lescence - 13 to 17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al Adulthood - 18 to 29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ddle Years - 30 to 6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Middle Years - 30 to 4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Middle Years - 50 to 6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vs. Nurture - Oscar and J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al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iz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ived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uman N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lder Years ~65 yr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Older Year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Older Ye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Merely Represent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actors Influence Lif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Location Very 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the Lif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Do Not Think 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s Are Actively Involved in the Construction of the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Prisoners of Social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u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Makes Us 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ley and the Looking Glass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magine How We Appear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nterpret Others’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velop a Self-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aget and the Development of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imotor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rete 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spects of Self and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ud and the Development of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hlber and the Development of 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lligan and Gender Differences in 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ersonality, Morality, and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FB847-64C5-406C-8261-9B0876A85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63893-D641-4E32-A0C8-9FE33F141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CD6D6-0891-4B7C-8BFC-192FB01B4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1D1EE-78F2-4A12-A12F-DC255E2D5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32890-CB91-4C2D-8C30-E5F434A0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5371D-3463-44DA-B7FF-8A7EB6F2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86329-E2BD-43FC-BF75-19F5B10D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D9EA3-37C7-407D-A251-237AEF5A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A34F4-F89D-4F0B-9AD8-9B7D472E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78501-1FC9-4492-BEDE-C1D85E0C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85F5A-22ED-4202-8AA8-36D8E5D2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4701-6AF9-41BA-A288-2CA3BAB51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6A3FB-6CA9-41F8-AC0D-73720CA1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D3AF9-E2AC-4C30-961D-E67517FB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6BA1F-B63D-4AB4-8501-294BA36C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67C65-D425-4924-87A2-0900FD3D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CE157-44C4-45E8-800C-233AC3CC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87E46-370D-4C6D-9E87-31A172F2A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84A19-2AB0-4995-BBE2-B8802AE61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BFAEB-9969-4CB0-A9A4-E8DB9AAEE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A84A9-5584-4BBC-9BFD-03C65DCFC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85ED3-DA66-424A-9C94-1F7524FDC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1D1ED-D5B1-4CEE-931E-DF3466943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963EE-9F47-477D-BD45-C47FAB862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4811-0592-4520-A6D6-49C1511D1CC8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3:Socializa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E9ED-21B5-41B2-9287-1BE9005EB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886200"/>
            <a:ext cx="480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hre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iza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Emo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ressing Emo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We Fe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earch Nee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elf and Emotions as Social Control - Society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806400"/>
            <a:ext cx="7543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Emo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4" dur="1" fill="hold"/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lin Turnbull and the I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assionless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ishness, Numbness, Lack of Concer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nly Good is Pursuit of F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School, No Church, No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66680" y="806400"/>
            <a:ext cx="7543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own-to-Earth Soc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3" dur="1" fill="hold"/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elf and Emotions as Soci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We Fre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ectations of Family and Frien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Mirr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66680" y="882720"/>
            <a:ext cx="71629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ety Within U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7" dur="1" fill="hold"/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in the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from Pe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in the Mass Media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dvertis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elevis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deo Gam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609480"/>
            <a:ext cx="7162920" cy="117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Gend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3" dur="1" fill="hold"/>
                                  <p:tgtEl>
                                    <p:spTgt spid="1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4" dur="1" fill="hold"/>
                                  <p:tgtEl>
                                    <p:spTgt spid="1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5" dur="1" fill="hold"/>
                                  <p:tgtEl>
                                    <p:spTgt spid="12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ubtle Socializa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he Family and Social Clas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ighbor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Text Box 1027"/>
          <p:cNvSpPr/>
          <p:nvPr/>
        </p:nvSpPr>
        <p:spPr>
          <a:xfrm>
            <a:off x="1066680" y="577800"/>
            <a:ext cx="693432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y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cho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er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6680" y="806400"/>
            <a:ext cx="69343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9" dur="1" fill="hold"/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orts and Competitive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pl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ocializ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ild - New Bos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ense - Alcoholics Anonymou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otal Institutions - Boot Cam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66680" y="533520"/>
            <a:ext cx="72392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4" dur="1" fill="hold"/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5" dur="1" fill="hold"/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6" dur="1" fill="hold"/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7" dur="1" fill="hold"/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hood - Birth to ~12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dolescence - 13 to 17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ansitional Adulthood - 18 to 29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882720"/>
            <a:ext cx="7696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6" dur="1" fill="hold"/>
                                  <p:tgtEl>
                                    <p:spTgt spid="1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5" descr="C:\PowerPoint Work\Allyn &amp; Bacon\2005 Work\Henslin 8ed\Artwork\03-02.jpg"/>
          <p:cNvPicPr/>
          <p:nvPr/>
        </p:nvPicPr>
        <p:blipFill>
          <a:blip r:embed="rId1"/>
          <a:stretch/>
        </p:blipFill>
        <p:spPr>
          <a:xfrm>
            <a:off x="1523880" y="380880"/>
            <a:ext cx="556272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iddle Years - 30 to 6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Middle Years - 30 to 4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er Middle Years - 50 to 6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91440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ure vs. Nurture - Oscar and Ja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ral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olate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itutionalize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prived Anim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Human Na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Older Years ~65 yrs 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Older Years 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er Older Year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806400"/>
            <a:ext cx="76201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es Not Merely Represent 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actors Influence Life Cour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Location Very Significa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66680" y="380880"/>
            <a:ext cx="70106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logical Significance of the Life Cours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Do Not Think S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s Are Actively Involved in the Construction of the Self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762120"/>
            <a:ext cx="78487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re We Prisoners of Socializ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4798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 Sum…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6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866300"/>
                </a:solidFill>
                <a:latin typeface="Times New Roman"/>
              </a:rPr>
              <a:t>Society Makes Us Human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oley and the Looking Glass Self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Imagine How We Appear to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Interpret Others’ Rea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Develop a Self-Concep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762120"/>
            <a:ext cx="56390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9" name="Picture 1028" descr="C:\PowerPoint Work\Allyn &amp; Bacon\2005 Work\Henslin 8ed\Artwork\03-01.jpg"/>
          <p:cNvPicPr/>
          <p:nvPr/>
        </p:nvPicPr>
        <p:blipFill>
          <a:blip r:embed="rId1"/>
          <a:srcRect l="0" t="0" r="0" b="48653"/>
          <a:stretch/>
        </p:blipFill>
        <p:spPr>
          <a:xfrm>
            <a:off x="5943600" y="914400"/>
            <a:ext cx="290844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3" name="Picture 4" descr="C:\PowerPoint Work\Allyn &amp; Bacon\2005 Work\Henslin 8ed\Artwork\03-01.jpg"/>
          <p:cNvPicPr/>
          <p:nvPr/>
        </p:nvPicPr>
        <p:blipFill>
          <a:blip r:embed="rId1"/>
          <a:srcRect l="0" t="0" r="0" b="25678"/>
          <a:stretch/>
        </p:blipFill>
        <p:spPr>
          <a:xfrm>
            <a:off x="5943600" y="914400"/>
            <a:ext cx="290844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4" descr="C:\PowerPoint Work\Allyn &amp; Bacon\2005 Work\Henslin 8ed\Artwork\03-01.jpg"/>
          <p:cNvPicPr/>
          <p:nvPr/>
        </p:nvPicPr>
        <p:blipFill>
          <a:blip r:embed="rId1"/>
          <a:stretch/>
        </p:blipFill>
        <p:spPr>
          <a:xfrm>
            <a:off x="5943600" y="914400"/>
            <a:ext cx="290844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426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19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iaget and the Development of Reason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nsorimotor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rete 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mal 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Aspects of Self and Reason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66680" y="380880"/>
            <a:ext cx="5334120" cy="14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ud and the Development of Person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ohlber and the Development of 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illigan and Gender Differences in 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457200"/>
            <a:ext cx="74678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earning Personality, Morality, and Emo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5" dur="1" fill="hold"/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04:17Z</dcterms:modified>
  <cp:revision>175</cp:revision>
  <dc:subject>Chapter 3:Socialization</dc:subject>
  <dc:title>Sociology: A Down-to-Earth Approach, 8/e</dc:title>
</cp:coreProperties>
</file>