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hre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 - 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in Turnbull and the 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onless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ishness, Numbness, Lack of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Good is Pursuit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hool, No Church, No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-to-Earth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F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s of Family an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from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le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and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s and Competitiv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- New B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e - Alcoholics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nstitutions - Boot C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hood - Birth to ~12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lescence - 13 to 17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al Adulthood - 18 to 29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dle Years - 3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iddle Years - 30 to 4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Middle Years - 5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 - Oscar and 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a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iz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ived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uman N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der Years ~65 yr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Older Yea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Older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Merely Represent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Influenc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ocation Ver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th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Do Not Think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Are Actively Involved in the Construction of the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Prisoners of Soci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akes Us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ey and the Looking Glass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magine How We Appear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nterpret Others’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 a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get and the Development of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spects of Self and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ud and the Development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lber and the Development of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ligan and Gender Differences in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ersonality, Morality, and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7A75-77F1-4170-87FB-B09929D6A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4C20-118B-49AE-B7D1-5435977FB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8DE4-F925-4F8D-AD7A-527701BD4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CC03D-F83D-4D18-BB7B-A031DA388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E177B-5BA5-449A-A2EC-EA09388B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7B032-DE34-4344-B884-1E294FD4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B42EA-6A0D-49C2-8032-7049B640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DD042-6B62-4C50-9E0E-197EB569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E93C5-62E4-46DA-8CE0-F429E25A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9442D-919D-489B-B053-9125D26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4656B-7FAA-4EBF-BE2A-015BAF75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B107-1CB8-4C5F-A2EA-06632F8F1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75FA7-6927-424C-850C-C6315F5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761AC-6E93-4D4A-A98D-6C3DE88A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3F389-C150-4693-8BA2-83004741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3BD10-480B-41D5-B09E-DCDB5474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ED375-63BE-4C11-B1C0-46658026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FAFC-A9B5-40FE-8156-5908CF913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ED326-53FA-4883-9101-374B58FD0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31E59-37A9-4311-B965-D98F31816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F0FA-1534-4CB1-9E7E-2DD4A98F0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4749-DDCD-4B16-BB3A-F17581CE7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FC51-DE37-4E3D-961D-8FADDEE8E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A3A8-B04E-4493-92B0-3AF0EEF33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624F-A7BC-4F3F-9464-9095B53211A4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3:Socializ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C087-B8AD-471B-B22B-A31636E2A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862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hre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iz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ressing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We Fe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Nee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 - Society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in Turnbull and the I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sionless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ishness, Numbness, Lack of Concer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ly Good is Pursuit of F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chool, No Church, No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own-to-Earth 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We Fre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ectations of Family and Frien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Mirr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882720"/>
            <a:ext cx="71629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ety Within U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from P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Mass Medi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vertis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elevis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deo Gam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09480"/>
            <a:ext cx="7162920" cy="11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Gen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3" dur="1" fill="hold"/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4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5" dur="1" fill="hold"/>
                                  <p:tgtEl>
                                    <p:spTgt spid="1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ubtle Socializ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 and Social Cla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ighbo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1027"/>
          <p:cNvSpPr/>
          <p:nvPr/>
        </p:nvSpPr>
        <p:spPr>
          <a:xfrm>
            <a:off x="1066680" y="577800"/>
            <a:ext cx="69343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cho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er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rts and Competitive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pl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oci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ild - New Bo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nse - Alcoholics Anonymo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otal Institutions - Boot Cam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533520"/>
            <a:ext cx="7239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4" dur="1" fill="hold"/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5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6" dur="1" fill="hold"/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hood - Birth to ~12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olescence - 13 to 17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nsitional Adulthood - 18 to 29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882720"/>
            <a:ext cx="7696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03-02.jpg"/>
          <p:cNvPicPr/>
          <p:nvPr/>
        </p:nvPicPr>
        <p:blipFill>
          <a:blip r:embed="rId1"/>
          <a:stretch/>
        </p:blipFill>
        <p:spPr>
          <a:xfrm>
            <a:off x="1523880" y="380880"/>
            <a:ext cx="556272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iddle Years - 3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Middle Years - 30 to 4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Middle Years - 5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9144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 - Oscar and Ja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ral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iz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prived Anim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Human Na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lder Years ~65 yrs 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Older Years 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Older Year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806400"/>
            <a:ext cx="76201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es Not Merely Represent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Influence Life Cou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Location Very Significa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380880"/>
            <a:ext cx="70106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logical Significance of the Life Cours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Do Not Think S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s Are Actively Involved in the Construction of the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76212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re We Prisoners of Socializ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4798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 Sum…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Society Makes Us Huma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oley and the Looking Glass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magine How We Appear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nterpret Others’ Re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Develop a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762120"/>
            <a:ext cx="5639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1028" descr="C:\PowerPoint Work\Allyn &amp; Bacon\2005 Work\Henslin 8ed\Artwork\03-01.jpg"/>
          <p:cNvPicPr/>
          <p:nvPr/>
        </p:nvPicPr>
        <p:blipFill>
          <a:blip r:embed="rId1"/>
          <a:srcRect l="0" t="0" r="0" b="48653"/>
          <a:stretch/>
        </p:blipFill>
        <p:spPr>
          <a:xfrm>
            <a:off x="5943600" y="914400"/>
            <a:ext cx="29084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3" name="Picture 4" descr="C:\PowerPoint Work\Allyn &amp; Bacon\2005 Work\Henslin 8ed\Artwork\03-01.jpg"/>
          <p:cNvPicPr/>
          <p:nvPr/>
        </p:nvPicPr>
        <p:blipFill>
          <a:blip r:embed="rId1"/>
          <a:srcRect l="0" t="0" r="0" b="25678"/>
          <a:stretch/>
        </p:blipFill>
        <p:spPr>
          <a:xfrm>
            <a:off x="5943600" y="914400"/>
            <a:ext cx="290844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4" descr="C:\PowerPoint Work\Allyn &amp; Bacon\2005 Work\Henslin 8ed\Artwork\03-01.jpg"/>
          <p:cNvPicPr/>
          <p:nvPr/>
        </p:nvPicPr>
        <p:blipFill>
          <a:blip r:embed="rId1"/>
          <a:stretch/>
        </p:blipFill>
        <p:spPr>
          <a:xfrm>
            <a:off x="5943600" y="914400"/>
            <a:ext cx="290844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19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iaget and the Development of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nsorimotor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rete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mal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Aspects of Self and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380880"/>
            <a:ext cx="5334120" cy="1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ud and the Development of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ohlber and the Development of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illigan and Gender Differences in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457200"/>
            <a:ext cx="74678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arning Personality, Morality, and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" dur="1" fill="hold"/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04:17Z</dcterms:modified>
  <cp:revision>175</cp:revision>
  <dc:subject>Chapter 3:Socialization</dc:subject>
  <dc:title>Sociology: A Down-to-Earth Approach, 8/e</dc:title>
</cp:coreProperties>
</file>