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hre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ing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We F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 - 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in Turnbull and the 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onless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fishness, Numbness, Lack of Conc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Good is Pursuit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chool, No Church, No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-to-Earth Soc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lf and Emotions as Soci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Fre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ctations of Family and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i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Within 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from P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Messages in the Mass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l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eo 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G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tle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and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eighbo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rts and Competitive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- New B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nse - Alcoholics Anonym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nstitutions - Boot C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 of Soc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hood - Birth to ~12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olescence - 13 to 17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al Adulthood - 18 to 29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iddle Years - 3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Middle Years - 30 to 4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Middle Years - 50 to 65 y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vs. Nurture - Oscar and J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ral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itutionalize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ived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Human Na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lder Years ~65 yrs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ly Older Year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r Older Ye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Through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Merely Represent B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actors Influenc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ocation Very Signif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Significance of the Life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sts Do Not Think 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viduals Are Actively Involved in the Construction of the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We Prisoners of Soci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um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akes Us Hu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ley and the Looking Glass 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magine How We Appear to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Interpret Others’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Develop a Self-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d and Role-T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aget and the Development of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imotor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rete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Operational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Aspects of Self and Reas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into the Self and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ud and the Development of Per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hlber and the Development of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lligan and Gender Differences in Mo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Personality, Morality, and Emo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1192-FAEE-4E88-BEC1-6C13958356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11B40-1EB3-4B17-83B0-CBEDB6B943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211B8-C70A-4717-AC5B-84D381A9F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60D78-C469-447E-AD04-8BC22B1663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9F4FB-D43A-466A-AC6B-4BABC348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B843C-B13E-4295-A24E-EAA70537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23F89-1298-44E6-AD53-A4508C46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28F4C-3A9C-415D-97C8-CB2ECE9F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0DEB2-378B-4764-A4AE-64B908B2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6A896-370E-48B1-9AAD-0704E6D1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20F66-185A-4479-806F-D2D957C8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BD7B3-1185-4C92-BE1F-A7F173B62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2EFEC-490A-4047-9DE1-BDA7047F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301A6-9648-4588-843A-2708EB5F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D2281A-F9C8-41D1-A374-488B6E67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F8770-80B5-466F-B4BF-9D780B11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A0B75-CF1A-4BFA-ADE7-735FCADDB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849DC-2A59-4AF2-B8BE-5A370719E6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92646-08A4-49C5-9901-7DBC6A750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66328-34DE-48D3-85E5-35746966D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17E0-7770-4EE4-8936-3DA41840D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2408B-DB07-4B6E-AD77-497CB0AA15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3023E-94DF-4591-8786-6EEE10257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6392-563F-48A6-A159-B20D24B25C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72BA-33B0-4C4E-A045-0F9246B4C23C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3:Socializ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75ED-4467-46CB-998D-C315E0248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8620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hre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iz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ressing Emo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at We Fe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Nee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 - Society Within 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4" dur="1" fill="hold"/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in Turnbull and the I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assionless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lfishness, Numbness, Lack of Concer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ly Good is Pursuit of F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chool, No Church, No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806400"/>
            <a:ext cx="754380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own-to-Earth Sociolog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3" dur="1" fill="hold"/>
                                  <p:tgtEl>
                                    <p:spTgt spid="11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elf and Emotions as Soci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We Free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ectations of Family and Frien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Mirr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066680" y="882720"/>
            <a:ext cx="71629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ety Within U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7" dur="1" fill="hold"/>
                                  <p:tgtEl>
                                    <p:spTgt spid="12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from Pe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Messages in the Mass Medi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Advertis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elevis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02440" indent="-2682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ideo Gam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066680" y="609480"/>
            <a:ext cx="7162920" cy="117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Gend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2" dur="1" fill="hold"/>
                                  <p:tgtEl>
                                    <p:spTgt spid="12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3" dur="1" fill="hold"/>
                                  <p:tgtEl>
                                    <p:spTgt spid="12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4" dur="1" fill="hold"/>
                                  <p:tgtEl>
                                    <p:spTgt spid="12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45" dur="1" fill="hold"/>
                                  <p:tgtEl>
                                    <p:spTgt spid="12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ubtle Socializatio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he Family and Social Cla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eighbo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Text Box 1027"/>
          <p:cNvSpPr/>
          <p:nvPr/>
        </p:nvSpPr>
        <p:spPr>
          <a:xfrm>
            <a:off x="1066680" y="577800"/>
            <a:ext cx="69343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5" dur="1" fill="hold"/>
                                  <p:tgtEl>
                                    <p:spTgt spid="12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cho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er Grou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1066680" y="806400"/>
            <a:ext cx="69343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9" dur="1" fill="hold"/>
                                  <p:tgtEl>
                                    <p:spTgt spid="13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rts and Competitive Succe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pl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oci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ild - New Bos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ntense - Alcoholics Anonymou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45280" indent="-282600">
              <a:lnSpc>
                <a:spcPct val="15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Total Institutions - Boot Camp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066680" y="533520"/>
            <a:ext cx="7239240" cy="10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gents of Socializ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4" dur="1" fill="hold"/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5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6" dur="1" fill="hold"/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317" dur="1" fill="hold"/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hood - Birth to ~12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olescence - 13 to 17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nsitional Adulthood - 18 to 29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882720"/>
            <a:ext cx="769644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36" dur="1" fill="hold"/>
                                  <p:tgtEl>
                                    <p:spTgt spid="1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5" descr="C:\PowerPoint Work\Allyn &amp; Bacon\2005 Work\Henslin 8ed\Artwork\03-02.jpg"/>
          <p:cNvPicPr/>
          <p:nvPr/>
        </p:nvPicPr>
        <p:blipFill>
          <a:blip r:embed="rId1"/>
          <a:stretch/>
        </p:blipFill>
        <p:spPr>
          <a:xfrm>
            <a:off x="1523880" y="380880"/>
            <a:ext cx="556272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iddle Years - 3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Middle Years - 30 to 4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Middle Years - 50 to 65 y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66680" y="9144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ure vs. Nurture - Oscar and Jac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ral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itutionalize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prived Anim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730080"/>
            <a:ext cx="70866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Human Nature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" dur="1" fill="hold"/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Older Years ~65 yrs 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Older Years 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er Older Year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66680" y="806400"/>
            <a:ext cx="7620120" cy="125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Through Lif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oes Not Merely Represent B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actors Influence Life Cour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Location Very Significa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66680" y="380880"/>
            <a:ext cx="70106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ological Significance of the Life Cours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4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ists Do Not Think S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viduals Are Actively Involved in the Construction of the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762120"/>
            <a:ext cx="7848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Are We Prisoners of Socializ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4798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 Sum…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indent="0">
              <a:lnSpc>
                <a:spcPct val="1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	</a:t>
            </a:r>
            <a:r>
              <a:rPr b="1" lang="en-US" sz="4000" spc="-1" strike="noStrike">
                <a:solidFill>
                  <a:srgbClr val="866300"/>
                </a:solidFill>
                <a:latin typeface="Times New Roman"/>
              </a:rPr>
              <a:t>Society Makes Us Human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" dur="1" fill="hold"/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oley and the Looking Glass Self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magine How We Appear to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Interpret Others’ Rea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 Develop a Self-Concep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1066680" y="762120"/>
            <a:ext cx="5639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" dur="1" fill="hold"/>
                                  <p:tgtEl>
                                    <p:spTgt spid="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Text Box 1027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1028" descr="C:\PowerPoint Work\Allyn &amp; Bacon\2005 Work\Henslin 8ed\Artwork\03-01.jpg"/>
          <p:cNvPicPr/>
          <p:nvPr/>
        </p:nvPicPr>
        <p:blipFill>
          <a:blip r:embed="rId1"/>
          <a:srcRect l="0" t="0" r="0" b="48653"/>
          <a:stretch/>
        </p:blipFill>
        <p:spPr>
          <a:xfrm>
            <a:off x="5943600" y="914400"/>
            <a:ext cx="290844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3" name="Picture 4" descr="C:\PowerPoint Work\Allyn &amp; Bacon\2005 Work\Henslin 8ed\Artwork\03-01.jpg"/>
          <p:cNvPicPr/>
          <p:nvPr/>
        </p:nvPicPr>
        <p:blipFill>
          <a:blip r:embed="rId1"/>
          <a:srcRect l="0" t="0" r="0" b="25678"/>
          <a:stretch/>
        </p:blipFill>
        <p:spPr>
          <a:xfrm>
            <a:off x="5943600" y="914400"/>
            <a:ext cx="290844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ead and Role-Tak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Im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l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m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066680" y="730080"/>
            <a:ext cx="5715000" cy="132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7" name="Picture 4" descr="C:\PowerPoint Work\Allyn &amp; Bacon\2005 Work\Henslin 8ed\Artwork\03-01.jpg"/>
          <p:cNvPicPr/>
          <p:nvPr/>
        </p:nvPicPr>
        <p:blipFill>
          <a:blip r:embed="rId1"/>
          <a:stretch/>
        </p:blipFill>
        <p:spPr>
          <a:xfrm>
            <a:off x="5943600" y="914400"/>
            <a:ext cx="2908440" cy="563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14264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192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iaget and the Development of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nsorimotor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crete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mal Operational St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1920" indent="-42192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Aspects of Self and Reason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066680" y="380880"/>
            <a:ext cx="5334120" cy="14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ocialization into the Self and Mind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0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reud and the Development of Person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ohlber and the Development of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illigan and Gender Differences in Mora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066680" y="457200"/>
            <a:ext cx="74678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Learning Personality, Morality, and Emotion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" dur="1" fill="hold"/>
                                  <p:tgtEl>
                                    <p:spTgt spid="11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04:17Z</dcterms:modified>
  <cp:revision>175</cp:revision>
  <dc:subject>Chapter 3:Socialization</dc:subject>
  <dc:title>Sociology: A Down-to-Earth Approach, 8/e</dc:title>
</cp:coreProperties>
</file>