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ies to Social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 to In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sm Towards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 Produ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of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al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Yards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 Us to Contradicto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World Phenom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mall World Phenomenon a My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Connect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Chat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et Definition o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Size Affects Stability and 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So Does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Intensity and   Intimac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Group Size on Attitudes an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the Gro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Diffusion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in F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 into Small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Becomes a Lea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ho interact with one another and think of themselves as belonging togeth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Gro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issez-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 in Changing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Authority—Milgram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ering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ving Janis Coined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think - Global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ation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ting and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oral and Hor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industrial (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economic—New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o be Confused with Group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-to-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 Mirror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, More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Interact Based on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 to Satisfy Need for Intimat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A3F8-277B-473E-8D4D-3FDF384EA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5B64-D810-4C88-96CD-249F218BD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64F1-1B2E-4232-B289-B7E0F7F20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0F43-9846-454E-B404-15214D26E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6B9C6-AC12-4D6C-85F0-7101F707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832BB-F18C-43F7-B800-4A7546AB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CF78B-5ABE-4BEA-A4C2-88F58BFA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09DFE-BEC1-405A-AF3C-9CF46303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7EE78-AB68-4C02-A063-3D1B94B4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1891A-0A26-4C19-A8F0-622D85C7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BC96F-E3A2-42EA-8CA7-CF9F00F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A12A-357D-4532-B6B5-A51B71D16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72F1F-6AAC-4F99-856F-BD74E07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FCA18-09C2-4C36-8103-9E22FD4E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A99D4-25E0-4495-AC22-34A30038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48BD2-524D-4D4C-862E-B80FDFA3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E3CE3-3978-4C68-BBAD-015A38E0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1F10-6FAE-4A0F-B09E-415E2DCB0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F0EA-1F7C-4117-9D2C-400854BB6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37D4-4B2E-430B-9185-68D1E1217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565ED-9528-45F0-8AA7-C09C1A353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5B49-68AD-4873-A5C5-79947F26C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B37A-06EE-40EF-9227-D36B19609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952D-D58F-4D91-8C20-03D1133D0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F8DA-E4A4-4252-82D0-5F4FDCD1C38B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6: Societies to Social Network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3452-E9B6-41F6-91A8-045AB6E40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971800" y="3733920"/>
            <a:ext cx="51814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eties to Social Network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yalty to In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agonism Towards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882720"/>
            <a:ext cx="72392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 Produce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oyal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ense of Superio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Rivalri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882720"/>
            <a:ext cx="74678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ference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 a Yardsti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ose Us to Contradictory Standa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806400"/>
            <a:ext cx="7467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Networ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mall World Phenomen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 the Small World Phenomenon a Myth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730080"/>
            <a:ext cx="75438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958680"/>
            <a:ext cx="739152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lectronic Commun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Connect Onlin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ws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Online Chat Roo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Meet Definition of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806400"/>
            <a:ext cx="77724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 Size Affects Stability and Intim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y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ri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alition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So Does Sta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Intensity and   Intimacy De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914400"/>
            <a:ext cx="6781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ects of Group Size on Attitudes an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rger the Group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eater Diffusion of Responsibi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crease in Forma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ision into Smaller 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609480"/>
            <a:ext cx="5867640" cy="94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8" name="Picture 5" descr="C:\PowerPoint Work\Allyn &amp; Bacon\2005 Work\Henslin 8ed\Artwork\06-03.jpg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705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Becomes a Lead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ypes of Lea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strumenta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ressiv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1295280"/>
            <a:ext cx="58672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ople who interact with one another and think of themselves as belonging together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6705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Group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uthoritaria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emocratic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issez-Fai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 in Changing Situ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90720" y="838080"/>
            <a:ext cx="62481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08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3" descr="C:\PowerPoint Work\Allyn &amp; Bacon\2005 Work\Henslin 8ed\Artwork\06-04.jpg"/>
          <p:cNvPicPr/>
          <p:nvPr/>
        </p:nvPicPr>
        <p:blipFill>
          <a:blip r:embed="rId1"/>
          <a:stretch/>
        </p:blipFill>
        <p:spPr>
          <a:xfrm>
            <a:off x="2819520" y="152280"/>
            <a:ext cx="304956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Authority—Milgram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ministering Shock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rving Janis Coined the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ples of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venting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762120"/>
            <a:ext cx="8001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think - Global Consequ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Henslin final"/>
          <p:cNvPicPr/>
          <p:nvPr/>
        </p:nvPicPr>
        <p:blipFill>
          <a:blip r:embed="rId1"/>
          <a:stretch/>
        </p:blipFill>
        <p:spPr>
          <a:xfrm>
            <a:off x="2286000" y="304920"/>
            <a:ext cx="46483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estication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nting and Gath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toral and Hort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709560"/>
            <a:ext cx="7778880" cy="13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 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industrial (Information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economic—New Typ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762120"/>
            <a:ext cx="7855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8" name="Picture 4" descr="C:\PowerPoint Work\Allyn &amp; Bacon\2005 Work\Henslin 8ed\Artwork\06-01.jpg"/>
          <p:cNvPicPr/>
          <p:nvPr/>
        </p:nvPicPr>
        <p:blipFill>
          <a:blip r:embed="rId1"/>
          <a:stretch/>
        </p:blipFill>
        <p:spPr>
          <a:xfrm>
            <a:off x="2031840" y="304920"/>
            <a:ext cx="497844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0" name="Picture 3" descr="C:\PowerPoint Work\Allyn &amp; Bacon\2005 Work\Henslin 8ed\Artwork\06-02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066680" y="76320"/>
            <a:ext cx="2949840" cy="5713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</p:pic>
      <p:grpSp>
        <p:nvGrpSpPr>
          <p:cNvPr id="101" name="Group 9"/>
          <p:cNvGrpSpPr/>
          <p:nvPr/>
        </p:nvGrpSpPr>
        <p:grpSpPr>
          <a:xfrm>
            <a:off x="4343400" y="76320"/>
            <a:ext cx="2949480" cy="6705360"/>
            <a:chOff x="4343400" y="76320"/>
            <a:chExt cx="2949480" cy="6705360"/>
          </a:xfrm>
        </p:grpSpPr>
        <p:pic>
          <p:nvPicPr>
            <p:cNvPr id="102" name="Picture 5" descr="C:\PowerPoint Work\Allyn &amp; Bacon\2005 Work\Henslin 8ed\Artwork\06-02.jpg"/>
            <p:cNvPicPr/>
            <p:nvPr/>
          </p:nvPicPr>
          <p:blipFill>
            <a:blip r:embed="rId2"/>
            <a:srcRect l="0" t="0" r="0" b="91116"/>
            <a:stretch/>
          </p:blipFill>
          <p:spPr>
            <a:xfrm>
              <a:off x="4343400" y="76320"/>
              <a:ext cx="2949480" cy="101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03" name="Picture 6" descr="C:\PowerPoint Work\Allyn &amp; Bacon\2005 Work\Henslin 8ed\Artwork\06-02.jpg"/>
            <p:cNvPicPr/>
            <p:nvPr/>
          </p:nvPicPr>
          <p:blipFill>
            <a:blip r:embed="rId3"/>
            <a:srcRect l="0" t="50004" r="0" b="0"/>
            <a:stretch/>
          </p:blipFill>
          <p:spPr>
            <a:xfrm>
              <a:off x="4343400" y="1066680"/>
              <a:ext cx="2949480" cy="5715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t to be Confused with Groups...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greg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teg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111320"/>
            <a:ext cx="76201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ace-to-Fa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riend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 Mirror With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958680"/>
            <a:ext cx="754380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rger, More Anonym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mbers Interact Based on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il to Satisfy Need for Intimate Asso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1035000"/>
            <a:ext cx="70106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0:17Z</dcterms:modified>
  <cp:revision>175</cp:revision>
  <dc:subject>Chapter 6: Societies to Social Networks</dc:subject>
  <dc:title>Sociology: A Down-to-Earth Approach, 8/e</dc:title>
</cp:coreProperties>
</file>