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te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the Meaning of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ve and Courtship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hannels of Love and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birth and 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ed Couples and Single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n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Transitions in Late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olescents and the Not-So-Empty 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ow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.S. - One Woman, Man,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ultures Polygamy and Poly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Group into which a Child is Bo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Fam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y and Lesb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nded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parents as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ndwich Generation and Elder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ent Fathers and Serial Fathe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-Sp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and Grandchildren of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rk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use is Best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Spouse as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Marriage is Long-Term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Marriage is Sac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Spouse Aims and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Spouse Grown More 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Relationship to Suc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gh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a Lot of Time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Quick to Express Ap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 to Promoting Mutual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nd Listen a L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Relig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 with Crises Posi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anger of Becoming a Re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, Single Mothers, Age at Marriage, Grandparents as Parents will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Distorted Images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ture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Establish Pattern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Cultural T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of Sick and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of Incest and Tab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 and Emotional Over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truggle over Hou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231D-6051-4779-8146-4E4CFF13F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C8A2-8385-4B1B-9F1E-27B6BC4B2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A721-C343-4C4C-95FC-EF21D2FF4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8203-ED5B-49B6-B659-F5585832F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7AEAE-5100-4E9A-AC4B-4ACD63B6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11F3F-1000-4B95-8E22-B9EAC0AA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F6A87-A698-454E-BF15-0796C7D7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2CCBC-A3F9-4298-8D69-14289607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482C5-AD5A-4527-BD39-D4E47FFE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939F6-FB47-4A52-9BCC-F50EAF64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932EF-82B6-4670-9A7C-1DECB96B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69FF-0734-4B47-8AF1-414DB5E3C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E26A2-2DD3-4EAC-A172-14A44BEE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D8976-D581-41A4-BCCB-F955F365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9FB04-C5AF-4E95-9FCB-DDEC037E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3404E-23B6-45C7-971C-3288BD98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9E9C5-7D48-4756-866A-D3461928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D48F-E9C2-4B0B-98FB-7D90483BC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4247-2FCF-443B-A58A-7E3345F7C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FCD9-E19F-4ED1-82C4-BCAA279FC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D61F-3DA3-466E-868F-90A37AAC7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FCFF-C095-41B2-A2C9-033C33B81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705F-853B-440F-B82B-C04BE75D6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4C79-1D1F-4A4F-A94A-EEE828D7A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8F56-C991-4EF8-B897-D72E6C5F8E3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6: The Famil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E7EE-7AD9-4430-B6F1-1BF4A141F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65760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te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The Famil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5" descr="C:\PowerPoint Work\Allyn &amp; Bacon\2005 Work\Henslin 8ed\Artwork\16-01.jpg"/>
          <p:cNvPicPr/>
          <p:nvPr/>
        </p:nvPicPr>
        <p:blipFill>
          <a:blip r:embed="rId1"/>
          <a:stretch/>
        </p:blipFill>
        <p:spPr>
          <a:xfrm>
            <a:off x="1447920" y="533520"/>
            <a:ext cx="578160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the Meaning of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Ro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139680"/>
            <a:ext cx="7696440" cy="191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1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ve and Courtship in Glob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36640" indent="-2797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hannels of Love and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1" name="Picture 3" descr="C:\PowerPoint Work\Allyn &amp; Bacon\2005 Work\Henslin 8ed\Artwork\16-02.jpg"/>
          <p:cNvPicPr/>
          <p:nvPr/>
        </p:nvPicPr>
        <p:blipFill>
          <a:blip r:embed="rId1"/>
          <a:stretch/>
        </p:blipFill>
        <p:spPr>
          <a:xfrm>
            <a:off x="2133720" y="457200"/>
            <a:ext cx="436068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birth and Child Rea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ed Couples and Single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nn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6" name="Picture 3" descr="C:\PowerPoint Work\Allyn &amp; Bacon\2005 Work\Henslin 8ed\Artwork\16-03.jpg"/>
          <p:cNvPicPr/>
          <p:nvPr/>
        </p:nvPicPr>
        <p:blipFill>
          <a:blip r:embed="rId1"/>
          <a:stretch/>
        </p:blipFill>
        <p:spPr>
          <a:xfrm>
            <a:off x="2209680" y="304920"/>
            <a:ext cx="45435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Transitions in Later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ultolescents and the Not-So-Empty N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idow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rican-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ino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ve 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3" descr="C:\PowerPoint Work\Allyn &amp; Bacon\2005 Work\Henslin 8ed\Artwork\16-04.jpg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5410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 U.S. - One Woman, Man, an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Cultures Polygamy and Polyand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ved Group into which a Child is Born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882720"/>
            <a:ext cx="55627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Family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3" descr="C:\PowerPoint Work\Allyn &amp; Bacon\2005 Work\Henslin 8ed\Artwork\16-05.jpg"/>
          <p:cNvPicPr/>
          <p:nvPr/>
        </p:nvPicPr>
        <p:blipFill>
          <a:blip r:embed="rId1"/>
          <a:stretch/>
        </p:blipFill>
        <p:spPr>
          <a:xfrm>
            <a:off x="2971800" y="304920"/>
            <a:ext cx="31640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Without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9" dur="1" fill="hold"/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C:\PowerPoint Work\Allyn &amp; Bacon\2005 Work\Henslin 8ed\Artwork\16-06.jpg"/>
          <p:cNvPicPr/>
          <p:nvPr/>
        </p:nvPicPr>
        <p:blipFill>
          <a:blip r:embed="rId1"/>
          <a:stretch/>
        </p:blipFill>
        <p:spPr>
          <a:xfrm>
            <a:off x="3124080" y="152280"/>
            <a:ext cx="2940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y and Lesb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Families Without Childre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lended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1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3" name="Picture 3" descr="C:\PowerPoint Work\Allyn &amp; Bacon\2005 Work\Henslin 8ed\Artwork\16-07.jpg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24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9" name="Picture 3" descr="C:\PowerPoint Work\Allyn &amp; Bacon\2005 Work\Henslin 8ed\Artwork\16-08.jpg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49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3" descr="C:\PowerPoint Work\Allyn &amp; Bacon\2005 Work\Henslin 8ed\Artwork\16-09.jpg"/>
          <p:cNvPicPr/>
          <p:nvPr/>
        </p:nvPicPr>
        <p:blipFill>
          <a:blip r:embed="rId1"/>
          <a:stretch/>
        </p:blipFill>
        <p:spPr>
          <a:xfrm>
            <a:off x="3174840" y="152280"/>
            <a:ext cx="26924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6812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Define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7" name="Picture 3" descr="C:\PowerPoint Work\Allyn &amp; Bacon\2005 Work\Henslin 8ed\Artwork\16-10.jpg"/>
          <p:cNvPicPr/>
          <p:nvPr/>
        </p:nvPicPr>
        <p:blipFill>
          <a:blip r:embed="rId1"/>
          <a:stretch/>
        </p:blipFill>
        <p:spPr>
          <a:xfrm>
            <a:off x="2057400" y="380880"/>
            <a:ext cx="497196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andparents as Par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3808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andwich Generation and Elder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6" name="Picture 3" descr="C:\PowerPoint Work\Allyn &amp; Bacon\2005 Work\Henslin 8ed\Artwork\16-11.jpg"/>
          <p:cNvPicPr/>
          <p:nvPr/>
        </p:nvPicPr>
        <p:blipFill>
          <a:blip r:embed="rId1"/>
          <a:stretch/>
        </p:blipFill>
        <p:spPr>
          <a:xfrm>
            <a:off x="1066680" y="609480"/>
            <a:ext cx="6934320" cy="5700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8" name="Picture 3" descr="C:\PowerPoint Work\Allyn &amp; Bacon\2005 Work\Henslin 8ed\Artwork\16-12.jpg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4756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sent Fathers and Serial Fathe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-Spo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and Grandchildren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8" dur="1" fill="hold"/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4" name="Picture 3" descr="C:\PowerPoint Work\Allyn &amp; Bacon\2005 Work\Henslin 8ed\Artwork\16-13.jpg"/>
          <p:cNvPicPr/>
          <p:nvPr/>
        </p:nvPicPr>
        <p:blipFill>
          <a:blip r:embed="rId1"/>
          <a:stretch/>
        </p:blipFill>
        <p:spPr>
          <a:xfrm>
            <a:off x="1066680" y="152280"/>
            <a:ext cx="27590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185" name="Picture 4" descr="C:\PowerPoint Work\Allyn &amp; Bacon\2005 Work\Henslin 8ed\Artwork\16-14.jpg"/>
          <p:cNvPicPr/>
          <p:nvPr/>
        </p:nvPicPr>
        <p:blipFill>
          <a:blip r:embed="rId2"/>
          <a:stretch/>
        </p:blipFill>
        <p:spPr>
          <a:xfrm>
            <a:off x="5105520" y="304920"/>
            <a:ext cx="27730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ark S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tt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 Abu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1166760"/>
            <a:ext cx="7772400" cy="8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7" dur="1" fill="hold"/>
                                  <p:tgtEl>
                                    <p:spTgt spid="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use is Best Frien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ike Spouse as Pers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nk Marriage is Long-Term Commi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Marriage is Sac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ee with Spouse Aims and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Spouse Grown More Interes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ant Relationship to Succe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ugh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5" dur="1" fill="hold"/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cle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ten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Orien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Pro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Can Be..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nd a Lot of Time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Quick to Express Appre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ted to Promoting Mutual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k and Listen a Lot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Religi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al with Crises Positive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ppy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9" dur="1" fill="hold"/>
                                  <p:tgtEl>
                                    <p:spTgt spid="1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Danger of Becoming a Relic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, Single Mothers, Age at Marriage, Grandparents as Parents will In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Distorted Images of Marriage and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66680" y="304920"/>
            <a:ext cx="6782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uture of Marriage and Famil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8" dur="1" fill="hold"/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Establish Patterns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sc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herit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uth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992160"/>
            <a:ext cx="7925040" cy="106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mmon Cultural Them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Sick and Ag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s of Incest and Tabo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ion and Emotional Overloa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228600"/>
            <a:ext cx="76964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Struggle over House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291960"/>
            <a:ext cx="7772400" cy="17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6:27Z</dcterms:modified>
  <cp:revision>174</cp:revision>
  <dc:subject>Chapter 16: The Family</dc:subject>
  <dc:title>Sociology: A Down-to-Earth Approach, 8/e</dc:title>
</cp:coreProperties>
</file>