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te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the Meaning of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ve and Courtship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hannels of Love and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irth and 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ed Couples and Single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Transitions in Late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olescents and the Not-So-Empty 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ow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.S. - One Woman, Man,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ultures Polygamy and Poly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Group into which a Child is B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Fam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 and Lesb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nded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parents as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ndwich Generation and Elder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ent Fathers and Serial Fathe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-Sp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and Grandchildren of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rk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use is Best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Spouse as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Marriage is Long-Term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Marriage is Sac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Spouse Aims and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Spouse Grown More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Relationship to Suc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gh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a Lot of Time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Quick to Express Ap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 to Promoting Mutual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nd Listen a L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lig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with Crises Posi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anger of Becoming a Re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, Single Mothers, Age at Marriage, Grandparents as Parents will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Distorted Images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ture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Establish Pattern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ultural 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of Sick and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of Incest and Tab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and Emotional Over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truggle over Hou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DB5F-4C67-4D87-92B5-31E97145E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823F-8C03-4FD7-9D91-5361F7120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EFBB-DD1F-4F63-A5C0-66E92D214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F8FB-2F63-4865-9821-031CDF8DF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BE9DC-57FC-4B4C-9EC5-F90A15A4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0E08B-B8BB-438D-B208-ED61E2C4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DCFC9-60E7-4732-8B5B-BF1EA5A4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2001B-6804-4462-A99F-E6427BD0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45313-D886-460B-B33B-5CE09FF2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6B4ED-BD9D-4B5E-BE45-2A88D92A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BEC80-DE23-40AA-8D15-3A6BC327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5375-0EEC-4F79-A087-54E24A453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89AD9-36D7-4675-89C0-D3A967A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7FB6D-0D7D-439A-945E-4824423D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D2F37-C8B0-495E-BFA2-7C0AFD31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C1862-0AEB-4AE1-8CCA-16E62FDF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67132-6112-4B79-BFBE-D52C7083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20D1-0B0D-4791-A075-35632BC10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3980-33E8-4180-85C3-0A13FA0FE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CE50-28BB-471C-8303-B35414E0F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029A-2B6B-4F36-9154-FE1022C26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8F5B-E60D-41BE-A705-FD8E86F1B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510E-8209-4651-A70B-9B0DDE26D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AE5C7-2D00-489F-B736-A571C8806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7425-652D-4317-8E69-D2A99FF3C91F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6: The Famil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352-164D-4BE2-89D7-8935B7164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65760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te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The Famil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5" descr="C:\PowerPoint Work\Allyn &amp; Bacon\2005 Work\Henslin 8ed\Artwork\16-01.jpg"/>
          <p:cNvPicPr/>
          <p:nvPr/>
        </p:nvPicPr>
        <p:blipFill>
          <a:blip r:embed="rId1"/>
          <a:stretch/>
        </p:blipFill>
        <p:spPr>
          <a:xfrm>
            <a:off x="1447920" y="533520"/>
            <a:ext cx="578160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the Meaning of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Ro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139680"/>
            <a:ext cx="7696440" cy="19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ve and Courtship in Glob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36640" indent="-2797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hannels of Love and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1" name="Picture 3" descr="C:\PowerPoint Work\Allyn &amp; Bacon\2005 Work\Henslin 8ed\Artwork\16-02.jpg"/>
          <p:cNvPicPr/>
          <p:nvPr/>
        </p:nvPicPr>
        <p:blipFill>
          <a:blip r:embed="rId1"/>
          <a:stretch/>
        </p:blipFill>
        <p:spPr>
          <a:xfrm>
            <a:off x="2133720" y="457200"/>
            <a:ext cx="436068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birth and Child Rea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ed Couples and Single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nn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6" name="Picture 3" descr="C:\PowerPoint Work\Allyn &amp; Bacon\2005 Work\Henslin 8ed\Artwork\16-03.jpg"/>
          <p:cNvPicPr/>
          <p:nvPr/>
        </p:nvPicPr>
        <p:blipFill>
          <a:blip r:embed="rId1"/>
          <a:stretch/>
        </p:blipFill>
        <p:spPr>
          <a:xfrm>
            <a:off x="2209680" y="304920"/>
            <a:ext cx="45435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Transitions in Later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ultolescents and the Not-So-Empty N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idow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rican-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ino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ve 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3" descr="C:\PowerPoint Work\Allyn &amp; Bacon\2005 Work\Henslin 8ed\Artwork\16-04.jpg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 U.S. - One Woman, Man, an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Cultures Polygamy and Polyand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ved Group into which a Child is Born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882720"/>
            <a:ext cx="55627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Family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3" descr="C:\PowerPoint Work\Allyn &amp; Bacon\2005 Work\Henslin 8ed\Artwork\16-05.jpg"/>
          <p:cNvPicPr/>
          <p:nvPr/>
        </p:nvPicPr>
        <p:blipFill>
          <a:blip r:embed="rId1"/>
          <a:stretch/>
        </p:blipFill>
        <p:spPr>
          <a:xfrm>
            <a:off x="2971800" y="304920"/>
            <a:ext cx="31640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Without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9" dur="1" fill="hold"/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C:\PowerPoint Work\Allyn &amp; Bacon\2005 Work\Henslin 8ed\Artwork\16-06.jpg"/>
          <p:cNvPicPr/>
          <p:nvPr/>
        </p:nvPicPr>
        <p:blipFill>
          <a:blip r:embed="rId1"/>
          <a:stretch/>
        </p:blipFill>
        <p:spPr>
          <a:xfrm>
            <a:off x="3124080" y="152280"/>
            <a:ext cx="2940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y and Lesb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Families Without Childre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lended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1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3" name="Picture 3" descr="C:\PowerPoint Work\Allyn &amp; Bacon\2005 Work\Henslin 8ed\Artwork\16-07.jpg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24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9" name="Picture 3" descr="C:\PowerPoint Work\Allyn &amp; Bacon\2005 Work\Henslin 8ed\Artwork\16-08.jpg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49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3" descr="C:\PowerPoint Work\Allyn &amp; Bacon\2005 Work\Henslin 8ed\Artwork\16-09.jpg"/>
          <p:cNvPicPr/>
          <p:nvPr/>
        </p:nvPicPr>
        <p:blipFill>
          <a:blip r:embed="rId1"/>
          <a:stretch/>
        </p:blipFill>
        <p:spPr>
          <a:xfrm>
            <a:off x="3174840" y="152280"/>
            <a:ext cx="26924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6812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Define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7" name="Picture 3" descr="C:\PowerPoint Work\Allyn &amp; Bacon\2005 Work\Henslin 8ed\Artwork\16-10.jpg"/>
          <p:cNvPicPr/>
          <p:nvPr/>
        </p:nvPicPr>
        <p:blipFill>
          <a:blip r:embed="rId1"/>
          <a:stretch/>
        </p:blipFill>
        <p:spPr>
          <a:xfrm>
            <a:off x="2057400" y="380880"/>
            <a:ext cx="497196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andparents as Par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3808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andwich Generation and Elder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6" name="Picture 3" descr="C:\PowerPoint Work\Allyn &amp; Bacon\2005 Work\Henslin 8ed\Artwork\16-11.jpg"/>
          <p:cNvPicPr/>
          <p:nvPr/>
        </p:nvPicPr>
        <p:blipFill>
          <a:blip r:embed="rId1"/>
          <a:stretch/>
        </p:blipFill>
        <p:spPr>
          <a:xfrm>
            <a:off x="1066680" y="609480"/>
            <a:ext cx="6934320" cy="570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8" name="Picture 3" descr="C:\PowerPoint Work\Allyn &amp; Bacon\2005 Work\Henslin 8ed\Artwork\16-12.jpg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756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sent Fathers and Serial Fathe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-Spo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and Grandchildren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8" dur="1" fill="hold"/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4" name="Picture 3" descr="C:\PowerPoint Work\Allyn &amp; Bacon\2005 Work\Henslin 8ed\Artwork\16-13.jpg"/>
          <p:cNvPicPr/>
          <p:nvPr/>
        </p:nvPicPr>
        <p:blipFill>
          <a:blip r:embed="rId1"/>
          <a:stretch/>
        </p:blipFill>
        <p:spPr>
          <a:xfrm>
            <a:off x="1066680" y="152280"/>
            <a:ext cx="27590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185" name="Picture 4" descr="C:\PowerPoint Work\Allyn &amp; Bacon\2005 Work\Henslin 8ed\Artwork\16-14.jpg"/>
          <p:cNvPicPr/>
          <p:nvPr/>
        </p:nvPicPr>
        <p:blipFill>
          <a:blip r:embed="rId2"/>
          <a:stretch/>
        </p:blipFill>
        <p:spPr>
          <a:xfrm>
            <a:off x="5105520" y="304920"/>
            <a:ext cx="27730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ark S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tt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 Abu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1166760"/>
            <a:ext cx="7772400" cy="8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7" dur="1" fill="hold"/>
                                  <p:tgtEl>
                                    <p:spTgt spid="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use is Best Frien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ike Spouse as Pers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nk Marriage is Long-Term Commi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Marriage is Sac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ee with Spouse Aims and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Spouse Grown More Interes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ant Relationship to Succe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ugh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5" dur="1" fill="hold"/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cle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ten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Orien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Pro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Can Be..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nd a Lot of Time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Quick to Express Appre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ted to Promoting Mutual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k and Listen a Lot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Religi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al with Crises Positive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ppy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9" dur="1" fill="hold"/>
                                  <p:tgtEl>
                                    <p:spTgt spid="1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Danger of Becoming a Relic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, Single Mothers, Age at Marriage, Grandparents as Parents will In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Distorted Images of Marriage and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66680" y="304920"/>
            <a:ext cx="6782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uture of Marriage and Famil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8" dur="1" fill="hold"/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Establish Patterns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sc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herit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uth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992160"/>
            <a:ext cx="7925040" cy="10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mmon Cultural Them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Sick and Ag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s of Incest and Tabo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ion and Emotional Overloa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28600"/>
            <a:ext cx="76964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Struggle over House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291960"/>
            <a:ext cx="7772400" cy="17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6:27Z</dcterms:modified>
  <cp:revision>174</cp:revision>
  <dc:subject>Chapter 16: The Family</dc:subject>
  <dc:title>Sociology: A Down-to-Earth Approach, 8/e</dc:title>
</cp:coreProperties>
</file>