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44D04-87B6-416C-B4CC-9BA77D65ADE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its 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e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its u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st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use for calcium hydr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ium hydroxide is also called lime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ewater is used to test for the presence of carbon dioxide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breathe out a lot of carbon di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blow through a straw into limewater it will change from clear to milky-whi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bstance formed in this reaction is insoluble calcium carbon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use for calcium hydr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hydroxide is also called lime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water is used to test for the presence of carbon dioxide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breathe out a lot of 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e blow through a straw into limewater it will change from clear to milky-wh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bstance formed in this reaction is insoluble calcium carbo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ord equation for this 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ium   +   carbon          calcium    + 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xide     dioxide         carbon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ord equation for this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  +   carbon          calcium    + 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xide     dioxide         carbo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mestone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reactions all make up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estone cy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meston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reactions all make up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stone cy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e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aked l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ickl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e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mestone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st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aked l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ckl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meston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k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the worksheet called ‘The Limesto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cle’ to fill in the gaps and complete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tions for the reactions of limest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 out The Limestone Cy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 questions 1-5 on the next workshee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information given and your ow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ledge. Afterwards copy out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a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worksheet called ‘The Limesto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cle’ to fill in the gaps and complet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ations for the reactions of limest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out The Limestone Cy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 questions 1-5 on the next workshe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the information given and your 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ledge. Afterwards copy out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the worksheet 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s on Limesto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next less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the worksheet 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 on Limesto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next less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limesto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sedimentary ro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formed mainly from sea sh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compound called calcium carbon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useful raw mater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limeston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sedimentary r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as formed mainly from sea sh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the compound called calcium carbo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useful raw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can limestone be used fo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ilding wa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ilding hous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estone is also used to make cement and concre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alising excess acid in lakes or so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n limestone be used fo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 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 hou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stone is also used to make cement and concr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alising excess acid in lakes or so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about lime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estone is dug up out of the ground in quar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Britain about 150 million tonnes of limestone are quarried each 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estone is the compound calcium carbon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formula is CaCO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estone can be chemically changed into other th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about limest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stone is dug up out of the ground in quar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Britain about 150 million tonnes of limestone are quarried each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stone is the compound calcium carbo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formula is CaC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stone can be chemically changed into other th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ing lime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limestone (calcium carbonate) is heated, it will break down (decompos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something breaks down with heat we call this reaction a 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mal decomposition 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ium carbonate will have broken down into calcium oxide and carbon di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ll calcium oxide quickl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limest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limestone (calcium carbonate) is heated, it will break down (decompo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omething breaks down with heat we call this reaction a 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al decomposition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carbonate will have broken down into calcium oxide and 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ll calcium oxide quickl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ord equation for this 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ium       hea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calcium              carbo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at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id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di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ord equation for this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      hea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calcium              carb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at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cting quicklime with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ium oxide (quicklime) is a strong alkal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reacts with water to form calcium hydr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ium hydroxide is also known as slaked l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ng quicklime with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oxide (quicklime) is a strong alk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reacts with water to form calcium hydr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hydroxide is also known as slaked l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ord equation for this 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iu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+   water                calcium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ide                                   hydroxid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ord equation for this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+   water                calcium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e                                   hydroxid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for slaked l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neutralise acidic soils, and to break up the soil so that plants can grow w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neutralise lakes which have been polluted by acid r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for slaked l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neutralise acidic soils, and to break up the soil so that plants can grow w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neutralise lakes which have been polluted by acid 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F1CC-55A6-4E3B-9167-B3553966F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4B83-A59F-44AF-9636-C2593EF47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3EBC-0E82-44A9-A8EB-8AEE0F3FF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D8C1-7148-4E89-BA6B-81BADB606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283E-DAD7-42E4-925D-C36414630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4C4A-3115-490C-88A0-DBF9BF335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C59D-DCCC-463A-9C45-FF6EF0873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B8F9-8F7A-44ED-B280-F36211F31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84B5-8359-447A-A47E-9E83EE36D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90FD-912D-417E-A5C7-C6B367B1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755C-5098-4DEE-A206-2D2D4096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6174-3916-412B-8C7D-99CFEC46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09B45-A95B-4A77-A5EB-07EAC69279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cc3300"/>
                </a:solidFill>
                <a:latin typeface="Times New Roman"/>
              </a:rPr>
              <a:t>and its us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WordArt 3"/>
          <p:cNvSpPr txBox="1"/>
          <p:nvPr/>
        </p:nvSpPr>
        <p:spPr>
          <a:xfrm>
            <a:off x="1219320" y="1447920"/>
            <a:ext cx="6019560" cy="187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Limestone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ff00"/>
                </a:solidFill>
                <a:latin typeface="Times New Roman"/>
              </a:rPr>
              <a:t>Another use for calcium hydrox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lcium hydroxide is also called lime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imewater is used to test for the presence of carbon dioxide 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e breathe out a lot of carbon diox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f we blow through a straw into limewater it will change from clear to milky-wh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substance formed in this reaction is insoluble calcium carbon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66"/>
                </a:solidFill>
                <a:latin typeface="Times New Roman"/>
              </a:rPr>
              <a:t>A word equation for this re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lcium   +   carbon          calcium    + 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ydroxide     dioxide         carbon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4"/>
          <p:cNvSpPr/>
          <p:nvPr/>
        </p:nvSpPr>
        <p:spPr>
          <a:xfrm>
            <a:off x="41148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cc3300"/>
                </a:solidFill>
                <a:latin typeface="Times New Roman"/>
              </a:rPr>
              <a:t>The Limestone Cyc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973440" y="2133360"/>
            <a:ext cx="71971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se reactions all make up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imestone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3657600" y="1143000"/>
            <a:ext cx="18288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mest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3733920" y="4876920"/>
            <a:ext cx="18288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laked l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6324480" y="2819520"/>
            <a:ext cx="18288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uickl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914400" y="2895480"/>
            <a:ext cx="20574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me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7"/>
          <p:cNvSpPr/>
          <p:nvPr/>
        </p:nvSpPr>
        <p:spPr>
          <a:xfrm flipV="1">
            <a:off x="1752480" y="1600200"/>
            <a:ext cx="175284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8"/>
          <p:cNvSpPr/>
          <p:nvPr/>
        </p:nvSpPr>
        <p:spPr>
          <a:xfrm>
            <a:off x="5638680" y="1600200"/>
            <a:ext cx="137160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9"/>
          <p:cNvSpPr/>
          <p:nvPr/>
        </p:nvSpPr>
        <p:spPr>
          <a:xfrm flipH="1">
            <a:off x="5715000" y="3581280"/>
            <a:ext cx="13716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0"/>
          <p:cNvSpPr/>
          <p:nvPr/>
        </p:nvSpPr>
        <p:spPr>
          <a:xfrm flipH="1" flipV="1">
            <a:off x="2209680" y="3657600"/>
            <a:ext cx="144792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6385320" y="16416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6385680" y="423216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1965960" y="41562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5"/>
          <p:cNvSpPr/>
          <p:nvPr/>
        </p:nvSpPr>
        <p:spPr>
          <a:xfrm>
            <a:off x="1432080" y="1260360"/>
            <a:ext cx="117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rb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ox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974880" y="228600"/>
            <a:ext cx="6416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The limestone cyc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66"/>
                </a:solidFill>
                <a:latin typeface="Times New Roman"/>
              </a:rPr>
              <a:t>Task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e the worksheet called ‘The Limesto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ycle’ to fill in the gaps and complete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quations for the reactions of limest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py out The Limestone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swer questions 1-5 on the next workshe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ing the information given and your ow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nowledge. Afterwards copy out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umm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Complete the worksheet 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Questions on Limeston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for next lesso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99"/>
                </a:solidFill>
                <a:latin typeface="Arial Black"/>
              </a:rPr>
              <a:t>What is limeston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is a sedimentary r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was formed mainly from sea sh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is the compound called calcium carbon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is a useful raw mate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4" descr="Rocks"/>
          <p:cNvPicPr/>
          <p:nvPr/>
        </p:nvPicPr>
        <p:blipFill>
          <a:blip r:embed="rId1"/>
          <a:stretch/>
        </p:blipFill>
        <p:spPr>
          <a:xfrm>
            <a:off x="464832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99"/>
                </a:solidFill>
                <a:latin typeface="Arial Black"/>
              </a:rPr>
              <a:t>What can limestone be used f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796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Building w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Building hou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Limestone is also used to make cement and concr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Neutralising excess acid in lakes or so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" descr="PH02921J"/>
          <p:cNvPicPr/>
          <p:nvPr/>
        </p:nvPicPr>
        <p:blipFill>
          <a:blip r:embed="rId1"/>
          <a:stretch/>
        </p:blipFill>
        <p:spPr>
          <a:xfrm>
            <a:off x="685800" y="2762280"/>
            <a:ext cx="380988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ff"/>
                </a:solidFill>
                <a:latin typeface="Times New Roman"/>
              </a:rPr>
              <a:t>More about limesto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imestone is dug up out of the ground in quar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Britain about 150 million tonnes of limestone are quarried each y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imestone is the compound calcium carbon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t’s formula is </a:t>
            </a:r>
            <a:r>
              <a:rPr b="1" lang="en-GB" sz="3200" spc="-1" strike="noStrike">
                <a:solidFill>
                  <a:srgbClr val="00cc99"/>
                </a:solidFill>
                <a:latin typeface="Times New Roman"/>
              </a:rPr>
              <a:t>CaCO</a:t>
            </a:r>
            <a:r>
              <a:rPr b="1" lang="en-GB" sz="3200" spc="-1" strike="noStrike" baseline="-25000">
                <a:solidFill>
                  <a:srgbClr val="00cc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imestone can be chemically changed into other th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cc0066"/>
                </a:solidFill>
                <a:latin typeface="Times New Roman"/>
              </a:rPr>
              <a:t>Heating limesto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en limestone (calcium carbonate) is heated, it will break down (decompo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en something breaks down with heat we call this reaction a 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Times New Roman"/>
              </a:rPr>
              <a:t>Thermal decomposition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re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lcium carbonate will have broken down into calcium oxide and carbon diox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e call calcium oxide </a:t>
            </a:r>
            <a:r>
              <a:rPr b="1" lang="en-GB" sz="3200" spc="-1" strike="noStrike">
                <a:solidFill>
                  <a:srgbClr val="00cc99"/>
                </a:solidFill>
                <a:latin typeface="Times New Roman"/>
              </a:rPr>
              <a:t>quickl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00"/>
                </a:solidFill>
                <a:latin typeface="Times New Roman"/>
              </a:rPr>
              <a:t>A word equation for this re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lcium     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ea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calcium              carbo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rbon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xi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diox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4"/>
          <p:cNvSpPr/>
          <p:nvPr/>
        </p:nvSpPr>
        <p:spPr>
          <a:xfrm>
            <a:off x="2514600" y="3505320"/>
            <a:ext cx="144792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5"/>
          <p:cNvSpPr/>
          <p:nvPr/>
        </p:nvSpPr>
        <p:spPr>
          <a:xfrm>
            <a:off x="5943600" y="342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6"/>
          <p:cNvSpPr/>
          <p:nvPr/>
        </p:nvSpPr>
        <p:spPr>
          <a:xfrm>
            <a:off x="609588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8000"/>
                </a:solidFill>
                <a:latin typeface="Times New Roman"/>
              </a:rPr>
              <a:t>Reacting quicklime with wa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lcium oxide (quicklime) is a strong alka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t reacts with water to form calcium hydrox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lcium hydroxide is also known as </a:t>
            </a:r>
            <a:r>
              <a:rPr b="1" lang="en-GB" sz="3200" spc="-1" strike="noStrike">
                <a:solidFill>
                  <a:srgbClr val="00cc99"/>
                </a:solidFill>
                <a:latin typeface="Times New Roman"/>
              </a:rPr>
              <a:t>slaked l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0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8000"/>
                </a:solidFill>
                <a:latin typeface="Times New Roman"/>
              </a:rPr>
              <a:t>A word equation for this re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lciu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+   water                calcium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xide                                   hydroxide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4"/>
          <p:cNvSpPr/>
          <p:nvPr/>
        </p:nvSpPr>
        <p:spPr>
          <a:xfrm>
            <a:off x="4495680" y="3733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Uses for slaked li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 neutralise acidic soils, and to break up the soil so that plants can grow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 neutralise lakes which have been polluted by acid r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IN01118_"/>
          <p:cNvPicPr/>
          <p:nvPr/>
        </p:nvPicPr>
        <p:blipFill>
          <a:blip r:embed="rId1"/>
          <a:stretch/>
        </p:blipFill>
        <p:spPr>
          <a:xfrm>
            <a:off x="1447920" y="3886200"/>
            <a:ext cx="2057400" cy="2119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j0145267"/>
          <p:cNvPicPr/>
          <p:nvPr/>
        </p:nvPicPr>
        <p:blipFill>
          <a:blip r:embed="rId2"/>
          <a:stretch/>
        </p:blipFill>
        <p:spPr>
          <a:xfrm>
            <a:off x="4876920" y="3807000"/>
            <a:ext cx="3200400" cy="21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6T16:14:32Z</dcterms:created>
  <dc:creator>Waverley School</dc:creator>
  <dc:description/>
  <dc:language>en-US</dc:language>
  <cp:lastModifiedBy>RomaK</cp:lastModifiedBy>
  <dcterms:modified xsi:type="dcterms:W3CDTF">2015-09-02T05:54:56Z</dcterms:modified>
  <cp:revision>6</cp:revision>
  <dc:subject/>
  <dc:title>Limestone and its uses</dc:title>
</cp:coreProperties>
</file>