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AECC-A3CA-4165-9D6B-7F6C4E9C7D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C1B-ECC0-4750-8FE3-29731750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CD4-0547-43F1-B920-641F2BA8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433-E56A-42A0-AFDF-73B50F97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CE9-F04D-43D3-A319-A6D1394D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4F9-C28D-4F0F-A138-540C0F9C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6CA-B782-4B09-9FFA-450D6679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39A-B67F-4E32-BEB9-F3186C5E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BB2-3584-4719-ABE0-6DA4B644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A62-F7A4-4249-9890-E5427806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032-1CC3-4B20-8A82-F3BF6B3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280-5CA0-40E1-A7F5-8DE38AD6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93B-5E9C-4B7E-A107-5B0876D2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49FD-BE22-4C40-9E9D-22C2317860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and its 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19320" y="1447920"/>
            <a:ext cx="60195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meston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00"/>
                </a:solidFill>
                <a:latin typeface="Times New Roman"/>
              </a:rPr>
              <a:t>Another use for calcium hydr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3440" y="2133360"/>
            <a:ext cx="719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657600" y="114300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33920" y="48769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24480" y="28195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28954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1752480" y="160020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5638680" y="16002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5000" y="358128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209680" y="36576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385320" y="1641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85680" y="4232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65960" y="41562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432080" y="126036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974880" y="2286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Task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Arial Black"/>
              </a:rPr>
              <a:t>What is limest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Rock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Black"/>
              </a:rPr>
              <a:t>What can limestone be use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ho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imestone is also used to make cement and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eutralising excess acid in lakes or s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PH02921J"/>
          <p:cNvPicPr/>
          <p:nvPr/>
        </p:nvPicPr>
        <p:blipFill>
          <a:blip r:embed="rId1"/>
          <a:stretch/>
        </p:blipFill>
        <p:spPr>
          <a:xfrm>
            <a:off x="68580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Times New Roman"/>
              </a:rPr>
              <a:t>More about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formula i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CaCO</a:t>
            </a:r>
            <a:r>
              <a:rPr b="1" lang="en-GB" sz="32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66"/>
                </a:solidFill>
                <a:latin typeface="Times New Roman"/>
              </a:rPr>
              <a:t>Heating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Thermal decompos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ll calcium oxide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quick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5943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Reacting quicklime with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known a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slaked 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N01118_"/>
          <p:cNvPicPr/>
          <p:nvPr/>
        </p:nvPicPr>
        <p:blipFill>
          <a:blip r:embed="rId1"/>
          <a:stretch/>
        </p:blipFill>
        <p:spPr>
          <a:xfrm>
            <a:off x="1447920" y="3886200"/>
            <a:ext cx="2057400" cy="21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145267"/>
          <p:cNvPicPr/>
          <p:nvPr/>
        </p:nvPicPr>
        <p:blipFill>
          <a:blip r:embed="rId2"/>
          <a:stretch/>
        </p:blipFill>
        <p:spPr>
          <a:xfrm>
            <a:off x="4876920" y="3807000"/>
            <a:ext cx="32004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6:14:32Z</dcterms:created>
  <dc:creator>Waverley School</dc:creator>
  <dc:description/>
  <dc:language>en-US</dc:language>
  <cp:lastModifiedBy>RomaK</cp:lastModifiedBy>
  <dcterms:modified xsi:type="dcterms:W3CDTF">2015-09-02T05:54:56Z</dcterms:modified>
  <cp:revision>6</cp:revision>
  <dc:subject/>
  <dc:title>Limestone and its uses</dc:title>
</cp:coreProperties>
</file>