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28A-C9F7-4E73-A4E9-3B6BAEA23F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DFC-3CB6-4600-A6BB-0CD10D24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59A-8E05-49A1-B909-E384E80B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6FD-80C7-4476-8964-F0742C30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9FA-E118-4E96-AC3A-594A7AD5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9B6-68CF-4D64-92B7-6B661810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D61-0753-44BC-A506-5FEFF691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40E-C7A0-42B9-B67C-C3BFE483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783-32FE-4787-A663-DE33C01F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950-A8BD-41A6-827B-33839EC6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BCA-5571-461E-837E-B9C22930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E67-6990-41C7-9CC6-68A3B7D0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F9E-C828-42DD-A82A-ED41F43B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39B6-2D3B-40D2-A2CB-E2CC27A14A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and its 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19320" y="1447920"/>
            <a:ext cx="60195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imeston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00"/>
                </a:solidFill>
                <a:latin typeface="Times New Roman"/>
              </a:rPr>
              <a:t>Another use for calcium hydr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3440" y="2133360"/>
            <a:ext cx="719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657600" y="114300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33920" y="48769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324480" y="28195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4400" y="28954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1752480" y="160020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5638680" y="16002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5000" y="358128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209680" y="365760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385320" y="1641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385680" y="42321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65960" y="41562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432080" y="126036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974880" y="22860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Task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Arial Black"/>
              </a:rPr>
              <a:t>What is limest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Rocks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Black"/>
              </a:rPr>
              <a:t>What can limestone be used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hou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imestone is also used to make cement and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eutralising excess acid in lakes or s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PH02921J"/>
          <p:cNvPicPr/>
          <p:nvPr/>
        </p:nvPicPr>
        <p:blipFill>
          <a:blip r:embed="rId1"/>
          <a:stretch/>
        </p:blipFill>
        <p:spPr>
          <a:xfrm>
            <a:off x="685800" y="2762280"/>
            <a:ext cx="3809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ff"/>
                </a:solidFill>
                <a:latin typeface="Times New Roman"/>
              </a:rPr>
              <a:t>More about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’s formula i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CaCO</a:t>
            </a:r>
            <a:r>
              <a:rPr b="1" lang="en-GB" sz="32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66"/>
                </a:solidFill>
                <a:latin typeface="Times New Roman"/>
              </a:rPr>
              <a:t>Heating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Thermal decompos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ll calcium oxide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quick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5943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Reacting quicklime with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known a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slaked 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495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IN01118_"/>
          <p:cNvPicPr/>
          <p:nvPr/>
        </p:nvPicPr>
        <p:blipFill>
          <a:blip r:embed="rId1"/>
          <a:stretch/>
        </p:blipFill>
        <p:spPr>
          <a:xfrm>
            <a:off x="1447920" y="3886200"/>
            <a:ext cx="2057400" cy="21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145267"/>
          <p:cNvPicPr/>
          <p:nvPr/>
        </p:nvPicPr>
        <p:blipFill>
          <a:blip r:embed="rId2"/>
          <a:stretch/>
        </p:blipFill>
        <p:spPr>
          <a:xfrm>
            <a:off x="4876920" y="3807000"/>
            <a:ext cx="32004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6:14:32Z</dcterms:created>
  <dc:creator>Waverley School</dc:creator>
  <dc:description/>
  <dc:language>en-US</dc:language>
  <cp:lastModifiedBy>RomaK</cp:lastModifiedBy>
  <dcterms:modified xsi:type="dcterms:W3CDTF">2015-09-02T05:54:56Z</dcterms:modified>
  <cp:revision>6</cp:revision>
  <dc:subject/>
  <dc:title>Limestone and its uses</dc:title>
</cp:coreProperties>
</file>