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2E5C-6A4A-4FDD-B89B-2A00E840235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its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ts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use for calcium hydr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hydroxide is also called lime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water is used to test for the presence of carbon dioxide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reathe out a lot of 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blow through a straw into limewater it will change from clear to milky-wh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bstance formed in this reaction is insoluble calcium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use for calcium hyd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hydroxide is also called lime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water is used to test for the presence of carbon dioxide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breathe out a lot of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blow through a straw into limewater it will change from clear to milky-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stance formed in this reaction is insoluble calcium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  +   carbon          calcium    + 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xide     dioxide        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  +   carbon          calcium    + 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xide     dioxide        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mestone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reactions all make up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cy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reactions all make up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aked 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ck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mestone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ked 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k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worksheet called ‘The Limest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e’ to fill in the gaps and complete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s for the reactions of limest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 out The Limestone Cy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 questions 1-5 on the next worksh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information given and your ow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ledge. Afterwards copy out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worksheet called ‘The Limest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’ to fill in the gaps and complet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s for the reactions of limest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out The Limestone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 questions 1-5 on the next workshe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information given and your 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. Afterwards copy ou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worksheet 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 on Limest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next less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worksheet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on Limest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next less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limesto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sedimentary r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formed mainly from sea sh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compound called calcium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useful raw mate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mest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sedimentary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formed mainly from sea sh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e compound called calcium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useful raw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limestone be used f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ing wa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ing hou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is also used to make cement and concre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ising excess acid in lakes or so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limestone be used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hou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is also used to make cement and concr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ising excess acid in lakes or so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about 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is dug up out of the ground in quar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Britain about 150 million tonnes of limestone are quarried each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is the compound calcium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formula i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can be chemically changed into other th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bout lime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is dug up out of the ground in quar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Britain about 150 million tonnes of limestone are quarried each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is the compound calcium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formula is Ca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can be chemically changed into other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 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limestone (calcium carbonate) is heated, it will break down (decompo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something breaks down with heat we call this reaction a 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mal decomposition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carbonate will have broken down into calcium oxide and 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ll calcium oxide quick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lime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limestone (calcium carbonate) is heated, it will break down (decompo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omething breaks down with heat we call this reaction a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decomposi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carbonate will have broken down into calcium oxide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ll calcium oxide quick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      hea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calcium              carb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at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      he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calcium              carb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ng quicklime with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oxide (quicklime) is a strong alka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acts with water to form calcium hydr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hydroxide is also known as slaked 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ng quicklime with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oxide (quicklime) is a strong alk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acts with water to form calcium hyd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hydroxide is also known as slaked 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+   water                calcium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e                                   hydroxid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+   water                calcium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e                                   hydroxid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for slaked 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neutralise acidic soils, and to break up the soil so that plants can grow w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neutralise lakes which have been polluted by acid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for slaked 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neutralise acidic soils, and to break up the soil so that plants can grow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neutralise lakes which have been polluted by acid 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AB9A-0653-4A67-A5CC-F9756DA1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52DA-176F-4D46-9873-F469CC16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5E16-8E5E-43BA-848C-A822DBA8B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4425-F17C-4972-94CC-77B92DBC5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14C8-B1B6-4B72-AAB6-18DC4F2C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F4E3-8256-4DB3-9630-DBD25286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E5DB-5C1B-45FC-BEAE-5943B6E7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407D-DCAB-4DB8-A57E-ACB773A4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5E5B-6BCF-47E6-A5CC-824B7327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585F-6C39-4212-B777-3694D2A2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98D4-1ED5-4165-B620-13151D0B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9CE9-8000-4DC8-A704-530BE70E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2183-F9FA-46FC-BB6A-4FA7FE5F0C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cc3300"/>
                </a:solidFill>
                <a:latin typeface="Times New Roman"/>
              </a:rPr>
              <a:t>and its u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1219320" y="1447920"/>
            <a:ext cx="6019560" cy="18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Limestone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00"/>
                </a:solidFill>
                <a:latin typeface="Times New Roman"/>
              </a:rPr>
              <a:t>Another use for calcium hydrox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hydroxide is also called lime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water is used to test for the presence of carbon dioxide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breathe out a lot of carbon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we blow through a straw into limewater it will change from clear to milky-w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substance formed in this reaction is insoluble calcium carbo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Times New Roman"/>
              </a:rPr>
              <a:t>A word equation for this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  +   carbon          calcium    + 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ydroxide     dioxide         carbo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4"/>
          <p:cNvSpPr/>
          <p:nvPr/>
        </p:nvSpPr>
        <p:spPr>
          <a:xfrm>
            <a:off x="4114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3300"/>
                </a:solidFill>
                <a:latin typeface="Times New Roman"/>
              </a:rPr>
              <a:t>The Limestone Cyc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73440" y="2133360"/>
            <a:ext cx="71971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se reactions all make up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stone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657600" y="1143000"/>
            <a:ext cx="1828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me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733920" y="4876920"/>
            <a:ext cx="1828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laked l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6324480" y="2819520"/>
            <a:ext cx="1828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ickl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914400" y="2895480"/>
            <a:ext cx="2057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me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7"/>
          <p:cNvSpPr/>
          <p:nvPr/>
        </p:nvSpPr>
        <p:spPr>
          <a:xfrm flipV="1">
            <a:off x="1752480" y="1600200"/>
            <a:ext cx="17528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5638680" y="1600200"/>
            <a:ext cx="13716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"/>
          <p:cNvSpPr/>
          <p:nvPr/>
        </p:nvSpPr>
        <p:spPr>
          <a:xfrm flipH="1">
            <a:off x="5715000" y="3581280"/>
            <a:ext cx="13716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 flipH="1" flipV="1">
            <a:off x="2209680" y="3657600"/>
            <a:ext cx="144792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6385320" y="16416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6385680" y="423216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1965960" y="41562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1432080" y="1260360"/>
            <a:ext cx="117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ox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974880" y="228600"/>
            <a:ext cx="6416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The limestone cyc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Times New Roman"/>
              </a:rPr>
              <a:t>Task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the worksheet called ‘The Limest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ycle’ to fill in the gaps and complete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quations for the reactions of limest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py out The Limestone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swer questions 1-5 on the next workshe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ing the information given and your 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nowledge. Afterwards copy out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mm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omplete the worksheet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Questions on Limest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or next less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99"/>
                </a:solidFill>
                <a:latin typeface="Arial Black"/>
              </a:rPr>
              <a:t>What is limesto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a sedimentary r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was formed mainly from sea sh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the compound called calcium carbo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a useful raw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4" descr="Rocks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99"/>
                </a:solidFill>
                <a:latin typeface="Arial Black"/>
              </a:rPr>
              <a:t>What can limestone be used f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Building w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Building hou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Limestone is also used to make cement and concr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Neutralising excess acid in lakes or so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PH02921J"/>
          <p:cNvPicPr/>
          <p:nvPr/>
        </p:nvPicPr>
        <p:blipFill>
          <a:blip r:embed="rId1"/>
          <a:stretch/>
        </p:blipFill>
        <p:spPr>
          <a:xfrm>
            <a:off x="685800" y="2762280"/>
            <a:ext cx="380988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ff"/>
                </a:solidFill>
                <a:latin typeface="Times New Roman"/>
              </a:rPr>
              <a:t>More about limesto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stone is dug up out of the ground in quar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Britain about 150 million tonnes of limestone are quarried each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stone is the compound calcium carbo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’s formula is </a:t>
            </a:r>
            <a:r>
              <a:rPr b="1" lang="en-GB" sz="3200" spc="-1" strike="noStrike">
                <a:solidFill>
                  <a:srgbClr val="00cc99"/>
                </a:solidFill>
                <a:latin typeface="Times New Roman"/>
              </a:rPr>
              <a:t>CaCO</a:t>
            </a:r>
            <a:r>
              <a:rPr b="1" lang="en-GB" sz="32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stone can be chemically changed into other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66"/>
                </a:solidFill>
                <a:latin typeface="Times New Roman"/>
              </a:rPr>
              <a:t>Heating limesto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limestone (calcium carbonate) is heated, it will break down (decompo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something breaks down with heat we call this reaction a 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Thermal decomposition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carbonate will have broken down into calcium oxide and carbon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call calcium oxide </a:t>
            </a:r>
            <a:r>
              <a:rPr b="1" lang="en-GB" sz="3200" spc="-1" strike="noStrike">
                <a:solidFill>
                  <a:srgbClr val="00cc99"/>
                </a:solidFill>
                <a:latin typeface="Times New Roman"/>
              </a:rPr>
              <a:t>quickl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Times New Roman"/>
              </a:rPr>
              <a:t>A word equation for this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ea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calcium              carbo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rbon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xi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4"/>
          <p:cNvSpPr/>
          <p:nvPr/>
        </p:nvSpPr>
        <p:spPr>
          <a:xfrm>
            <a:off x="2514600" y="3505320"/>
            <a:ext cx="14479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"/>
          <p:cNvSpPr/>
          <p:nvPr/>
        </p:nvSpPr>
        <p:spPr>
          <a:xfrm>
            <a:off x="59436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>
            <a:off x="60958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8000"/>
                </a:solidFill>
                <a:latin typeface="Times New Roman"/>
              </a:rPr>
              <a:t>Reacting quicklime with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oxide (quicklime) is a strong alk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 reacts with water to form calcium hydr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hydroxide is also known as </a:t>
            </a:r>
            <a:r>
              <a:rPr b="1" lang="en-GB" sz="3200" spc="-1" strike="noStrike">
                <a:solidFill>
                  <a:srgbClr val="00cc99"/>
                </a:solidFill>
                <a:latin typeface="Times New Roman"/>
              </a:rPr>
              <a:t>slaked l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8000"/>
                </a:solidFill>
                <a:latin typeface="Times New Roman"/>
              </a:rPr>
              <a:t>A word equation for this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+   water                calcium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xide                                   hydroxid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4"/>
          <p:cNvSpPr/>
          <p:nvPr/>
        </p:nvSpPr>
        <p:spPr>
          <a:xfrm>
            <a:off x="449568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Uses for slaked li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neutralise acidic soils, and to break up the soil so that plants can grow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neutralise lakes which have been polluted by acid 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IN01118_"/>
          <p:cNvPicPr/>
          <p:nvPr/>
        </p:nvPicPr>
        <p:blipFill>
          <a:blip r:embed="rId1"/>
          <a:stretch/>
        </p:blipFill>
        <p:spPr>
          <a:xfrm>
            <a:off x="1447920" y="3886200"/>
            <a:ext cx="2057400" cy="2119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j0145267"/>
          <p:cNvPicPr/>
          <p:nvPr/>
        </p:nvPicPr>
        <p:blipFill>
          <a:blip r:embed="rId2"/>
          <a:stretch/>
        </p:blipFill>
        <p:spPr>
          <a:xfrm>
            <a:off x="4876920" y="3807000"/>
            <a:ext cx="320040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16:14:32Z</dcterms:created>
  <dc:creator>Waverley School</dc:creator>
  <dc:description/>
  <dc:language>en-US</dc:language>
  <cp:lastModifiedBy>RomaK</cp:lastModifiedBy>
  <dcterms:modified xsi:type="dcterms:W3CDTF">2015-09-02T05:54:56Z</dcterms:modified>
  <cp:revision>6</cp:revision>
  <dc:subject/>
  <dc:title>Limestone and its uses</dc:title>
</cp:coreProperties>
</file>