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221E-C38A-4C88-B010-CAC2B9E1717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d West Pain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eorge Cat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were decorated with hand prints it meant that they were good at hand-to-hand figh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Catlin was born in Wilkes-Barre, Pennsylvania in 1796.  Following a brief career as a lawyer, he produced two major collections of paintings of American Indi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v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h-to-toh-pa, Four Bears, Second Chief in the Mandan Indian Trib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d on clues (costume, posture, headdress), what can you tell me about the person in the paint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George Catlin would have painted Four Bears in a chair would that leave you with a different impression of this Chie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ite Cloud-Head Chief of 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you think he was painted with a big green hand on his fa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 would decorate their faces to express themselves.What do you think the hand is telling us 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E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other example of the Native Americans using decoration on their 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 these marking represe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DDA8-8E3D-45F4-B316-CD05BCE3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EF0F-FE4B-46BD-B6E8-5B5FD8A01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4BF4-7B1E-46E6-982A-2C1AE70B6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C8A7-1192-4863-8D8A-B48465022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032D-D43F-4D86-B5A2-9803C0AD3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CC48-EE82-461D-9C3E-CB1FBD99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4683-7F9B-42C8-95C5-2DA748B4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2E18-1F3F-4E78-B009-529E9ACFD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1E6A-12C9-4051-8BFF-0541EA0E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96AEB-3CC0-4D01-A355-227B1B4C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BDBB0-A51E-4B87-9771-B9EA939B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318-16B1-46B4-B5DF-CCE674D27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6283-90A4-4CE8-8ABE-3DD7A9A0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F133E-567E-4D64-9596-85E0F39A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EBDB-EA13-4AEE-9B3C-80AE35E5E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CDB3-D51A-4EA1-9E59-27F98FE3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D0769-BE69-4485-870C-037DA9AA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10093-1091-48DD-8E87-8A3CA38AA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DAAA74-12CF-4E00-A762-2A8579CF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EF070-F681-47D7-B5EA-25DF20D1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A93D1C-EA71-4BCF-A5A7-C2AC1898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F67FA2-D634-4B3B-B7F2-C54EE8B9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40E3-31AA-4CA8-9783-DBFF975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3CF760-BA27-4DFA-A6B5-DE8DAE72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482A6A-17CB-4C15-A084-6890BE23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763DBC-488D-43BA-920C-86137284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957CD-E874-4F04-9A37-24C6F70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B2477-9853-4D58-BAC2-68A5E919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553BCF-D58B-49FA-81AD-7E18E458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DB705C-167E-4E4E-8A42-8392FCC7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6A0128-9906-49B5-9266-02C5E210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A93CA9-5C8E-49B3-A046-9B75FA36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3FCB1C-6176-4B01-BB67-321F9324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EB30-A722-430F-9D79-FD25B51B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C1D9B2-526A-4A00-9F8D-63EA33D7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3AC14C-B92F-4C65-9F49-600006B4B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5FB849-B42D-42CD-ADCB-06365020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984A85-BE54-4FA1-8922-2928D6EE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37BE48-3EA2-4576-B296-F19E28B7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009FC7-366A-4C73-BEAB-E3F33926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E5D84B-562B-4A73-BF32-E8EB9A399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E48FD6-06FA-4177-A462-F7D4AAAC6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670AEB-8A82-42AB-A4FC-77D583F14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E9B06-4003-4D25-9C84-067C31E89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AAC-111E-4007-9D4F-36FAAD30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F1BE1-C92B-4F41-80A1-B5E3F309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6E0CEC-0CB3-4264-A286-0C69DF6F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212F07-260F-4414-8AA8-44C537A52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E682F8-0DB5-4AAD-BBFD-32F141F3B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20022-66AE-48D2-86A0-ED21F3BA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88C446-0406-48F0-ADD2-D4CB72C7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2D1AEE-86F3-4F56-B98E-D0C3CE9C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12225B-C122-4D0D-8414-2ABCBF5C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8E3C90-6744-4799-A2F1-5A8C013D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BDFFBC-F34D-420F-A9F7-327A2D3B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5F03-8B8F-41B5-ADDC-FC258420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7B72B-A947-47AD-A9A9-4A673B77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21715-F5CB-4B14-ADC2-7DC51B9AA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AA0EE-E532-428E-AF2A-81F72A3C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1C69CD-6A6B-47F6-B952-6E0DC3BC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16BFA-121F-43FF-942E-A0237956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D36123-A2A9-4574-B00A-981F1764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FB8B-A688-4269-BE1E-5D968B4D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257DE2-4842-4EFD-9DD4-D0F02DFF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CA952-5EC2-4F4A-8C21-5B149BFC7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FDEDA-4F55-49D7-AD5C-6D0ECB6A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7E7-BA1D-44C2-AC21-7935D00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9269B-72F5-4D67-AFC6-CA8CB118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37AFF-3A52-47FF-A446-F2C8683B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DA6FC-D606-46AD-8919-DF514EADF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1B081C-8089-4F2D-931C-2F440C0A7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8DE71A-8B5A-461B-8D65-E9C3D01B4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438249-997B-456E-AD4A-0C09F5B55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3EB70-2B36-49B3-91B5-A4CB6125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9B38D9-19BB-4C3F-A1FE-7A4C4B8D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F1DB12-BD39-47C2-A09B-D49ADA16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8C5262-DE73-47F0-B4E0-01A8B893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6F70-8F73-4D2C-BFAE-84C30639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9DD2C0-FA7F-4D02-A432-F502F07F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A68234F-2D72-4DE8-9419-E835A056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1D6E3C-D39D-4606-A714-F0D13DB3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EE0C1D-4C70-46C6-9D0F-E951F3C9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64B1D-F689-45D1-8FB2-DA923AECF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A3620-9883-4C66-9DCD-773C49A6C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A66F3-F272-4474-8F27-129636E77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C2262F-0FE2-43DA-82BA-06FBD9EE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BE3CE-E015-4538-8DE4-01549DEA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49F7-C716-40B6-82B1-824571A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42C-0A3B-4D1D-BC46-1887549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4F637-0FCB-4795-9A53-F1A85AC4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08FA6-9611-4987-9A0F-FC15883CD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CE6DC-A6D6-4FEE-9BF7-C6327D79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FADB4-3544-4E9B-A455-07B21B1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4A2067-00BF-44F2-B6F9-357BBFFC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3528D-D516-4540-A22E-9F7C24D6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A00299-6538-467D-B88F-52CCA9A7E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6E88-85E3-4B3C-A355-70AB7AC1BF9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4579-3AAC-4238-BADE-9C8318D4B039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198D-F366-4020-8CEB-85D0E0AA905C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31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2D1E-4E73-474F-91A2-9C1B8C95488A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E3890-F210-4048-8FE7-6329EBA775E2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7B1F6-0BB5-465C-B188-3E3CD65E79B4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74BA-8694-4732-A81A-1657005B9423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E783-7CA7-4AF4-8456-8C46037B9FB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2C823-6131-441C-9D40-05334F3020FA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4EBB-F064-453F-A701-7BC5B7F514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A3D9-FDE7-4541-AF3A-21B4B893B30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5EA-5591-4529-898F-846E6C51C6AC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51FBF-29C8-41DB-966C-5A9D1ED2BB44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B2C8-487D-40DE-A921-3CADDB63C972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dd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A9C6-21F0-468A-97B9-BF6CE2B12BB0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D8D7-F6DD-4FEC-AC7F-0DACC6874DAB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775f55"/>
                </a:solidFill>
                <a:latin typeface="Tw Cen MT"/>
              </a:rPr>
              <a:t>WILD WEST PAINTINGS</a:t>
            </a:r>
            <a:endParaRPr b="0" lang="en-US" sz="65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Tw Cen MT"/>
              </a:rPr>
              <a:t>By George Catlin</a:t>
            </a:r>
            <a:endParaRPr b="0" lang="en-US" sz="41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William Fisk - George Catlin - Google Art Project.jpg"/>
          <p:cNvPicPr/>
          <p:nvPr/>
        </p:nvPicPr>
        <p:blipFill>
          <a:blip r:embed="rId1"/>
          <a:stretch/>
        </p:blipFill>
        <p:spPr>
          <a:xfrm>
            <a:off x="2590920" y="228600"/>
            <a:ext cx="3809880" cy="4745160"/>
          </a:xfrm>
          <a:prstGeom prst="rect">
            <a:avLst/>
          </a:prstGeom>
          <a:ln w="0">
            <a:noFill/>
          </a:ln>
        </p:spPr>
      </p:pic>
      <p:sp>
        <p:nvSpPr>
          <p:cNvPr id="360" name="Місце для нижнього колонтитула 3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Brave Chief, 1832 Giclee Print"/>
          <p:cNvPicPr/>
          <p:nvPr/>
        </p:nvPicPr>
        <p:blipFill>
          <a:blip r:embed="rId1"/>
          <a:stretch/>
        </p:blipFill>
        <p:spPr>
          <a:xfrm>
            <a:off x="380880" y="152280"/>
            <a:ext cx="5029200" cy="6705720"/>
          </a:xfrm>
          <a:prstGeom prst="rect">
            <a:avLst/>
          </a:prstGeom>
          <a:ln w="0">
            <a:noFill/>
          </a:ln>
        </p:spPr>
      </p:pic>
      <p:sp>
        <p:nvSpPr>
          <p:cNvPr id="389" name="TextBox 5"/>
          <p:cNvSpPr/>
          <p:nvPr/>
        </p:nvSpPr>
        <p:spPr>
          <a:xfrm>
            <a:off x="5791320" y="1752480"/>
            <a:ext cx="3047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If they were decorated with hand prints it meant that they were good at hand-to-hand figh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ography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w Cen MT"/>
              </a:rPr>
              <a:t>George Catlin</a:t>
            </a: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 was born in Wilkes-Barre, Pennsylvania in 1796.  Following a brief career as a lawyer, he produced two major collections of paintings of American Indians.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ravelin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He traveled with General William Clark on a diplomatic mission up the Mississippi River into Native American territory. St. Louis became Catlin's base of operations for five trips he took between 1830 and 1836, eventually visiting fifty tribes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Mah-to-toh-pa, Four Bears, Second Chief in the Mandan Indian Tribe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8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219320"/>
            <a:ext cx="4419720" cy="543384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4952880" y="1981080"/>
            <a:ext cx="3886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w Cen MT"/>
              </a:rPr>
              <a:t>Based on clues (costume, posture, headdress), what can you tell me about the person in the pain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Mah-to-toh-pa, Four Bears, Second Chief, in Full Dress - George Catlin"/>
          <p:cNvPicPr/>
          <p:nvPr/>
        </p:nvPicPr>
        <p:blipFill>
          <a:blip r:embed="rId1"/>
          <a:stretch/>
        </p:blipFill>
        <p:spPr>
          <a:xfrm>
            <a:off x="228600" y="152280"/>
            <a:ext cx="5288040" cy="6500880"/>
          </a:xfrm>
          <a:prstGeom prst="rect">
            <a:avLst/>
          </a:prstGeom>
          <a:ln w="0">
            <a:noFill/>
          </a:ln>
        </p:spPr>
      </p:pic>
      <p:sp>
        <p:nvSpPr>
          <p:cNvPr id="372" name="TextBox 4"/>
          <p:cNvSpPr/>
          <p:nvPr/>
        </p:nvSpPr>
        <p:spPr>
          <a:xfrm>
            <a:off x="5638680" y="1447920"/>
            <a:ext cx="3353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If George Catlin would have painted Four Bears in a chair would that leave you with a different impression of this Chie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The White Cloud-Head Chief of Iowa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5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457200" y="1447920"/>
            <a:ext cx="4514760" cy="5195880"/>
          </a:xfrm>
          <a:prstGeom prst="rect">
            <a:avLst/>
          </a:prstGeom>
          <a:ln w="0">
            <a:noFill/>
          </a:ln>
        </p:spPr>
      </p:pic>
      <p:sp>
        <p:nvSpPr>
          <p:cNvPr id="376" name="TextBox 3"/>
          <p:cNvSpPr/>
          <p:nvPr/>
        </p:nvSpPr>
        <p:spPr>
          <a:xfrm>
            <a:off x="5410080" y="2286000"/>
            <a:ext cx="3048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y do you think he was painted with a big green hand on his fa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Picture 2" descr="http://upload.wikimedia.org/wikipedia/commons/thumb/3/38/George_Catlin_-_The_White_Cloud%2C_Head_Chief_of_the_Iowas_-_Google_Art_Project.jpg/170px-George_Catlin_-_The_White_Cloud%2C_Head_Chief_of_the_Iowas_-_Google_Art_Project.jpg"/>
          <p:cNvPicPr/>
          <p:nvPr/>
        </p:nvPicPr>
        <p:blipFill>
          <a:blip r:embed="rId1"/>
          <a:stretch/>
        </p:blipFill>
        <p:spPr>
          <a:xfrm>
            <a:off x="228600" y="152280"/>
            <a:ext cx="5657760" cy="6512040"/>
          </a:xfrm>
          <a:prstGeom prst="rect">
            <a:avLst/>
          </a:prstGeom>
          <a:ln w="0">
            <a:noFill/>
          </a:ln>
        </p:spPr>
      </p:pic>
      <p:sp>
        <p:nvSpPr>
          <p:cNvPr id="379" name="TextBox 4"/>
          <p:cNvSpPr/>
          <p:nvPr/>
        </p:nvSpPr>
        <p:spPr>
          <a:xfrm>
            <a:off x="5867280" y="1752480"/>
            <a:ext cx="3124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Native Americans would decorate their faces to express themselves.What do you think the hand is telling us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g Elk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http://imgc.allpostersimages.com/images/P-473-488-90/29/2931/Y62RD00Z/posters/george-catlin-big-elk-1832.jpg"/>
          <p:cNvPicPr/>
          <p:nvPr/>
        </p:nvPicPr>
        <p:blipFill>
          <a:blip r:embed="rId1"/>
          <a:stretch/>
        </p:blipFill>
        <p:spPr>
          <a:xfrm>
            <a:off x="3352680" y="0"/>
            <a:ext cx="5105520" cy="6807240"/>
          </a:xfrm>
          <a:prstGeom prst="rect">
            <a:avLst/>
          </a:prstGeom>
          <a:ln w="0">
            <a:noFill/>
          </a:ln>
        </p:spPr>
      </p:pic>
      <p:sp>
        <p:nvSpPr>
          <p:cNvPr id="383" name="TextBox 4"/>
          <p:cNvSpPr/>
          <p:nvPr/>
        </p:nvSpPr>
        <p:spPr>
          <a:xfrm>
            <a:off x="228600" y="2209680"/>
            <a:ext cx="3200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Here is another example of the Native Americans using decoration on their 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2" descr="http://artunframed.com/Gallery/wp-content/uploads/2013/06/Buffalo-Bull-A-Grand-Pawnee-Warrior-George-Catlin-288x355.jpg"/>
          <p:cNvPicPr/>
          <p:nvPr/>
        </p:nvPicPr>
        <p:blipFill>
          <a:blip r:embed="rId1"/>
          <a:stretch/>
        </p:blipFill>
        <p:spPr>
          <a:xfrm>
            <a:off x="3581280" y="187200"/>
            <a:ext cx="5181840" cy="6388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4"/>
          <p:cNvSpPr/>
          <p:nvPr/>
        </p:nvSpPr>
        <p:spPr>
          <a:xfrm>
            <a:off x="228600" y="2209680"/>
            <a:ext cx="3200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w Cen MT"/>
              </a:rPr>
              <a:t>What do you think these marking repres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Місце для нижнього колонтитула 1"/>
          <p:cNvSpPr/>
          <p:nvPr/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9T19:33:54Z</dcterms:created>
  <dc:creator>Glenda</dc:creator>
  <dc:description/>
  <dc:language>en-US</dc:language>
  <cp:lastModifiedBy>Legion</cp:lastModifiedBy>
  <dcterms:modified xsi:type="dcterms:W3CDTF">2017-07-06T06:55:20Z</dcterms:modified>
  <cp:revision>14</cp:revision>
  <dc:subject/>
  <dc:title>Wild West Paintings</dc:title>
</cp:coreProperties>
</file>