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905-C561-4E2A-97B8-88496774D8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5D4-0F8D-4309-A8E1-DC37189A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79B-E472-40C1-8C2F-F721295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743-37F4-4435-B24D-6906ECAC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269-AFDC-4000-A13C-AB24BC34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F6FC-33E6-4774-B1F0-65E5C1D1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D4AC-ED3A-4FC5-B103-B8047C6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BEFE-08AD-4AA8-B9C2-2B881AFA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A48-30E4-46AA-B539-5F4F4438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7155-D0D3-40B7-832A-B9559C5E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794B-95A0-4235-B2E4-B387E2C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EC94-81D1-44C7-90DE-11BBBFC8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E91-90B2-4C25-B96A-05E495BA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E2E1-0FCD-47B2-A3C5-4C301BDB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610D-ACBE-4E19-A1CE-7587DF6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5460-9413-414B-A4DD-99D947A8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BE44-FA8E-46AE-9A9B-8F445D53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13FD-9EBB-4D55-99E3-7A3EFBB2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85C1C-8D58-4A42-9986-60A5E7B3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25808-2629-41B4-BFBB-EE3ACA4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4E709-A8C7-4EE3-91FA-1384213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5F04A-FF8E-4175-84B5-EE92E5C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B53DD-CEB7-48C1-9956-CD3A0F9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0BA-978D-4513-8A59-1F3340E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E3113-1DE7-48A4-A07B-E43EF2D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93652-270D-410F-83BE-C37ED20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1EA40-2027-4871-8551-8C95587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C9EC6-146D-41C3-BFAD-878430C3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F83EA-1196-438E-98AE-B21D4719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BEDEF-118F-4DA1-85AF-97EB0D13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D9BB4-CC42-496C-BDE0-3AE67FD7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73D00-2BB3-4812-8289-590A84C6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B088B-5679-469F-A33E-A8E54122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D1697-0213-40F9-8EB2-8E3B1C11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E9E-70E7-4E61-94F7-F14B30BC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B799F-5919-4053-BEB3-0994A047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2D757-C738-488E-86F4-CE4EF0F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C64AA-E707-45B4-B4D0-E9110788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47B4C-A968-4685-9301-B2CF252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4B420-E1DE-493B-8870-2A8379CE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D7BE7-D902-4B92-9653-28C1034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8A8E4-EFB6-4868-B64F-E285B63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A4258-D857-45BE-AF88-C3662BC3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C7300-6E9A-470D-A54D-85D84DCF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21714-A542-48C4-98DB-316FD0EF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3EC-5B35-4283-B2AF-F3E4A88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9D0F8-E0C6-4E86-A3DC-92B50F5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BDCC5-567D-452C-8BA2-33C58F93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D41A7-1697-4E2D-9F80-D3BE854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D593C-B8D8-422C-8C61-54DAA9DA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BD039-A12D-4848-96E2-D593BD63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8EE34-48FE-44AB-9BAF-A9065D7E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9D87A-6020-43EC-A0F5-AA71D18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666C6-EC86-463A-ACA6-A9CE35D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FC6EF-F4B7-41F3-BEAB-D0EDC86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2A266-9C4B-4C1B-BBAE-7F5C8C17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2B3-DCBE-46C0-9E5C-38FD492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7A2A5-462D-40AD-8EC8-61FBE68E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B434-62B7-4306-A22B-FAB3FAD9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59A6A-EAD7-48F5-AD2F-736B904D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F187-32F0-4AE3-BAAF-01651A7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21513-9DC0-4C6E-976E-656E2A2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44AB-5B52-4AA0-9A25-71CC54B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F1A96-7A6B-42B3-99E6-FE687AA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88FE-3AE0-434B-BFB1-34CE405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23B8-F54C-4A25-BA76-B88AC2D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0F267-DC26-4A6E-A11A-FEAE0DE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A6B-F82E-45EA-ADBE-A7FE6CE6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B604-8009-4878-BA44-C9DAF1A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55FB-0954-4680-AECE-C27E46AF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B9B2-DDD2-4E19-B468-90CE273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D277B-A347-435C-888D-048DEE0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AC8B7-5002-4ED0-9612-2CF75F96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EADFB-34B4-4174-898C-688591D7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E77FA-05E1-4CA8-875F-45B9EF2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6ABC4-F145-4EC7-B847-8D6DFED3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BDE97-5539-4C01-B710-7586EB8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B0D87-14FA-4378-A44B-0556D86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C8E-C687-425B-9140-031E7CF5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9419D-8410-4FD5-9F2B-6CAB1D5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4294E-491E-4AA7-BD2E-4AD5688F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C41E1-7EDA-4AA1-8D60-B7646FD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CD7CD-5AF5-4252-B6B2-D0E0D59C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8CF9E-95A0-412E-8FD5-101923C5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545A-13F2-4CBD-A27D-1940DA12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D945B-5792-494C-B60E-01DBDF8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B4E20-8F2C-4EC0-9C0F-B3078509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9DAC-9A15-43FE-B851-E2ADF6D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338A0-2D56-47A8-AA99-A584BBD1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3D2-66AA-44B4-8069-1C0E331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0C2F-5089-4C15-A547-D3F0DC16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F8AF-A745-4C7E-A08F-24EE289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E5B65-73B3-4DDA-8195-D9C921D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ECB7E-F935-4960-8080-D39DFDE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8091-552B-44A9-B14D-A821D04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16D6-3E1D-4178-A072-6A005DEE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10CC-AA9E-402B-A351-FC025379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D128-9FEE-4698-9635-200E4BCB1D3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1869-FE61-4BBB-B4EA-B7635ED1A4C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DAF-1340-43D1-96F7-F5DE77ABFD8C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D2D-1F44-4D9B-992B-C7866F957B2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D6C3-EE39-4BFD-BF4E-DA231FA7334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7470-E55A-421E-884E-249E21EBAD8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DF30-957F-4DF8-8E6F-31783B86F9F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3F80-3877-4B47-A020-7D2D00EC4C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5BA-3CCB-4F4B-A7B3-8043E7A4D93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37F1-FA6C-451A-A3B9-BD099733268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932-A5B2-43FC-B750-4954A9300FA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4ADE-9F26-4BBB-A9EA-70B9878C495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1501-19D3-4D42-80BB-C00D1CA57AC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210-C29D-4811-857D-9BC859B4599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6CA-695E-4C04-8332-A288E112242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A5C-3FED-40BB-9F40-8D44FC0BE12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775f55"/>
                </a:solidFill>
                <a:latin typeface="Tw Cen MT"/>
              </a:rPr>
              <a:t>WILD WEST PAINTINGS</a:t>
            </a:r>
            <a:endParaRPr b="0" lang="en-US" sz="6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w Cen MT"/>
              </a:rPr>
              <a:t>By George Catlin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William Fisk - George Catlin - Google Art Project.jpg"/>
          <p:cNvPicPr/>
          <p:nvPr/>
        </p:nvPicPr>
        <p:blipFill>
          <a:blip r:embed="rId1"/>
          <a:stretch/>
        </p:blipFill>
        <p:spPr>
          <a:xfrm>
            <a:off x="2590920" y="228600"/>
            <a:ext cx="3809880" cy="47451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Brave Chief, 1832 Giclee Print"/>
          <p:cNvPicPr/>
          <p:nvPr/>
        </p:nvPicPr>
        <p:blipFill>
          <a:blip r:embed="rId1"/>
          <a:stretch/>
        </p:blipFill>
        <p:spPr>
          <a:xfrm>
            <a:off x="380880" y="152280"/>
            <a:ext cx="5029200" cy="6705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5791320" y="175248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f they were decorated with hand prints it meant that they were good at hand-to-hand figh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George Catlin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 was born in Wilkes-Barre, Pennsylvania in 1796.  Following a brief career as a lawyer, he produced two major collections of paintings of American Indians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ve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Mah-to-toh-pa, Four Bears, Second Chief in the Mandan Indian Tribe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5433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4952880" y="1981080"/>
            <a:ext cx="38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ased on clues (costume, posture, headdress), what can you tell me about the person in the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52280"/>
            <a:ext cx="5288040" cy="65008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638680" y="1447920"/>
            <a:ext cx="335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f George Catlin would have painted Four Bears in a chair would that leave you with a different impression of this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hite Cloud-Head Chief of Io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457200" y="1447920"/>
            <a:ext cx="4514760" cy="5195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410080" y="2286000"/>
            <a:ext cx="304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y do you think he was painted with a big green hand on his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228600" y="152280"/>
            <a:ext cx="5657760" cy="6512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867280" y="1752480"/>
            <a:ext cx="3124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tive Americans would decorate their faces to express themselves.What do you think the hand is telling 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El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http://imgc.allpostersimages.com/images/P-473-488-90/29/2931/Y62RD00Z/posters/george-catlin-big-elk-1832.jpg"/>
          <p:cNvPicPr/>
          <p:nvPr/>
        </p:nvPicPr>
        <p:blipFill>
          <a:blip r:embed="rId1"/>
          <a:stretch/>
        </p:blipFill>
        <p:spPr>
          <a:xfrm>
            <a:off x="335268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228600" y="220968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re is another example of the Native Americans using decoration on thei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artunframed.com/Gallery/wp-content/uploads/2013/06/Buffalo-Bull-A-Grand-Pawnee-Warrior-George-Catlin-288x355.jpg"/>
          <p:cNvPicPr/>
          <p:nvPr/>
        </p:nvPicPr>
        <p:blipFill>
          <a:blip r:embed="rId1"/>
          <a:stretch/>
        </p:blipFill>
        <p:spPr>
          <a:xfrm>
            <a:off x="3581280" y="187200"/>
            <a:ext cx="5181840" cy="6388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228600" y="2209680"/>
            <a:ext cx="320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at do you think these marking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9:33:54Z</dcterms:created>
  <dc:creator>Glenda</dc:creator>
  <dc:description/>
  <dc:language>en-US</dc:language>
  <cp:lastModifiedBy>Legion</cp:lastModifiedBy>
  <dcterms:modified xsi:type="dcterms:W3CDTF">2017-07-06T06:55:20Z</dcterms:modified>
  <cp:revision>14</cp:revision>
  <dc:subject/>
  <dc:title>Wild West Paintings</dc:title>
</cp:coreProperties>
</file>