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336E-83E6-4B20-9888-E3C0EA4C01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EFA-C321-4D91-9B53-83DA7432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B4A-6A1B-4167-90F8-6B5ABB31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2AD-4AE3-4CAE-8670-6654B98C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634-CA40-41A1-89A9-F5213E56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3C5-1FE0-4553-9DFA-BC4ACCB6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007-E3B6-41FB-916C-23CF6C48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B2C-2F86-461C-A046-CB739B8D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2BF-80BE-4495-A457-49E4ADA2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978-6BC9-495A-9786-C6F02A5F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20F-1E99-4B9C-B337-619A386C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83D-91D8-4B1A-8300-DD9808A6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72A-ED2A-41B6-9770-6F64854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DE59-13F3-4195-9F5D-AAE3D6E46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:\flag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71600" y="1828800"/>
            <a:ext cx="65530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What is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Branche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BD06916_"/>
          <p:cNvPicPr/>
          <p:nvPr/>
        </p:nvPicPr>
        <p:blipFill>
          <a:blip r:embed="rId1"/>
          <a:stretch/>
        </p:blipFill>
        <p:spPr>
          <a:xfrm>
            <a:off x="2743200" y="2309760"/>
            <a:ext cx="3809880" cy="361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838080" y="2057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Legisl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" y="4419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Execu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0958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Jud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:\flag nation.bmp"/>
          <p:cNvPicPr/>
          <p:nvPr/>
        </p:nvPicPr>
        <p:blipFill>
          <a:blip r:embed="rId1"/>
          <a:stretch/>
        </p:blipFill>
        <p:spPr>
          <a:xfrm>
            <a:off x="1905120" y="2438280"/>
            <a:ext cx="5181480" cy="345276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1066680" y="1143000"/>
            <a:ext cx="6943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ubway"/>
              </a:rPr>
              <a:t>The National Government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ubway"/>
              <a:ea typeface="Subway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Legisla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Make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House of Represent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Se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A:\congress.bmp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Execu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uts the laws into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Vice 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abi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A:\president.bmp"/>
          <p:cNvPicPr/>
          <p:nvPr/>
        </p:nvPicPr>
        <p:blipFill>
          <a:blip r:embed="rId1"/>
          <a:stretch/>
        </p:blipFill>
        <p:spPr>
          <a:xfrm>
            <a:off x="5105520" y="3048120"/>
            <a:ext cx="2495520" cy="3151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Judicial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Decides the meaning of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Supreme 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1 Chief Jus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8 Associate Jus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A:\SC.bmp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3519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0:36:25Z</dcterms:created>
  <dc:creator>Philip Williams</dc:creator>
  <dc:description/>
  <dc:language>en-US</dc:language>
  <cp:lastModifiedBy>Legion</cp:lastModifiedBy>
  <dcterms:modified xsi:type="dcterms:W3CDTF">2017-07-06T06:52:57Z</dcterms:modified>
  <cp:revision>7</cp:revision>
  <dc:subject/>
  <dc:title>What is Government?</dc:title>
</cp:coreProperties>
</file>