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4867-3335-4988-AC7D-B0BD08CE5C1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Gover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Govern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es of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isl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di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nches of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s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d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ional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islativ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h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se of Represent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slative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la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use of Represent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s the laws into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s the laws into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e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dicial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s the meaning of th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reme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hief Jus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Associate Ju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dicial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he meaning of the la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reme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hief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Associate Jus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160-BF02-44FC-B918-7DB6AECC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B9B-B3D0-4F9C-BDB2-85E1DB04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9E7-3A9F-412A-8040-2C0B87AD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C20-1849-4C78-A978-D9E61BED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4A9-C085-4215-96E8-D0F65573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27A-2B11-4551-BE31-FA17CF74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C5F-2DB8-4660-8F28-F6B4DFEF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384-F9F1-4F4A-80AA-0E7CD1DB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72D-A028-4286-ACB9-124469CA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4A3-5FC9-4649-B645-E31D58C9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B27-234B-414C-ADAA-41045B8C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315-4009-412B-A45B-04866AE1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7BA2-3E5B-4F73-9BE6-03416DDC2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:\flag.bmp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71600" y="1828800"/>
            <a:ext cx="655308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What is Gover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Branches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BD06916_"/>
          <p:cNvPicPr/>
          <p:nvPr/>
        </p:nvPicPr>
        <p:blipFill>
          <a:blip r:embed="rId1"/>
          <a:stretch/>
        </p:blipFill>
        <p:spPr>
          <a:xfrm>
            <a:off x="2743200" y="2309760"/>
            <a:ext cx="3809880" cy="3610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838080" y="2057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Legisl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57200" y="4419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Execu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095880" y="3581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Jud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A:\flag nation.bmp"/>
          <p:cNvPicPr/>
          <p:nvPr/>
        </p:nvPicPr>
        <p:blipFill>
          <a:blip r:embed="rId1"/>
          <a:stretch/>
        </p:blipFill>
        <p:spPr>
          <a:xfrm>
            <a:off x="1905120" y="2438280"/>
            <a:ext cx="5181480" cy="345276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1066680" y="1143000"/>
            <a:ext cx="6943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ubway"/>
              </a:rPr>
              <a:t>The National Government</a:t>
            </a:r>
            <a:endParaRPr b="0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ubway"/>
              <a:ea typeface="Subway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Legislative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Make the la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Con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he House of Represent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he Se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A:\congress.bmp"/>
          <p:cNvPicPr/>
          <p:nvPr/>
        </p:nvPicPr>
        <p:blipFill>
          <a:blip r:embed="rId1"/>
          <a:stretch/>
        </p:blipFill>
        <p:spPr>
          <a:xfrm>
            <a:off x="4876920" y="228600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Executive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Puts the laws into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P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Vice P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Cabi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A:\president.bmp"/>
          <p:cNvPicPr/>
          <p:nvPr/>
        </p:nvPicPr>
        <p:blipFill>
          <a:blip r:embed="rId1"/>
          <a:stretch/>
        </p:blipFill>
        <p:spPr>
          <a:xfrm>
            <a:off x="5105520" y="3048120"/>
            <a:ext cx="2495520" cy="3151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Judicial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Decides the meaning of the la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Supreme 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1 Chief Jus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8 Associate Just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A:\SC.bmp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35193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0:36:25Z</dcterms:created>
  <dc:creator>Philip Williams</dc:creator>
  <dc:description/>
  <dc:language>en-US</dc:language>
  <cp:lastModifiedBy>Legion</cp:lastModifiedBy>
  <dcterms:modified xsi:type="dcterms:W3CDTF">2017-07-06T06:52:57Z</dcterms:modified>
  <cp:revision>7</cp:revision>
  <dc:subject/>
  <dc:title>What is Government?</dc:title>
</cp:coreProperties>
</file>