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82ED-5153-4559-B4D1-3E3769B8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3F2-3AF3-4398-9D8A-48404935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9FD-874D-4034-83B1-123F5B2A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801-A394-476E-B751-9FA9989D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1DD-75F6-45CE-B258-2DB96C43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9A7C-5634-4887-AA44-77E8CD90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F951-AC7D-4FB1-A647-49D77674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D633-D2A7-4C2F-BC48-C7774F6E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4946-C857-4B25-9C70-7EF02EA9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55DD-ECEE-497D-B2E2-00CC769A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AC64-0443-4C6D-BBC1-7A658FE1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E786-834A-41A7-8D7C-13B32A3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DD2-E9DC-440C-BADF-E659B125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B8A4-F105-4C69-8C8D-BBAD0707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09E0-B396-46AD-AAB1-EF762AB9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6C80-C502-491E-A20A-E0AEC236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BEBF-1056-4E8F-A94E-78E7449C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F602-62E8-413E-9D82-F04C9AD5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443-43B2-4B2D-ACDF-BEF0E85C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B8B-699F-4B29-AA05-293BA993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579-5CBC-432D-93A7-DA2DC898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0DD-CC68-4715-B1B6-DF21C180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159-C0C8-48BF-99A4-F9A2EF22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CAC-EA48-4B50-9F79-136C493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6F1-F571-423D-B7DF-C46D9EC7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FAA6-B28A-47B8-8DBB-A1EA677BA0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A05A-1A4F-4903-8DCF-13882CDFFF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ilateral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of the laws or legis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gning Stat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ly innocu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6, part of official legislative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fac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item veto since Rea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in an emergency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debts to important groups without committing many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ttract much att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statements prevent vetoes of complex/end of session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deral Administrative Procedures Act (194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all regulatory agencies (FAA, FDA, EPA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making procedures are to be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can participate in the rulemak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encies make rules binding on the public or quasi-judicial decisions resolving disputes about rules, they have to follow certai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for next administration to 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policymaking proces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Memo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Procla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Dir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u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ng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in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Federal Register, numb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verage Executive Orders per year (Washington through Reagan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98400" y="1677960"/>
          <a:ext cx="774216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677960"/>
                    <a:ext cx="77421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Proclam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 condition, declares law and requires obedience, or recognizes an event. (Also pard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ing on the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Memora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cement directed to executive branch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blication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the radar of MCs and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Security Dir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declaration to an agency or department head of a presidential national security decision, requiring follow-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at the National Secur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class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with small group dynamics, Congress’ ex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u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refuses to spend funds appropriated by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has restricted this practice (1974, 19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def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ending i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special contingenc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chieve savings through more efficien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 propose to permanentl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ci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unds, but Congress must approve within 45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7:29:23Z</dcterms:created>
  <dc:creator>Casey B. K.  Dominguez</dc:creator>
  <dc:description/>
  <dc:language>en-US</dc:language>
  <cp:lastModifiedBy>Legion</cp:lastModifiedBy>
  <dcterms:modified xsi:type="dcterms:W3CDTF">2017-07-06T06:51:10Z</dcterms:modified>
  <cp:revision>21</cp:revision>
  <dc:subject/>
  <dc:title>PowerPoint Presentation</dc:title>
</cp:coreProperties>
</file>