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AEA6-C24E-4898-AF61-798ADA631F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40B-3A25-4BE7-9958-B576EB80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BAF-4C33-4037-9B5C-7A78DDBB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1D2-DE66-4A15-B900-618BC293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D27-7A23-47DB-B618-21D88B52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93B-4F50-4449-BAAB-90C814A0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986-D975-4C46-8A86-A3564A1C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2AD-9ABD-4183-B644-F0BBA640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D52-AE55-4D55-A6E6-1F78A685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05B-FC60-4ECE-BAFF-8791A21A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29F-03B0-4E0F-AF2A-6BCEF595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F2E-34C1-4BFE-B93C-44F5C8BA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903-A79E-4A46-AA7B-59239F0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3312-76B8-4AF4-9EF9-F1A1954C7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l.org/div/hello/" TargetMode="External"/><Relationship Id="rId2" Type="http://schemas.openxmlformats.org/officeDocument/2006/relationships/hyperlink" Target="http://www.cherokee.org/home.aspx?section=culture&amp;culture=dldisplay&amp;ID=/aoDJcgHYwk=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lake-skilac"/>
          <p:cNvPicPr/>
          <p:nvPr/>
        </p:nvPicPr>
        <p:blipFill>
          <a:blip r:embed="rId1"/>
          <a:stretch/>
        </p:blipFill>
        <p:spPr>
          <a:xfrm>
            <a:off x="1066680" y="3505320"/>
            <a:ext cx="708660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a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oya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Cherokee who invented the Cheroke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equoyah"/>
          <p:cNvPicPr/>
          <p:nvPr/>
        </p:nvPicPr>
        <p:blipFill>
          <a:blip r:embed="rId1"/>
          <a:stretch/>
        </p:blipFill>
        <p:spPr>
          <a:xfrm>
            <a:off x="5105520" y="1828800"/>
            <a:ext cx="30099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herokee a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y Hello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sic Words in Chero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Indians settl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Tennes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ing along the Mississippi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6:18Z</dcterms:created>
  <dc:creator>Mardena Collins</dc:creator>
  <dc:description/>
  <dc:language>en-US</dc:language>
  <cp:lastModifiedBy>Legion</cp:lastModifiedBy>
  <dcterms:modified xsi:type="dcterms:W3CDTF">2017-07-06T06:45:49Z</dcterms:modified>
  <cp:revision>14</cp:revision>
  <dc:subject/>
  <dc:title>Two Native American Nations  Cherokees and Chickasaws</dc:title>
</cp:coreProperties>
</file>