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66F-63C2-42FF-915D-1EA6DBCB01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Tana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oyah was a Cherokee who invented the Cherokee alphab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 to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Words in Cherok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Indians settled in West Tennessee living along the Mississippi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37D-E50D-481D-B6D9-765C1F6C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F904-738A-4C02-81C2-630EF68D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C20-26F5-487D-9B8E-FC71CF54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CEB-F83C-4C0F-9151-1857DEFB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18A-36AA-4CB0-82D4-64D5262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1D1-9E83-4208-8E64-2D8A9E4F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319E-73AD-42F6-AEEF-906A57E9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730-A2AA-4F2F-A46E-48C2283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6E7C-2ACB-4B2E-B780-B5E8FB8F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BFB-0E39-434E-9A0E-7D3EDFA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CC5-ADC9-4169-AA39-35EB7A31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2C9C-0308-4FCC-B4CE-68E0614F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66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1D4-A2EE-49D1-8A93-6AE98D2DA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pl.org/div/hello/" TargetMode="External"/><Relationship Id="rId2" Type="http://schemas.openxmlformats.org/officeDocument/2006/relationships/hyperlink" Target="http://www.cherokee.org/home.aspx?section=culture&amp;culture=dldisplay&amp;ID=/aoDJcgHYwk=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Native American N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herokees and Chickas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. 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lake-skilac"/>
          <p:cNvPicPr/>
          <p:nvPr/>
        </p:nvPicPr>
        <p:blipFill>
          <a:blip r:embed="rId1"/>
          <a:stretch/>
        </p:blipFill>
        <p:spPr>
          <a:xfrm>
            <a:off x="1066680" y="3505320"/>
            <a:ext cx="7086600" cy="2666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Indians settled in East Tennessee and along the Appalachian Mountains into present day North Carol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 comes from the name of the Cherokee village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na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rokee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quoy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oya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Cherokee who invented the Cherokee alphab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 Nation used his system of writing to publish books and newspa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equoyah"/>
          <p:cNvPicPr/>
          <p:nvPr/>
        </p:nvPicPr>
        <p:blipFill>
          <a:blip r:embed="rId1"/>
          <a:stretch/>
        </p:blipFill>
        <p:spPr>
          <a:xfrm>
            <a:off x="5105520" y="1828800"/>
            <a:ext cx="3009960" cy="3733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herokee ab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y Hello in Cherok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roke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h-see-YOH (your name) dah-wah-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llo, My name is 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y Hello to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sic Words in Chero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ckasaw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Indians settl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t Tenness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ing along the Mississippi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armers and h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killed fishers a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ckasaw language was one of the main languages used among all Native American groups along the lower Mississippi River when tr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00:26:18Z</dcterms:created>
  <dc:creator>Mardena Collins</dc:creator>
  <dc:description/>
  <dc:language>en-US</dc:language>
  <cp:lastModifiedBy>Legion</cp:lastModifiedBy>
  <dcterms:modified xsi:type="dcterms:W3CDTF">2017-07-06T06:45:49Z</dcterms:modified>
  <cp:revision>14</cp:revision>
  <dc:subject/>
  <dc:title>Two Native American Nations  Cherokees and Chickasaws</dc:title>
</cp:coreProperties>
</file>