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F4CB-AD20-4CC0-9BD6-6D05F236FF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views on Government, Economics and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and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Women, Blacks and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to a family of weal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’s View on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supporter of state’s ri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had witnessed the abuses of European k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’s View on Governm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grarian Ec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lieves that we should be a nation of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tied to the land and self su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An Agrarian Econom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 on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 on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ughts on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volution turns bloody but Republicans still support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ctions horrified the Washington Presi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ughts on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s on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ruggled with the pure thought of politically equ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white males participate in gover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s on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892-8FFD-47FC-A268-3A8EC6FF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653-561C-4E8A-8526-9CB4587A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135-673B-4D06-9F37-35925CE2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0D9-2DF3-4A5B-B7D9-93FE0A4D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E363-2098-4576-9871-7E9BFA6A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7B4-AFCA-42DF-AFB1-6E0F4F53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DDB-1A5F-45AE-8CF7-4BBE7F99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3C6-52F6-4028-A8E5-419456F5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0B6-2584-4F99-BA54-215E8DBA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2F07-7D52-4DC3-9329-83B89092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2CD-F804-4FA4-8EE0-98B08B85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C9B-4B2C-496F-B9C1-7C58B5E6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317F-2393-46A0-AFC9-186CDF5B1E0D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etmuseum.org/works_of_art/viewOnezoom.asp?dep=2&amp;zoomFlag=1&amp;viewmode=0&amp;item=62%2E79%2E2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3" name="Picture 11" descr="http://www.gwu.edu/~ffcp/exhibit/p9/p9_2amed.jpg"/>
          <p:cNvPicPr/>
          <p:nvPr/>
        </p:nvPicPr>
        <p:blipFill>
          <a:blip r:embed="rId1"/>
          <a:stretch/>
        </p:blipFill>
        <p:spPr>
          <a:xfrm>
            <a:off x="5068800" y="1981080"/>
            <a:ext cx="32720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Jefferson’s View on Governmen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http://rds.yahoo.com/S=96062883/K=capital+hill/v=2/SID=e/l=IVS/SIG=12fjboh8t/EXP=1105578179/*-http%3A//www.rotary5520.org/eastelpaso/Capital%20Hill%20I.jpg"/>
          <p:cNvPicPr/>
          <p:nvPr/>
        </p:nvPicPr>
        <p:blipFill>
          <a:blip r:embed="rId1"/>
          <a:stretch/>
        </p:blipFill>
        <p:spPr>
          <a:xfrm>
            <a:off x="5072040" y="1981080"/>
            <a:ext cx="3309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An Agrarian Econom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1" name="Picture 7" descr="http://www.currierandives.info/Americana/American-farm.gif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 on Human Natur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5" name="Picture 7" descr="http://rds.yahoo.com/S=96062883/K=thomas+jefferson/v=2/SID=e/l=IVI/SIG=13ks8u0l2/EXP=1105584502/*-http%3A//oncampus.richmond.edu/academics/education/projects/webquests/patriot/images/jefferson.jpg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ughts on Foreign Relation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9" name="Picture 11" descr="http://rds.yahoo.com/S=96062883/K=louis+xvi/v=2/SID=e/l=IVS/SIG=121auhv1h/EXP=1105582607/*-http%3A//www.paulauger.com/images/Louis16LG.gif"/>
          <p:cNvPicPr/>
          <p:nvPr/>
        </p:nvPicPr>
        <p:blipFill>
          <a:blip r:embed="rId1"/>
          <a:stretch/>
        </p:blipFill>
        <p:spPr>
          <a:xfrm>
            <a:off x="5114880" y="1981080"/>
            <a:ext cx="32670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3" name="Picture 7" descr="http://rds.yahoo.com/S=96062883/K=french+revolution/v=2/SID=e/l=IVS/SIG=134qi84le/EXP=1105582948/*-http%3A//academic.brooklyn.cuny.edu/history/virtual/portrait/louis16-execution.jpg"/>
          <p:cNvPicPr/>
          <p:nvPr/>
        </p:nvPicPr>
        <p:blipFill>
          <a:blip r:embed="rId1"/>
          <a:stretch/>
        </p:blipFill>
        <p:spPr>
          <a:xfrm>
            <a:off x="609480" y="1981080"/>
            <a:ext cx="34783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4" name="Picture 11" descr="http://www.stormfront.org/whitehistory/hwr27_files/naphorse.jpg"/>
          <p:cNvPicPr/>
          <p:nvPr/>
        </p:nvPicPr>
        <p:blipFill>
          <a:blip r:embed="rId2"/>
          <a:stretch/>
        </p:blipFill>
        <p:spPr>
          <a:xfrm>
            <a:off x="4800600" y="2057400"/>
            <a:ext cx="36576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8" name="Picture 1033" descr="http://members.tripod.com/~Motomom/Guillotine.jpg"/>
          <p:cNvPicPr/>
          <p:nvPr/>
        </p:nvPicPr>
        <p:blipFill>
          <a:blip r:embed="rId1"/>
          <a:stretch/>
        </p:blipFill>
        <p:spPr>
          <a:xfrm>
            <a:off x="5181480" y="2057400"/>
            <a:ext cx="335304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Picture 1037" descr="http://fr.wikipedia.org/upload/3/3a/Dessin_prise_de_la_Bastille.jpg"/>
          <p:cNvPicPr/>
          <p:nvPr/>
        </p:nvPicPr>
        <p:blipFill>
          <a:blip r:embed="rId2"/>
          <a:stretch/>
        </p:blipFill>
        <p:spPr>
          <a:xfrm>
            <a:off x="685800" y="2057400"/>
            <a:ext cx="388620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s on Opportunit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3" name="Picture 11" descr="Click to zoom">
            <a:hlinkClick r:id="rId1"/>
          </p:cNvPr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00:11:38Z</dcterms:created>
  <dc:creator>Preferred Customer</dc:creator>
  <dc:description/>
  <dc:language>en-US</dc:language>
  <cp:lastModifiedBy>Legion</cp:lastModifiedBy>
  <dcterms:modified xsi:type="dcterms:W3CDTF">2017-07-06T06:44:26Z</dcterms:modified>
  <cp:revision>17</cp:revision>
  <dc:subject/>
  <dc:title>Thomas Jefferson</dc:title>
</cp:coreProperties>
</file>