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1508-B30E-4E7E-996C-964F3FEAD6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s Greates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s Greates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 the 1st President to live in Washington, D.C., leaves before Jefferson’s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Inauguration takes place on March 4, 1801 in Washington, D.C.—the 1st don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finished White House and Capitol were just about the only buildings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the 1st President to live in Washington, D.C., leaves before Jefferson’s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Inauguration takes place on March 4, 1801 in Washington, D.C.—the 1st done t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finished White House and Capitol were just about the only buildings in t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fear what Jefferson will say—will he start a new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urprisingly, calls for unity—he states “We are all Republicans, we are all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propose to change or destroy the structure of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s fear what Jefferson will say—will he start a new rev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urprisingly, calls for unity—he states “We are all Republicans, we are all Federal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propose to change or destroy the structure of the feder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Albert Gallatin as Secretary of the Treas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military sp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army from 4000 to 2500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navy from 25 to 7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national debt from $83 million to $4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LL internal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ed Albert Gallatin as Secretary of the Treas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ilitary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army from 4000 to 2500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navy from 25 to 7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national debt from $83 million to $4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LL internal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source of government income: tariffs and sales of Wester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Alien and Sedition Acts ex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ource of government income: tariffs and sales of Western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lien and Sedition Acts exp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s. Madison:  Does William Marbury, one of John Adams’ last minute “midnight judges,” receive his commission to be judge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had James Madison refuse to give the commission to Marb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went before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ing became a precedent—an example for future court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bury vs. Madison:  Does William Marbury, one of John Adams’ last minute “midnight judges,” receive his commission to be judge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had James Madison refuse to give the commission to Marb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nt before the Supreme Cou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became a precedent—an example for future court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Marbury vs. Madison, the Supreme Court established the concept of “Judicial Review” of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Review means that the Court may decide if a law is constitutional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aw is judged to be unconstitutional, or goes against the U.S. Constitution, then the law ceases to be a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bury vs. Madison, the Supreme Court established the concept of “Judicial Review” of law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 Review means that the Court may decide if a law is constitutional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aw is judged to be unconstitutional, or goes against the U.S. Constitution, then the law ceases to be a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0, the western boundary of the U.S. was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that is all lands west of the Mississippi River which drained into the river, was originally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losing the French-Indian War, France ceded, or gave, the Louisiana Territory to S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0, the western boundary of the U.S. was the Mississipp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that is all lands west of the Mississippi River which drained into the river, was originally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losing the French-Indian War, France ceded, or gave, the Louisiana Territory to Sp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continued to be controlled by Spain until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r fought in Europe between Spain and France ended with a victory for Napoleon and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ly, the Louisiana Territory was transferred from Spain to France as a result of that European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continued to be controlled by Spain until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r fought in Europe between Spain and France ended with a victory for Napoleon and the Fren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ly, the Louisiana Territory was transferred from Spain to France as a result of that European w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rned that Louisiana Territory was now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rned that Louisiana Territory was now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ackground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Peter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most sons of land owners, he studied land surve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from William and Mary University in Williamsburg, 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l, red-headed, qu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ckground and Edu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Peter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sons of land owners, he studied land surve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from William and Mary University in Williamsburg, V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 red-headed, qui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alized the problems involved with France owning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ds Robert Livingston and James Monroe to buy New Orleans and West Florida for $2 million from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ston and Monroe may spend UP to $10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alized the problems involved with France owning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ends Robert Livingston and James Monroe to buy New Orleans and West Florida for $2 million from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ingston and Monroe may spend UP to $10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being more money and more land than expected, both Livingston and Monroe quickly agree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al poses a personal problem for Jefferson—is this small government?  Still, Jefferson agrees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debates the issue—lots of money involved—still, they agre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being more money and more land than expected, both Livingston and Monroe quickly agree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l poses a personal problem for Jefferson—is this small government?  Still, Jefferson agrees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debates the issue—lots of money involved—still, they agree to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experiences slave rebellion trouble in the French colony of Saint Domingue located in the Caribb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also needs money for another war with Great Britain.  He decides to sell ALL of the Louisiana Territory.  His price:  $1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experiences slave rebellion trouble in the French colony of Saint Domingue located in the Caribb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also needs money for another war with Great Britain.  He decides to sell ALL of the Louisiana Territory.  His price:  $1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ariety of reasons, Jefferson decides to send a military expedition to explore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personal secretary, Captain Meriwether Lewis, is placed in charge of the expedition.  The men on this expediton are called the Corps of Dis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iwether Lew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ariety of reasons, Jefferson decides to send a military expedition to explore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personal secretary, Captain Meriwether Lewis, is placed in charge of the expedition.  The men on this expediton are called the Corps of Dis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wether Lew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selects Lt. William Clark as a co-commander.  The army refuses to recognize co-commanders so Clark remains a lieute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of the Corps of Discovery are told that Clark is a Captain and a co-commander of the expe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nd Clark, along with the other members of the Corps of Discovery, depart St. Louis on May 14, 1804 and travels up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p for the winter of 1805 in the Mandan villages and create Fort Man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elects Lt. William Clark as a co-commander.  The army refuses to recognize co-commanders so Clark remains a lieuten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of the Corps of Discovery are told that Clark is a Captain and a co-commander of the exped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and Clark, along with the other members of the Corps of Discovery, depart St. Louis on May 14, 1804 and travels up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op for the winter of 1805 in the Mandan villages and create Fort Mand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reach the Pacific Ocean on November 7, 1805.  Clark writes: “Ocean in view! O! The j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create Fort Clatsop and spend the 1806 winter on the Pacific coast.  They experience problems with the n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reach the Pacific Ocean on November 7, 1805.  Clark writes: “Ocean in view! O! The j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create Fort Clatsop and spend the 1806 winter on the Pacific coast.  They experience problems with the n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ey becomes a race down the Missouri River.  Lewis and Clark arrive in St. Louis on September 23, 18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veled almost 8,000 miles along the journey.  They mapped the entire distance using “line of sight” approximations.  They were off by only 4 m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ey becomes a race down the Missouri River.  Lewis and Clark arrive in St. Louis on September 23, 18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raveled almost 8,000 miles along the journey.  They mapped the entire distance using “line of sight” approximations.  They were off by only 4 mi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Zebulon P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bulon Pike also explores the western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reaches the Colorado area and finds the mountain which now bears his name:  Pike’s P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then moves south into the Spanish territories which eventually become Texas and Mex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ebulon Pi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ulon Pike also explores the western terri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reaches the Colorado area and finds the mountain which now bears his name:  Pike’s Pea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then moves south into the Spanish territories which eventually become Texas and Mexi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itical 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which governs least, governs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ly favored States Rights as opposed to a strong nation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a strict construction, or strict interpretation, of the U.S.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nd all taxes of any kind paid by U.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litical Belief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hich governs least, governs b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avored States Rights as opposed to a strong nation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in a strict construction, or strict interpretation, of the U.S.Co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ed to end all taxes of any kind paid by U.S. citiz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Jefferson’s Re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4, Jefferson was unquestioned success as a President.  He was easily reel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Jefferson’s Re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4, Jefferson was unquestioned success as a President.  He was easily reele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rates from the Barbary Coast States in the Mediterranean Sea demand tribute from U.S. trade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fuses to pay the trib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bary pirates from Tripoli declare war on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want to fight; instead, he orders a blockade of the port of Tripol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from the Barbary Coast States in the Mediterranean Sea demand tribute from U.S. trade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fuses to pay the tribu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ary pirates from Tripoli declare war on the 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want to fight; instead, he orders a blockade of the port of Tripol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ockade eventually works.  The U.S. forces the pirates to sign a peace treaty which ends all tribute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action is popular in the U.S., but shows the need for a U.S. na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puts aside his own personal problems with the government paying for a navy, and the country develops a stronge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ade eventually works.  The U.S. forces the pirates to sign a peace treaty which ends all tribute pay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itary action is popular in the U.S., but shows the need for a U.S. nav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puts aside his own personal problems with the government paying for a navy, and the country develops a stronger def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continues its policy of impr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ment is when the British kidnap U.S. sailors and force them to work as British sai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ressment issue becomes a big deal with the Chesapeake-Leopard Affair in June 18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Britain continues its policy of impress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ment is when the British kidnap U.S. sailors and force them to work as British sai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essment issue becomes a big deal with the Chesapeake-Leopard Affair in June 18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eals with the impressment issue by asking for an embargo, or block of trade, against both Great Britain and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eals with the impressment issue by asking for an embargo, or block of trade, against both Great Britain and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bargo Act proves EXTREMELY unpopular and Jefferson’s popularity suffers as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Congress repealed the Embargo Act and replaced it with the Non-Intercours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Intercourse Act was no more successful than the Embargo Act.  American merchants and shipowners suffered grea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ves office with a loss of 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rgo Act proves EXTREMELY unpopular and Jefferson’s popularity suffers as a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Congress repealed the Embargo Act and replaced it with the Non-Intercourse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Intercourse Act was no more successful than the Embargo Act.  American merchants and shipowners suffered great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ves office with a loss of resp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Madison, the author of the Constitution, a Democratic-Republican, and Jefferson’s hand-picked successor becomes the nex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ison leads the country during the War of 1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the author of the Constitution, a Democratic-Republican, and Jefferson’s hand-picked successor becomes the nex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leads the country during the War of 18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news his friendship with his long-term friend and political rival, 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Adams exchange tons of letters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and John Adams both die on the same day: July 4, 1826.  It was the 50th anniversary of the Declaration of Independence which both men help wr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news his friendship with his long-term friend and political rival, John Ad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and Adams exchange tons of letters with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 and John Adams both die on the same day: July 4, 1826.  It was the 50th anniversary of the Declaration of Independence which both men help wr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ccomplishments Prior to becoming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first draft of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Statute of Virginia for Religious Free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the University of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 as an ambassador to Europe from the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omplishments Prior to becoming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first draft of the Declaration of Indepen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Statute of Virginia for Religious Freed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University of Virgin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as an ambassador to Europe from the United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omas Jefferson and Aaron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tic-Republican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Jefferson and Aaron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Adams and Charles C. Pinck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Adams and Charles C. Pinck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would have won re-election, perhaps easily, had Alexander Hamilton not split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s would have won re-election, perhaps easily, had Alexander Hamilton not split the Federalist Par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 Democratic-Republicans won the 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winning candidates, Jefferson and Burr, received 73 electoral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was settled the House of Representatives after 35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swings the election to Jefferson and angers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the Democratic-Republicans won the 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inning candidates, Jefferson and Burr, received 73 electoral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was settled the House of Representatives after 35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wings the election to Jefferson and angers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ed up election pointed out the need for a Constitutional amendment regarding the Presidential ele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th Amendment modified the Constitution so that the President and the Vice-President are elected using separate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ed up election pointed out the need for a Constitutional amendment regarding the Presidential election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th Amendment modified the Constitution so that the President and the Vice-President are elected using separate ball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29D8B-6670-4205-BCFA-4DEB42DB7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3EC92-43BD-48D4-BAB2-F1EC2D983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A83CE-5B54-463B-BF32-D4C4A4C60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5A052-70A1-400C-87CB-58F262E56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DDEB7-1E30-4721-B0B7-F33D42FA7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6B9BE-8802-4B7A-8F92-3665B5887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F349A-92A8-4466-BB58-9EBD86735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6F8AE-F27A-40F3-82F8-89CBA099A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80E4D-2E1C-4C37-807C-CFC822E74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24514-C9FA-4835-8260-A0BEF9225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1482D-76C9-4FC3-A243-F48359145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3950-E6D2-4583-A732-BC290EADA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A227-4764-4EF0-B835-3314AB681E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114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3337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y’s Greatest President</a:t>
            </a:r>
            <a:endParaRPr b="0" lang="en-US" sz="3200" spc="-1" strike="noStrike">
              <a:solidFill>
                <a:srgbClr val="000000"/>
              </a:solidFill>
              <a:latin typeface="Arial"/>
            </a:endParaRPr>
          </a:p>
        </p:txBody>
      </p:sp>
      <p:pic>
        <p:nvPicPr>
          <p:cNvPr id="50" name="Picture 4" descr="thomas-jefferson-picture"/>
          <p:cNvPicPr/>
          <p:nvPr/>
        </p:nvPicPr>
        <p:blipFill>
          <a:blip r:embed="rId1"/>
          <a:stretch/>
        </p:blipFill>
        <p:spPr>
          <a:xfrm>
            <a:off x="2743200" y="533520"/>
            <a:ext cx="3809880" cy="36669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 the 1</a:t>
            </a:r>
            <a:r>
              <a:rPr b="0" lang="en-US" sz="3200" spc="-1" strike="noStrike" baseline="30000">
                <a:solidFill>
                  <a:srgbClr val="000000"/>
                </a:solidFill>
                <a:latin typeface="Arial"/>
              </a:rPr>
              <a:t>st</a:t>
            </a:r>
            <a:r>
              <a:rPr b="0" lang="en-US" sz="3200" spc="-1" strike="noStrike">
                <a:solidFill>
                  <a:srgbClr val="000000"/>
                </a:solidFill>
                <a:latin typeface="Arial"/>
              </a:rPr>
              <a:t> President to live in Washington, D.C., leaves before Jefferson’s inau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s Inauguration takes place on March 4, 1801 in Washington, D.C.—the 1</a:t>
            </a:r>
            <a:r>
              <a:rPr b="0" lang="en-US" sz="3200" spc="-1" strike="noStrike" baseline="30000">
                <a:solidFill>
                  <a:srgbClr val="000000"/>
                </a:solidFill>
                <a:latin typeface="Arial"/>
              </a:rPr>
              <a:t>st</a:t>
            </a:r>
            <a:r>
              <a:rPr b="0" lang="en-US" sz="3200" spc="-1" strike="noStrike">
                <a:solidFill>
                  <a:srgbClr val="000000"/>
                </a:solidFill>
                <a:latin typeface="Arial"/>
              </a:rPr>
              <a:t> done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finished White House and Capitol were just about the only buildings in town</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fear what Jefferson will say—will he start a new r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urprisingly, calls for unity—he states “We are all Republicans, we are all Feder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propose to change or destroy the structure of the federal government.</a:t>
            </a:r>
            <a:endParaRPr b="0"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ed Albert Gallatin as Secretary of the Treas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ilitary s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army from 4000 to 2500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navy from 25 to 7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national debt from $83 million to $45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ALL internal taxes</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ource of government income: tariffs and sales of Western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the Alien and Sedition Acts expire</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bury vs. Madison:  Does William Marbury, one of John Adams’ last minute “midnight judges,” receive his commission to be judg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had James Madison refuse to give the commission to Marbu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went before the Supreme Cou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 became a precedent—an example for future court cases</a:t>
            </a:r>
            <a:endParaRPr b="0" lang="en-US" sz="32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rbury vs. Madison, the Supreme Court established the concept of “Judicial Review” of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Review means that the Court may decide if a law is constitutional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law is judged to be unconstitutional, or goes against the U.S. Constitution, then the law ceases to be a law.</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0, the western boundary of the U.S. was the Mississip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that is all lands west of the Mississippi River which drained into the river, was originally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art of losing the French-Indian War, France ceded, or gave, the Louisiana Territory to Spa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continued to be controlled by Spain until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fought in Europe between Spain and France ended with a victory for Napoleon and the Fre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ly, the Louisiana Territory was transferred from Spain to France as a result of that European war.  </a:t>
            </a:r>
            <a:endParaRPr b="0" lang="en-US" sz="32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learned that Louisiana Territory was now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Background and Educ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Peter Jeff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sons of land owners, he studied land surve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from William and Mary University in Williamsburg, 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 red-headed, quiet</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alized the problems involved with France owning the Louisiana Terr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ends Robert Livingston and James Monroe to buy New Orleans and West Florida for $2 million from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ingston and Monroe may spend UP to $10 million.</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being more money and more land than expected, both Livingston and Monroe quickly agree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l poses a personal problem for Jefferson—is this small government?  Still, Jefferson agrees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bates the issue—lots of money involved—still, they agree to it.</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experiences slave rebellion trouble in the French colony of Saint Domingue located in the Carib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also needs money for another war with Great Britain.  He decides to sell ALL of the Louisiana Territory.  His price:  $15 million.</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pic>
        <p:nvPicPr>
          <p:cNvPr id="121" name="Picture 4" descr="louisianamapbig"/>
          <p:cNvPicPr/>
          <p:nvPr/>
        </p:nvPicPr>
        <p:blipFill>
          <a:blip r:embed="rId1"/>
          <a:stretch/>
        </p:blipFill>
        <p:spPr>
          <a:xfrm>
            <a:off x="304920" y="1295280"/>
            <a:ext cx="8601120" cy="54133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556272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variety of reasons, Jefferson decides to send a military expedition to explore the Louisiana Terri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s personal secretary, Captain Meriwether Lewis, is placed in charge of the expedition.  The men on this expediton are called the Corps of Disco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2400" spc="-1" strike="noStrike">
              <a:solidFill>
                <a:srgbClr val="000000"/>
              </a:solidFill>
              <a:latin typeface="Arial"/>
            </a:endParaRPr>
          </a:p>
        </p:txBody>
      </p:sp>
      <p:pic>
        <p:nvPicPr>
          <p:cNvPr id="125" name="Picture 4" descr="Lewis_1"/>
          <p:cNvPicPr/>
          <p:nvPr/>
        </p:nvPicPr>
        <p:blipFill>
          <a:blip r:embed="rId1"/>
          <a:stretch/>
        </p:blipFill>
        <p:spPr>
          <a:xfrm>
            <a:off x="6095880" y="1752480"/>
            <a:ext cx="2705400" cy="3772080"/>
          </a:xfrm>
          <a:prstGeom prst="rect">
            <a:avLst/>
          </a:prstGeom>
          <a:ln w="0">
            <a:noFill/>
          </a:ln>
        </p:spPr>
      </p:pic>
      <p:sp>
        <p:nvSpPr>
          <p:cNvPr id="126" name="Text Box 6"/>
          <p:cNvSpPr/>
          <p:nvPr/>
        </p:nvSpPr>
        <p:spPr>
          <a:xfrm>
            <a:off x="6248520" y="5715000"/>
            <a:ext cx="24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iwether Lewis</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5410080" cy="5410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elects Lt. William Clark as a co-commander.  The army refuses to recognize co-commanders so Clark remains a lieutena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 of the Corps of Discovery are told that Clark is a Captain and a co-commander of the expeditio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and Clark, along with the other members of the Corps of Discovery, depart St. Louis on May 14, 1804 and travels upriv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op for the winter of 1805 in the Mandan villages and create Fort Mandan.</a:t>
            </a:r>
            <a:endParaRPr b="0" lang="en-US" sz="2400" spc="-1" strike="noStrike">
              <a:solidFill>
                <a:srgbClr val="000000"/>
              </a:solidFill>
              <a:latin typeface="Arial"/>
            </a:endParaRPr>
          </a:p>
        </p:txBody>
      </p:sp>
      <p:pic>
        <p:nvPicPr>
          <p:cNvPr id="130" name="Picture 4" descr="Clark_1"/>
          <p:cNvPicPr/>
          <p:nvPr/>
        </p:nvPicPr>
        <p:blipFill>
          <a:blip r:embed="rId1"/>
          <a:stretch/>
        </p:blipFill>
        <p:spPr>
          <a:xfrm>
            <a:off x="6095880" y="1905120"/>
            <a:ext cx="2705400" cy="3800520"/>
          </a:xfrm>
          <a:prstGeom prst="rect">
            <a:avLst/>
          </a:prstGeom>
          <a:ln w="0">
            <a:noFill/>
          </a:ln>
        </p:spPr>
      </p:pic>
      <p:sp>
        <p:nvSpPr>
          <p:cNvPr id="131" name="Text Box 6"/>
          <p:cNvSpPr/>
          <p:nvPr/>
        </p:nvSpPr>
        <p:spPr>
          <a:xfrm>
            <a:off x="6324480" y="5867280"/>
            <a:ext cx="24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am Clark</a:t>
            </a:r>
            <a:endParaRPr b="0" lang="en-US" sz="2000" spc="-1" strike="noStrike">
              <a:solidFill>
                <a:srgbClr val="000000"/>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rt Mandan, Lewis and Clark hire the French trader Toussaint Charbonneau as an interpreter and guide.  The true prize was Charbonneau’s 2</a:t>
            </a:r>
            <a:r>
              <a:rPr b="0" lang="en-US" sz="2800" spc="-1" strike="noStrike" baseline="30000">
                <a:solidFill>
                  <a:srgbClr val="000000"/>
                </a:solidFill>
                <a:latin typeface="Arial"/>
              </a:rPr>
              <a:t>nd</a:t>
            </a:r>
            <a:r>
              <a:rPr b="0" lang="en-US" sz="2800" spc="-1" strike="noStrike">
                <a:solidFill>
                  <a:srgbClr val="000000"/>
                </a:solidFill>
                <a:latin typeface="Arial"/>
              </a:rPr>
              <a:t> wife, Sacagawea and Sacagawea’s newborn infant 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28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reach the Pacific Ocean on November 7, 1805.  Clark writes: “Ocean in view! O! The jo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create Fort Clatsop and spend the 1806 winter on the Pacific coast.  They experience problems with the natives.</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urney becomes a race down the Missouri River.  Lewis and Clark arrive in St. Louis on September 23,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raveled almost 8,000 miles along the journey.  They mapped the entire distance using “line of sight” approximations.  They were off by only 4 miles. </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Zebulon Pike</a:t>
            </a:r>
            <a:endParaRPr b="0" lang="en-US" sz="4400" spc="-1" strike="noStrike">
              <a:solidFill>
                <a:srgbClr val="000000"/>
              </a:solidFill>
              <a:latin typeface="Arial"/>
            </a:endParaRPr>
          </a:p>
        </p:txBody>
      </p:sp>
      <p:sp>
        <p:nvSpPr>
          <p:cNvPr id="143" name="PlaceHolder 2"/>
          <p:cNvSpPr>
            <a:spLocks noGrp="1"/>
          </p:cNvSpPr>
          <p:nvPr>
            <p:ph/>
          </p:nvPr>
        </p:nvSpPr>
        <p:spPr>
          <a:xfrm>
            <a:off x="3733920" y="1676520"/>
            <a:ext cx="5029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ulon Pike also explores the western territ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reaches the Colorado area and finds the mountain which now bears his name:  Pike’s Peak.</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then moves south into the Spanish territories which eventually become Texas and Mexico.</a:t>
            </a:r>
            <a:endParaRPr b="0" lang="en-US" sz="2800" spc="-1" strike="noStrike">
              <a:solidFill>
                <a:srgbClr val="000000"/>
              </a:solidFill>
              <a:latin typeface="Arial"/>
            </a:endParaRPr>
          </a:p>
        </p:txBody>
      </p:sp>
      <p:pic>
        <p:nvPicPr>
          <p:cNvPr id="144" name="Picture 7" descr="ZebulonPike"/>
          <p:cNvPicPr/>
          <p:nvPr/>
        </p:nvPicPr>
        <p:blipFill>
          <a:blip r:embed="rId1"/>
          <a:stretch/>
        </p:blipFill>
        <p:spPr>
          <a:xfrm>
            <a:off x="533520" y="1676520"/>
            <a:ext cx="3028680" cy="44956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olitical Belief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hich governs least, govern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favored States Rights as opposed to a strong nation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a strict construction, or strict interpretation, of the U.S.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o end all taxes of any kind paid by U.S. citizens</a:t>
            </a:r>
            <a:endParaRPr b="0" lang="en-US" sz="32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Jefferson’s Reelection</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4, Jefferson was unquestioned success as a President.  He was easily re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tes from the Barbary Coast States in the Mediterranean Sea demand tribute from U.S. trade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fuses to pay the 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rbary pirates from Tripoli declare war on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want to fight; instead, he orders a blockade of the port of Tripoli. </a:t>
            </a: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ckade eventually works.  The U.S. forces the pirates to sign a peace treaty which ends all tribute pay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action is popular in the U.S., but shows the need for a U.S. nav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puts aside his own personal problems with the government paying for a navy, and the country develops a stronger defense.</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continues its policy of impr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ment is when the British kidnap U.S. sailors and force them to work as British sai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ressment issue becomes a big deal with the Chesapeake-Leopard Affair in June 1807.</a:t>
            </a:r>
            <a:endParaRPr b="0" lang="en-US" sz="32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eals with the impressment issue by asking for an embargo, or block of trade, against both Great Britain and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32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bargo Act proves EXTREMELY unpopular and Jefferson’s popularity suffers as a res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ngress repealed the Embargo Act and replaced it with the Non-Intercourse 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n-Intercourse Act was no more successful than the Embargo Act.  American merchants and shipowners suffered grea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erson leaves office with a loss of respect.</a:t>
            </a:r>
            <a:endParaRPr b="0" lang="en-US" sz="2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5" name="PlaceHolder 2"/>
          <p:cNvSpPr>
            <a:spLocks noGrp="1"/>
          </p:cNvSpPr>
          <p:nvPr>
            <p:ph/>
          </p:nvPr>
        </p:nvSpPr>
        <p:spPr>
          <a:xfrm>
            <a:off x="228600" y="1600200"/>
            <a:ext cx="49528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the author of the Constitution, a Democratic-Republican, and Jefferson’s hand-picked successor becomes the next Pres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leads the country during the War of 1812.</a:t>
            </a:r>
            <a:endParaRPr b="0" lang="en-US" sz="2800" spc="-1" strike="noStrike">
              <a:solidFill>
                <a:srgbClr val="000000"/>
              </a:solidFill>
              <a:latin typeface="Arial"/>
            </a:endParaRPr>
          </a:p>
        </p:txBody>
      </p:sp>
      <p:pic>
        <p:nvPicPr>
          <p:cNvPr id="166" name="Picture 4" descr="james-madison-picture"/>
          <p:cNvPicPr/>
          <p:nvPr/>
        </p:nvPicPr>
        <p:blipFill>
          <a:blip r:embed="rId1"/>
          <a:stretch/>
        </p:blipFill>
        <p:spPr>
          <a:xfrm>
            <a:off x="5334120" y="1600200"/>
            <a:ext cx="3571920" cy="331488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news his friendship with his long-term friend and political rival, John Ad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and Adams exchange tons of letters with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Jefferson and John Adams both die on the same day: July 4, 1826.  It was the 50</a:t>
            </a:r>
            <a:r>
              <a:rPr b="0" lang="en-US" sz="3200" spc="-1" strike="noStrike" baseline="30000">
                <a:solidFill>
                  <a:srgbClr val="000000"/>
                </a:solidFill>
                <a:latin typeface="Arial"/>
              </a:rPr>
              <a:t>th</a:t>
            </a:r>
            <a:r>
              <a:rPr b="0" lang="en-US" sz="3200" spc="-1" strike="noStrike">
                <a:solidFill>
                  <a:srgbClr val="000000"/>
                </a:solidFill>
                <a:latin typeface="Arial"/>
              </a:rPr>
              <a:t> anniversary of the Declaration of Independence which both men help write.</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ccomplishments Prior to becoming Presid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irst draft of the Declaration of In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Statute of Virginia for Religiou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e University of Virgi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an ambassador to Europe from the United States  </a:t>
            </a:r>
            <a:endParaRPr b="0" lang="en-US" sz="32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15328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Republican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mas Jefferson and Aaron Bur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4" descr="thomas-jefferson-picture"/>
          <p:cNvPicPr/>
          <p:nvPr/>
        </p:nvPicPr>
        <p:blipFill>
          <a:blip r:embed="rId1"/>
          <a:stretch/>
        </p:blipFill>
        <p:spPr>
          <a:xfrm>
            <a:off x="1143000" y="2895480"/>
            <a:ext cx="3262320" cy="3138480"/>
          </a:xfrm>
          <a:prstGeom prst="rect">
            <a:avLst/>
          </a:prstGeom>
          <a:ln w="0">
            <a:noFill/>
          </a:ln>
        </p:spPr>
      </p:pic>
      <p:pic>
        <p:nvPicPr>
          <p:cNvPr id="64" name="Picture 6" descr="aaronburr-sm"/>
          <p:cNvPicPr/>
          <p:nvPr/>
        </p:nvPicPr>
        <p:blipFill>
          <a:blip r:embed="rId2"/>
          <a:stretch/>
        </p:blipFill>
        <p:spPr>
          <a:xfrm>
            <a:off x="5715000" y="2895480"/>
            <a:ext cx="2349360" cy="3124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15328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Adams and Charles C. Pinck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JohnAdams"/>
          <p:cNvPicPr/>
          <p:nvPr/>
        </p:nvPicPr>
        <p:blipFill>
          <a:blip r:embed="rId1"/>
          <a:stretch/>
        </p:blipFill>
        <p:spPr>
          <a:xfrm>
            <a:off x="1263600" y="2895480"/>
            <a:ext cx="2743200" cy="3200400"/>
          </a:xfrm>
          <a:prstGeom prst="rect">
            <a:avLst/>
          </a:prstGeom>
          <a:ln w="0">
            <a:noFill/>
          </a:ln>
        </p:spPr>
      </p:pic>
      <p:pic>
        <p:nvPicPr>
          <p:cNvPr id="69" name="Picture 6" descr="CharlesCPinckney"/>
          <p:cNvPicPr/>
          <p:nvPr/>
        </p:nvPicPr>
        <p:blipFill>
          <a:blip r:embed="rId2"/>
          <a:stretch/>
        </p:blipFill>
        <p:spPr>
          <a:xfrm>
            <a:off x="5410080" y="2895480"/>
            <a:ext cx="2268720" cy="320040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2" name="PlaceHolder 2"/>
          <p:cNvSpPr>
            <a:spLocks noGrp="1"/>
          </p:cNvSpPr>
          <p:nvPr>
            <p:ph/>
          </p:nvPr>
        </p:nvSpPr>
        <p:spPr>
          <a:xfrm>
            <a:off x="456840" y="1599840"/>
            <a:ext cx="838188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would have won re-election, perhaps easily, had Alexander Hamilton not split the Federalist Party </a:t>
            </a:r>
            <a:endParaRPr b="0" lang="en-US" sz="2800" spc="-1" strike="noStrike">
              <a:solidFill>
                <a:srgbClr val="000000"/>
              </a:solidFill>
              <a:latin typeface="Arial"/>
            </a:endParaRPr>
          </a:p>
        </p:txBody>
      </p:sp>
      <p:pic>
        <p:nvPicPr>
          <p:cNvPr id="73" name="Picture 4" descr="300px-Alexander_Hamilton"/>
          <p:cNvPicPr/>
          <p:nvPr/>
        </p:nvPicPr>
        <p:blipFill>
          <a:blip r:embed="rId1"/>
          <a:stretch/>
        </p:blipFill>
        <p:spPr>
          <a:xfrm>
            <a:off x="3479760" y="2971800"/>
            <a:ext cx="2540160" cy="3581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the Democratic-Republicans won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inning candidates, Jefferson and Burr, received 73 electoral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was settled the House of Representatives after 35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swings the election to Jefferson and angers Burr</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ed up election pointed out the need for a Constitutional amendment regarding the Presidential election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a:t>
            </a:r>
            <a:r>
              <a:rPr b="0" lang="en-US" sz="3200" spc="-1" strike="noStrike" baseline="30000">
                <a:solidFill>
                  <a:srgbClr val="000000"/>
                </a:solidFill>
                <a:latin typeface="Arial"/>
              </a:rPr>
              <a:t>th</a:t>
            </a:r>
            <a:r>
              <a:rPr b="0" lang="en-US" sz="3200" spc="-1" strike="noStrike">
                <a:solidFill>
                  <a:srgbClr val="000000"/>
                </a:solidFill>
                <a:latin typeface="Arial"/>
              </a:rPr>
              <a:t> Amendment modified the Constitution so that the President and the Vice-President are elected using separate ballots.</a:t>
            </a:r>
            <a:endParaRPr b="0" lang="en-US" sz="32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0:45:06Z</dcterms:created>
  <dc:creator>Jeff Stephenson</dc:creator>
  <dc:description/>
  <dc:language>en-US</dc:language>
  <cp:lastModifiedBy>Legion</cp:lastModifiedBy>
  <dcterms:modified xsi:type="dcterms:W3CDTF">2017-07-06T06:41:49Z</dcterms:modified>
  <cp:revision>11</cp:revision>
  <dc:subject/>
  <dc:title>PowerPoint Presentation  -  Thomas Jefferson</dc:title>
</cp:coreProperties>
</file>