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621B-942D-43F6-A4BA-98098E33C8B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ntry’s Greatest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ry’s Greatest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Adams, the 1st President to live in Washington, D.C., leaves before Jefferson’s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s Inauguration takes place on March 4, 1801 in Washington, D.C.—the 1st don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finished White House and Capitol were just about the only buildings in 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dams, the 1st President to live in Washington, D.C., leaves before Jefferson’s inau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s Inauguration takes place on March 4, 1801 in Washington, D.C.—the 1st done t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finished White House and Capitol were just about the only buildings in t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fear what Jefferson will say—will he start a new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surprisingly, calls for unity—he states “We are all Republicans, we are all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OES NOT propose to change or destroy the structure of the feder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ists fear what Jefferson will say—will he start a new rev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surprisingly, calls for unity—he states “We are all Republicans, we are all Federali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OES NOT propose to change or destroy the structure of the federal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Accomplishments made during early part of Jefferson’s 1st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Albert Gallatin as Secretary of the Treas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military spe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the army from 4000 to 2500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the navy from 25 to 7 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national debt from $83 million to $45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ALL internal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complishments made during early part of Jefferson’s 1st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ed Albert Gallatin as Secretary of the Treas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military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the army from 4000 to 2500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the navy from 25 to 7 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national debt from $83 million to $45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LL internal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Accomplishments made during early part of Jefferson’s 1st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source of government income: tariffs and sales of Western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the Alien and Sedition Acts exp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complishments made during early part of Jefferson’s 1st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ource of government income: tariffs and sales of Western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 Alien and Sedition Acts exp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ssues with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s. Madison:  Does William Marbury, one of John Adams’ last minute “midnight judges,” receive his commission to be judge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had James Madison refuse to give the commission to Marb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 went before the Supreme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ing became a precedent—an example for future court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Issues with the Cou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bury vs. Madison:  Does William Marbury, one of John Adams’ last minute “midnight judges,” receive his commission to be judge or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had James Madison refuse to give the commission to Marb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went before the Supreme Cou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ing became a precedent—an example for future court c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ssues with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Marbury vs. Madison, the Supreme Court established the concept of “Judicial Review” of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 Review means that the Court may decide if a law is constitutional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law is judged to be unconstitutional, or goes against the U.S. Constitution, then the law ceases to be a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Issues with the Cou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rbury vs. Madison, the Supreme Court established the concept of “Judicial Review” of law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icial Review means that the Court may decide if a law is constitutional or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law is judged to be unconstitutional, or goes against the U.S. Constitution, then the law ceases to be a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00, the western boundary of the U.S. was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uisiana Territory, that is all lands west of the Mississippi River which drained into the river, was originally controlled by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art of losing the French-Indian War, France ceded, or gave, the Louisiana Territory to S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800, the western boundary of the U.S. was the Mississipp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uisiana Territory, that is all lands west of the Mississippi River which drained into the river, was originally controlled by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losing the French-Indian War, France ceded, or gave, the Louisiana Territory to Spa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uisiana Territory continued to be controlled by Spain until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r fought in Europe between Spain and France ended with a victory for Napoleon and the Fren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retly, the Louisiana Territory was transferred from Spain to France as a result of that European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uisiana Territory continued to be controlled by Spain until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r fought in Europe between Spain and France ended with a victory for Napoleon and the Fren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ly, the Louisiana Territory was transferred from Spain to France as a result of that European w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learned that Louisiana Territory was now controlled by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ownership of the Louisiana Territory posed several problems for the U.S.—mainly the French were popular with the Indians and the French presence blocked any sort of westward movement by U.S. citizens into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learned that Louisiana Territory was now controlled by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ownership of the Louisiana Territory posed several problems for the U.S.—mainly the French were popular with the Indians and the French presence blocked any sort of westward movement by U.S. citizens into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Background and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Peter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most sons of land owners, he studied land survey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ed from William and Mary University in Williamsburg, 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l, red-headed, qu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ckground and Edu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Peter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ost sons of land owners, he studied land surve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uated from William and Mary University in Williamsburg, V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l, red-headed, qui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alized the problems involved with France owning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sends Robert Livingston and James Monroe to buy New Orleans and West Florida for $2 million from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ingston and Monroe may spend UP to $10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alized the problems involved with France owning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sends Robert Livingston and James Monroe to buy New Orleans and West Florida for $2 million from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ingston and Monroe may spend UP to $10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being more money and more land than expected, both Livingston and Monroe quickly agree to the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al poses a personal problem for Jefferson—is this small government?  Still, Jefferson agrees to the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debates the issue—lots of money involved—still, they agree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being more money and more land than expected, both Livingston and Monroe quickly agree to the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l poses a personal problem for Jefferson—is this small government?  Still, Jefferson agrees to the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s debates the issue—lots of money involved—still, they agree to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oleon experiences slave rebellion trouble in the French colony of Saint Domingue located in the Caribb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oleon also needs money for another war with Great Britain.  He decides to sell ALL of the Louisiana Territory.  His price:  $15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experiences slave rebellion trouble in the French colony of Saint Domingue located in the Caribb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also needs money for another war with Great Britain.  He decides to sell ALL of the Louisiana Territory.  His price:  $15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variety of reasons, Jefferson decides to send a military expedition to explore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s personal secretary, Captain Meriwether Lewis, is placed in charge of the expedition.  The men on this expediton are called the Corps of Dis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was to explore the territory, map it, find a water route to the Pacific, make friends with the Native Americans, and drive out all French and/or British traders if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iwether Lew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variety of reasons, Jefferson decides to send a military expedition to explore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s personal secretary, Captain Meriwether Lewis, is placed in charge of the expedition.  The men on this expediton are called the Corps of Dis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was to explore the territory, map it, find a water route to the Pacific, make friends with the Native Americans, and drive out all French and/or British traders if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iwether Lew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selects Lt. William Clark as a co-commander.  The army refuses to recognize co-commanders so Clark remains a lieuten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n of the Corps of Discovery are told that Clark is a Captain and a co-commander of the exped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nd Clark, along with the other members of the Corps of Discovery, depart St. Louis on May 14, 1804 and travels up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p for the winter of 1805 in the Mandan villages and create Fort Man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elects Lt. William Clark as a co-commander.  The army refuses to recognize co-commanders so Clark remains a lieuten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of the Corps of Discovery are told that Clark is a Captain and a co-commander of the expedi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and Clark, along with the other members of the Corps of Discovery, depart St. Louis on May 14, 1804 and travels up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op for the winter of 1805 in the Mandan villages and create Fort Mand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Fort Mandan, Lewis and Clark hire the French trader Toussaint Charbonneau as an interpreter and guide.  The true prize was Charbonneau’s 2nd wife, Sacagawea and Sacagawea’s newborn infant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bonneau proves useless.  Sacagawea, while not a guide, does prove helpful: no war party would travel with a woman and young child.  Sacagawea’s presence eases tensions between Corps of Discovery and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Fort Mandan, Lewis and Clark hire the French trader Toussaint Charbonneau as an interpreter and guide.  The true prize was Charbonneau’s 2nd wife, Sacagawea and Sacagawea’s newborn infant 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bonneau proves useless.  Sacagawea, while not a guide, does prove helpful: no war party would travel with a woman and young child.  Sacagawea’s presence eases tensions between Corps of Discovery and the Ind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ps of Discovery reach the Pacific Ocean on November 7, 1805.  Clark writes: “Ocean in view! O! The jo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merican vote involving an African-American (York), a female (Sacagawea), and men of several different nationalities takes place to decide where to stay for the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ps of Discovery create Fort Clatsop and spend the 1806 winter on the Pacific coast.  They experience problems with the n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s of Discovery reach the Pacific Ocean on November 7, 1805.  Clark writes: “Ocean in view! O! The jo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merican vote involving an African-American (York), a female (Sacagawea), and men of several different nationalities takes place to decide where to stay for the wi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s of Discovery create Fort Clatsop and spend the 1806 winter on the Pacific coast.  They experience problems with the na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ourney becomes a race down the Missouri River.  Lewis and Clark arrive in St. Louis on September 23, 18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veled almost 8,000 miles along the journey.  They mapped the entire distance using “line of sight” approximations.  They were off by only 4 mi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urney becomes a race down the Missouri River.  Lewis and Clark arrive in St. Louis on September 23, 180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raveled almost 8,000 miles along the journey.  They mapped the entire distance using “line of sight” approximations.  They were off by only 4 mi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Zebulon P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bulon Pike also explores the western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ke reaches the Colorado area and finds the mountain which now bears his name:  Pike’s Pe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ke then moves south into the Spanish territories which eventually become Texas and Mexi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Zebulon Pi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ulon Pike also explores the western terri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ke reaches the Colorado area and finds the mountain which now bears his name:  Pike’s Pea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ke then moves south into the Spanish territories which eventually become Texas and Mexic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litical Belie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vernment which governs least, governs b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ly favored States Rights as opposed to a strong nation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a strict construction, or strict interpretation, of the U.S.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end all taxes of any kind paid by U.S.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olitical Belief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vernment which governs least, governs b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ly favored States Rights as opposed to a strong national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in a strict construction, or strict interpretation, of the U.S.Co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ed to end all taxes of any kind paid by U.S. citiz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Jefferson’s Re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04, Jefferson was unquestioned success as a President.  He was easily reel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r decided to run for governor of New York.  Hamilton criticized Burr; Burr challenged Hamilton to a duel; Burr shoots and kills Hamilton.  Burr’s term as Vice President was not quite over at the time of the du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Jefferson’s Reel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804, Jefferson was unquestioned success as a President.  He was easily reelec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r decided to run for governor of New York.  Hamilton criticized Burr; Burr challenged Hamilton to a duel; Burr shoots and kills Hamilton.  Burr’s term as Vice President was not quite over at the time of the du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rates from the Barbary Coast States in the Mediterranean Sea demand tribute from U.S. trade 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fuses to pay the trib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rbary pirates from Tripoli declare war on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oes not want to fight; instead, he orders a blockade of the port of Tripol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rates from the Barbary Coast States in the Mediterranean Sea demand tribute from U.S. trade 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fuses to pay the tribu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bary pirates from Tripoli declare war on the 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oes not want to fight; instead, he orders a blockade of the port of Tripoli.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ockade eventually works.  The U.S. forces the pirates to sign a peace treaty which ends all tribute pay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action is popular in the U.S., but shows the need for a U.S. nav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puts aside his own personal problems with the government paying for a navy, and the country develops a stronger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ckade eventually works.  The U.S. forces the pirates to sign a peace treaty which ends all tribute pay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itary action is popular in the U.S., but shows the need for a U.S. nav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puts aside his own personal problems with the government paying for a navy, and the country develops a stronger def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Britain continues its policy of impr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essment is when the British kidnap U.S. sailors and force them to work as British sai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ressment issue becomes a big deal with the Chesapeake-Leopard Affair in June 180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Britain continues its policy of impress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essment is when the British kidnap U.S. sailors and force them to work as British sai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ressment issue becomes a big deal with the Chesapeake-Leopard Affair in June 180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eals with the impressment issue by asking for an embargo, or block of trade, against both Great Britain and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asses the Embargo Act of 1807.  The main victim of the law was neither Great Britain nor France—it was the U.S. merchants who could no longer trade with either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eals with the impressment issue by asking for an embargo, or block of trade, against both Great Britain and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s passes the Embargo Act of 1807.  The main victim of the law was neither Great Britain nor France—it was the U.S. merchants who could no longer trade with eithe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bargo Act proves EXTREMELY unpopular and Jefferson’s popularity suffers as a res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Congress repealed the Embargo Act and replaced it with the Non-Intercourse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n-Intercourse Act was no more successful than the Embargo Act.  American merchants and shipowners suffered grea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leaves office with a loss of 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bargo Act proves EXTREMELY unpopular and Jefferson’s popularity suffers as a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Congress repealed the Embargo Act and replaced it with the Non-Intercourse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Intercourse Act was no more successful than the Embargo Act.  American merchants and shipowners suffered great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leaves office with a loss of resp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Jefferson after the Presid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mes Madison, the author of the Constitution, a Democratic-Republican, and Jefferson’s hand-picked successor becomes the next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ison leads the country during the War of 18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Jefferson after the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Madison, the author of the Constitution, a Democratic-Republican, and Jefferson’s hand-picked successor becomes the next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ison leads the country during the War of 18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Jefferson after the Presid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news his friendship with his long-term friend and political rival, John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nd Adams exchange tons of letters with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 and John Adams both die on the same day: July 4, 1826.  It was the 50th anniversary of the Declaration of Independence which both men help wr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Jefferson after the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news his friendship with his long-term friend and political rival, John Ad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and Adams exchange tons of letters with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 and John Adams both die on the same day: July 4, 1826.  It was the 50th anniversary of the Declaration of Independence which both men help wr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ccomplishments Prior to becoming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te the first draft of the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te the Statute of Virginia for Religious Freed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the University of Virgi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d as an ambassador to Europe from the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ccomplishments Prior to becoming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the first draft of the Declaration of Indepen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the Statute of Virginia for Religious Freed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the University of Virgin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d as an ambassador to Europe from the United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 Candid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omas Jefferson and Aaron Bur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atic-Republican Candid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Jefferson and Aaron Bur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 Candid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Adams and Charles C. Pinck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ist Candid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hn Adams and Charles C. Pinck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would have won re-election, perhaps easily, had Alexander Hamilton not split the Federalist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s would have won re-election, perhaps easily, had Alexander Hamilton not split the Federalist Par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 Democratic-Republicans won the 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winning candidates, Jefferson and Burr, received 73 electoral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was settled the House of Representatives after 35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swings the election to Jefferson and angers Bur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the Democratic-Republicans won the el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inning candidates, Jefferson and Burr, received 73 electoral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 was settled the House of Representatives after 35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ilton swings the election to Jefferson and angers Bur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ssed up election pointed out the need for a Constitutional amendment regarding the Presidential election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2th Amendment modified the Constitution so that the President and the Vice-President are elected using separate ball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ssed up election pointed out the need for a Constitutional amendment regarding the Presidential election proc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th Amendment modified the Constitution so that the President and the Vice-President are elected using separate ball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C2EBC-B73A-47A6-903E-8470A81EA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51890-7F60-459D-8758-2E71D966B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FB84E-9104-4627-8E34-2F91CB31C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49751-708D-4693-9D4F-AB8B137B1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27F9A-703A-462B-874A-6BA0F9FC0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742CD-DAD0-4342-87AE-A38C3B483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A742C-90D7-4401-A37C-A1B1BDFE0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A5BB4-FD8C-40E5-A962-63D56E52E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401F0-86C0-4A0A-BDCE-4E49A37B5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D17F9-724A-4C59-A597-3C705281D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BF1D9-300B-44FA-8F1B-5127C5D97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38B64-FBED-4E73-B37A-57F4D8D25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F013-3922-4C4E-9FCC-625E596FAD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114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Jeffers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533376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ntry’s Greatest President</a:t>
            </a:r>
            <a:endParaRPr b="0" lang="en-US" sz="3200" spc="-1" strike="noStrike">
              <a:solidFill>
                <a:srgbClr val="000000"/>
              </a:solidFill>
              <a:latin typeface="Arial"/>
            </a:endParaRPr>
          </a:p>
        </p:txBody>
      </p:sp>
      <p:pic>
        <p:nvPicPr>
          <p:cNvPr id="50" name="Picture 4" descr="thomas-jefferson-picture"/>
          <p:cNvPicPr/>
          <p:nvPr/>
        </p:nvPicPr>
        <p:blipFill>
          <a:blip r:embed="rId1"/>
          <a:stretch/>
        </p:blipFill>
        <p:spPr>
          <a:xfrm>
            <a:off x="2743200" y="533520"/>
            <a:ext cx="3809880" cy="36669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Adams, the 1</a:t>
            </a:r>
            <a:r>
              <a:rPr b="0" lang="en-US" sz="3200" spc="-1" strike="noStrike" baseline="30000">
                <a:solidFill>
                  <a:srgbClr val="000000"/>
                </a:solidFill>
                <a:latin typeface="Arial"/>
              </a:rPr>
              <a:t>st</a:t>
            </a:r>
            <a:r>
              <a:rPr b="0" lang="en-US" sz="3200" spc="-1" strike="noStrike">
                <a:solidFill>
                  <a:srgbClr val="000000"/>
                </a:solidFill>
                <a:latin typeface="Arial"/>
              </a:rPr>
              <a:t> President to live in Washington, D.C., leaves before Jefferson’s inaugu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s Inauguration takes place on March 4, 1801 in Washington, D.C.—the 1</a:t>
            </a:r>
            <a:r>
              <a:rPr b="0" lang="en-US" sz="3200" spc="-1" strike="noStrike" baseline="30000">
                <a:solidFill>
                  <a:srgbClr val="000000"/>
                </a:solidFill>
                <a:latin typeface="Arial"/>
              </a:rPr>
              <a:t>st</a:t>
            </a:r>
            <a:r>
              <a:rPr b="0" lang="en-US" sz="3200" spc="-1" strike="noStrike">
                <a:solidFill>
                  <a:srgbClr val="000000"/>
                </a:solidFill>
                <a:latin typeface="Arial"/>
              </a:rPr>
              <a:t> done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finished White House and Capitol were just about the only buildings in town</a:t>
            </a:r>
            <a:endParaRPr b="0" lang="en-US" sz="32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ists fear what Jefferson will say—will he start a new rev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surprisingly, calls for unity—he states “We are all Republicans, we are all Federal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OES NOT propose to change or destroy the structure of the federal government.</a:t>
            </a:r>
            <a:endParaRPr b="0" lang="en-US" sz="32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Accomplishments made during early part of Jefferson’s 1</a:t>
            </a:r>
            <a:r>
              <a:rPr b="0" lang="en-US" sz="4000" spc="-1" strike="noStrike" baseline="30000">
                <a:solidFill>
                  <a:srgbClr val="000000"/>
                </a:solidFill>
                <a:latin typeface="Arial"/>
              </a:rPr>
              <a:t>st</a:t>
            </a:r>
            <a:r>
              <a:rPr b="0" lang="en-US" sz="4000" spc="-1" strike="noStrike">
                <a:solidFill>
                  <a:srgbClr val="000000"/>
                </a:solidFill>
                <a:latin typeface="Arial"/>
              </a:rPr>
              <a:t> term</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ointed Albert Gallatin as Secretary of the Treas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military spe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the army from 4000 to 2500 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the navy from 25 to 7 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national debt from $83 million to $45 mil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ALL internal taxes</a:t>
            </a:r>
            <a:endParaRPr b="0" lang="en-US" sz="32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Accomplishments made during early part of Jefferson’s 1</a:t>
            </a:r>
            <a:r>
              <a:rPr b="0" lang="en-US" sz="4000" spc="-1" strike="noStrike" baseline="30000">
                <a:solidFill>
                  <a:srgbClr val="000000"/>
                </a:solidFill>
                <a:latin typeface="Arial"/>
              </a:rPr>
              <a:t>st</a:t>
            </a:r>
            <a:r>
              <a:rPr b="0" lang="en-US" sz="4000" spc="-1" strike="noStrike">
                <a:solidFill>
                  <a:srgbClr val="000000"/>
                </a:solidFill>
                <a:latin typeface="Arial"/>
              </a:rPr>
              <a:t> term</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source of government income: tariffs and sales of Western 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the Alien and Sedition Acts expire</a:t>
            </a: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Issues with the Court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bury vs. Madison:  Does William Marbury, one of John Adams’ last minute “midnight judges,” receive his commission to be judge or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had James Madison refuse to give the commission to Marbu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 went before the Supreme Cou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ing became a precedent—an example for future court cases</a:t>
            </a:r>
            <a:endParaRPr b="0" lang="en-US" sz="32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Issues with the Court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Marbury vs. Madison, the Supreme Court established the concept of “Judicial Review” of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 Review means that the Court may decide if a law is constitutional or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law is judged to be unconstitutional, or goes against the U.S. Constitution, then the law ceases to be a law.</a:t>
            </a: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800, the western boundary of the U.S. was the Mississipp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Territory, that is all lands west of the Mississippi River which drained into the river, was originally controlled by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part of losing the French-Indian War, France ceded, or gave, the Louisiana Territory to Spain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Territory continued to be controlled by Spain until 18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r fought in Europe between Spain and France ended with a victory for Napoleon and the Fren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retly, the Louisiana Territory was transferred from Spain to France as a result of that European war.  </a:t>
            </a:r>
            <a:endParaRPr b="0" lang="en-US" sz="32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learned that Louisiana Territory was now controlled by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ownership of the Louisiana Territory posed several problems for the U.S.—mainly the French were popular with the Indians and the French presence blocked any sort of westward movement by U.S. citizens into the Louisiana Territory</a:t>
            </a:r>
            <a:endParaRPr b="0" lang="en-US"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32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Background and Educa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 Peter Jeffer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most sons of land owners, he studied land survey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ed from William and Mary University in Williamsburg, 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l, red-headed, quiet</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alized the problems involved with France owning the Louisiana Terri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sends Robert Livingston and James Monroe to buy New Orleans and West Florida for $2 million from F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ingston and Monroe may spend UP to $10 million.</a:t>
            </a:r>
            <a:endParaRPr b="0" lang="en-US" sz="32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pite being more money and more land than expected, both Livingston and Monroe quickly agree to the d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al poses a personal problem for Jefferson—is this small government?  Still, Jefferson agrees to the d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debates the issue—lots of money involved—still, they agree to it.</a:t>
            </a: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oleon experiences slave rebellion trouble in the French colony of Saint Domingue located in the Caribb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oleon also needs money for another war with Great Britain.  He decides to sell ALL of the Louisiana Territory.  His price:  $15 million.</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pic>
        <p:nvPicPr>
          <p:cNvPr id="121" name="Picture 4" descr="louisianamapbig"/>
          <p:cNvPicPr/>
          <p:nvPr/>
        </p:nvPicPr>
        <p:blipFill>
          <a:blip r:embed="rId1"/>
          <a:stretch/>
        </p:blipFill>
        <p:spPr>
          <a:xfrm>
            <a:off x="304920" y="1295280"/>
            <a:ext cx="8601120" cy="54133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556272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variety of reasons, Jefferson decides to send a military expedition to explore the Louisiana Territ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ferson’s personal secretary, Captain Meriwether Lewis, is placed in charge of the expedition.  The men on this expediton are called the Corps of Discove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was to explore the territory, map it, find a water route to the Pacific, make friends with the Native Americans, and drive out all French and/or British traders if possible.</a:t>
            </a:r>
            <a:endParaRPr b="0" lang="en-US" sz="2400" spc="-1" strike="noStrike">
              <a:solidFill>
                <a:srgbClr val="000000"/>
              </a:solidFill>
              <a:latin typeface="Arial"/>
            </a:endParaRPr>
          </a:p>
        </p:txBody>
      </p:sp>
      <p:pic>
        <p:nvPicPr>
          <p:cNvPr id="125" name="Picture 4" descr="Lewis_1"/>
          <p:cNvPicPr/>
          <p:nvPr/>
        </p:nvPicPr>
        <p:blipFill>
          <a:blip r:embed="rId1"/>
          <a:stretch/>
        </p:blipFill>
        <p:spPr>
          <a:xfrm>
            <a:off x="6095880" y="1752480"/>
            <a:ext cx="2705400" cy="3772080"/>
          </a:xfrm>
          <a:prstGeom prst="rect">
            <a:avLst/>
          </a:prstGeom>
          <a:ln w="0">
            <a:noFill/>
          </a:ln>
        </p:spPr>
      </p:pic>
      <p:sp>
        <p:nvSpPr>
          <p:cNvPr id="126" name="Text Box 6"/>
          <p:cNvSpPr/>
          <p:nvPr/>
        </p:nvSpPr>
        <p:spPr>
          <a:xfrm>
            <a:off x="6248520" y="5715000"/>
            <a:ext cx="2419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iwether Lewis</a:t>
            </a:r>
            <a:endParaRPr b="0" lang="en-US" sz="20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29" name="PlaceHolder 2"/>
          <p:cNvSpPr>
            <a:spLocks noGrp="1"/>
          </p:cNvSpPr>
          <p:nvPr>
            <p:ph/>
          </p:nvPr>
        </p:nvSpPr>
        <p:spPr>
          <a:xfrm>
            <a:off x="457200" y="1294920"/>
            <a:ext cx="5410080" cy="54104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selects Lt. William Clark as a co-commander.  The army refuses to recognize co-commanders so Clark remains a lieutena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n of the Corps of Discovery are told that Clark is a Captain and a co-commander of the expedition.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and Clark, along with the other members of the Corps of Discovery, depart St. Louis on May 14, 1804 and travels upriv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top for the winter of 1805 in the Mandan villages and create Fort Mandan.</a:t>
            </a:r>
            <a:endParaRPr b="0" lang="en-US" sz="2400" spc="-1" strike="noStrike">
              <a:solidFill>
                <a:srgbClr val="000000"/>
              </a:solidFill>
              <a:latin typeface="Arial"/>
            </a:endParaRPr>
          </a:p>
        </p:txBody>
      </p:sp>
      <p:pic>
        <p:nvPicPr>
          <p:cNvPr id="130" name="Picture 4" descr="Clark_1"/>
          <p:cNvPicPr/>
          <p:nvPr/>
        </p:nvPicPr>
        <p:blipFill>
          <a:blip r:embed="rId1"/>
          <a:stretch/>
        </p:blipFill>
        <p:spPr>
          <a:xfrm>
            <a:off x="6095880" y="1905120"/>
            <a:ext cx="2705400" cy="3800520"/>
          </a:xfrm>
          <a:prstGeom prst="rect">
            <a:avLst/>
          </a:prstGeom>
          <a:ln w="0">
            <a:noFill/>
          </a:ln>
        </p:spPr>
      </p:pic>
      <p:sp>
        <p:nvSpPr>
          <p:cNvPr id="131" name="Text Box 6"/>
          <p:cNvSpPr/>
          <p:nvPr/>
        </p:nvSpPr>
        <p:spPr>
          <a:xfrm>
            <a:off x="6324480" y="5867280"/>
            <a:ext cx="2419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iam Clark</a:t>
            </a:r>
            <a:endParaRPr b="0" lang="en-US" sz="2000" spc="-1" strike="noStrike">
              <a:solidFill>
                <a:srgbClr val="000000"/>
              </a:solidFill>
              <a:latin typeface="Arial"/>
            </a:endParaRPr>
          </a:p>
        </p:txBody>
      </p:sp>
      <p:sp>
        <p:nvSpPr>
          <p:cNvPr id="1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Fort Mandan, Lewis and Clark hire the French trader Toussaint Charbonneau as an interpreter and guide.  The true prize was Charbonneau’s 2</a:t>
            </a:r>
            <a:r>
              <a:rPr b="0" lang="en-US" sz="2800" spc="-1" strike="noStrike" baseline="30000">
                <a:solidFill>
                  <a:srgbClr val="000000"/>
                </a:solidFill>
                <a:latin typeface="Arial"/>
              </a:rPr>
              <a:t>nd</a:t>
            </a:r>
            <a:r>
              <a:rPr b="0" lang="en-US" sz="2800" spc="-1" strike="noStrike">
                <a:solidFill>
                  <a:srgbClr val="000000"/>
                </a:solidFill>
                <a:latin typeface="Arial"/>
              </a:rPr>
              <a:t> wife, Sacagawea and Sacagawea’s newborn infant 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bonneau proves useless.  Sacagawea, while not a guide, does prove helpful: no war party would travel with a woman and young child.  Sacagawea’s presence eases tensions between Corps of Discovery and the Indians.</a:t>
            </a:r>
            <a:endParaRPr b="0" lang="en-US" sz="2800" spc="-1" strike="noStrike">
              <a:solidFill>
                <a:srgbClr val="000000"/>
              </a:solidFill>
              <a:latin typeface="Arial"/>
            </a:endParaRPr>
          </a:p>
        </p:txBody>
      </p:sp>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ps of Discovery reach the Pacific Ocean on November 7, 1805.  Clark writes: “Ocean in view! O! The jo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merican vote involving an African-American (York), a female (Sacagawea), and men of several different nationalities takes place to decide where to stay for the win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ps of Discovery create Fort Clatsop and spend the 1806 winter on the Pacific coast.  They experience problems with the natives.</a:t>
            </a:r>
            <a:endParaRPr b="0" lang="en-US" sz="2800" spc="-1" strike="noStrike">
              <a:solidFill>
                <a:srgbClr val="000000"/>
              </a:solidFill>
              <a:latin typeface="Arial"/>
            </a:endParaRPr>
          </a:p>
        </p:txBody>
      </p:sp>
      <p:sp>
        <p:nvSpPr>
          <p:cNvPr id="1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ourney becomes a race down the Missouri River.  Lewis and Clark arrive in St. Louis on September 23, 18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traveled almost 8,000 miles along the journey.  They mapped the entire distance using “line of sight” approximations.  They were off by only 4 miles. </a:t>
            </a:r>
            <a:endParaRPr b="0" lang="en-US" sz="32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 Zebulon Pike</a:t>
            </a:r>
            <a:endParaRPr b="0" lang="en-US" sz="4400" spc="-1" strike="noStrike">
              <a:solidFill>
                <a:srgbClr val="000000"/>
              </a:solidFill>
              <a:latin typeface="Arial"/>
            </a:endParaRPr>
          </a:p>
        </p:txBody>
      </p:sp>
      <p:sp>
        <p:nvSpPr>
          <p:cNvPr id="143" name="PlaceHolder 2"/>
          <p:cNvSpPr>
            <a:spLocks noGrp="1"/>
          </p:cNvSpPr>
          <p:nvPr>
            <p:ph/>
          </p:nvPr>
        </p:nvSpPr>
        <p:spPr>
          <a:xfrm>
            <a:off x="3733920" y="1676520"/>
            <a:ext cx="50292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ulon Pike also explores the western territory.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ke reaches the Colorado area and finds the mountain which now bears his name:  Pike’s Peak.</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ke then moves south into the Spanish territories which eventually become Texas and Mexico.</a:t>
            </a:r>
            <a:endParaRPr b="0" lang="en-US" sz="2800" spc="-1" strike="noStrike">
              <a:solidFill>
                <a:srgbClr val="000000"/>
              </a:solidFill>
              <a:latin typeface="Arial"/>
            </a:endParaRPr>
          </a:p>
        </p:txBody>
      </p:sp>
      <p:pic>
        <p:nvPicPr>
          <p:cNvPr id="144" name="Picture 7" descr="ZebulonPike"/>
          <p:cNvPicPr/>
          <p:nvPr/>
        </p:nvPicPr>
        <p:blipFill>
          <a:blip r:embed="rId1"/>
          <a:stretch/>
        </p:blipFill>
        <p:spPr>
          <a:xfrm>
            <a:off x="533520" y="1676520"/>
            <a:ext cx="3028680" cy="4495680"/>
          </a:xfrm>
          <a:prstGeom prst="rect">
            <a:avLst/>
          </a:prstGeom>
          <a:ln w="0">
            <a:noFill/>
          </a:ln>
        </p:spPr>
      </p:pic>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olitical Belief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which governs least, governs b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favored States Rights as opposed to a strong national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d in a strict construction, or strict interpretation, of the U.S.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ed to end all taxes of any kind paid by U.S. citizens</a:t>
            </a:r>
            <a:endParaRPr b="0" lang="en-US" sz="32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Jefferson’s Reelection</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804, Jefferson was unquestioned success as a President.  He was easily reelec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r decided to run for governor of New York.  Hamilton criticized Burr; Burr challenged Hamilton to a duel; Burr shoots and kills Hamilton.  Burr’s term as Vice President was not quite over at the time of the duel. </a:t>
            </a:r>
            <a:endParaRPr b="0" lang="en-US" sz="32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rates from the Barbary Coast States in the Mediterranean Sea demand tribute from U.S. trade 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fuses to pay the tribu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rbary pirates from Tripoli declare war on the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oes not want to fight; instead, he orders a blockade of the port of Tripoli. </a:t>
            </a:r>
            <a:endParaRPr b="0" lang="en-US" sz="32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lockade eventually works.  The U.S. forces the pirates to sign a peace treaty which ends all tribute pay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litary action is popular in the U.S., but shows the need for a U.S. nav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puts aside his own personal problems with the government paying for a navy, and the country develops a stronger defense.</a:t>
            </a:r>
            <a:endParaRPr b="0" lang="en-US" sz="32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 continues its policy of impr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essment is when the British kidnap U.S. sailors and force them to work as British sail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ressment issue becomes a big deal with the Chesapeake-Leopard Affair in June 1807.</a:t>
            </a:r>
            <a:endParaRPr b="0" lang="en-US" sz="32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eals with the impressment issue by asking for an embargo, or block of trade, against both Great Britain and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passes the Embargo Act of 1807.  The main victim of the law was neither Great Britain nor France—it was the U.S. merchants who could no longer trade with either country.</a:t>
            </a:r>
            <a:endParaRPr b="0" lang="en-US" sz="3200" spc="-1" strike="noStrike">
              <a:solidFill>
                <a:srgbClr val="000000"/>
              </a:solidFill>
              <a:latin typeface="Arial"/>
            </a:endParaRPr>
          </a:p>
        </p:txBody>
      </p:sp>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bargo Act proves EXTREMELY unpopular and Jefferson’s popularity suffers as a resul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Congress repealed the Embargo Act and replaced it with the Non-Intercourse 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n-Intercourse Act was no more successful than the Embargo Act.  American merchants and shipowners suffered great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fferson leaves office with a loss of respect.</a:t>
            </a:r>
            <a:endParaRPr b="0" lang="en-US" sz="28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 Jefferson after the Presidency</a:t>
            </a:r>
            <a:endParaRPr b="0" lang="en-US" sz="4000" spc="-1" strike="noStrike">
              <a:solidFill>
                <a:srgbClr val="000000"/>
              </a:solidFill>
              <a:latin typeface="Arial"/>
            </a:endParaRPr>
          </a:p>
        </p:txBody>
      </p:sp>
      <p:sp>
        <p:nvSpPr>
          <p:cNvPr id="165" name="PlaceHolder 2"/>
          <p:cNvSpPr>
            <a:spLocks noGrp="1"/>
          </p:cNvSpPr>
          <p:nvPr>
            <p:ph/>
          </p:nvPr>
        </p:nvSpPr>
        <p:spPr>
          <a:xfrm>
            <a:off x="228600" y="1600200"/>
            <a:ext cx="495288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Madison, the author of the Constitution, a Democratic-Republican, and Jefferson’s hand-picked successor becomes the next Presid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ison leads the country during the War of 1812.</a:t>
            </a:r>
            <a:endParaRPr b="0" lang="en-US" sz="2800" spc="-1" strike="noStrike">
              <a:solidFill>
                <a:srgbClr val="000000"/>
              </a:solidFill>
              <a:latin typeface="Arial"/>
            </a:endParaRPr>
          </a:p>
        </p:txBody>
      </p:sp>
      <p:pic>
        <p:nvPicPr>
          <p:cNvPr id="166" name="Picture 4" descr="james-madison-picture"/>
          <p:cNvPicPr/>
          <p:nvPr/>
        </p:nvPicPr>
        <p:blipFill>
          <a:blip r:embed="rId1"/>
          <a:stretch/>
        </p:blipFill>
        <p:spPr>
          <a:xfrm>
            <a:off x="5334120" y="1600200"/>
            <a:ext cx="3571920" cy="331488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 Jefferson after the Presidency</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news his friendship with his long-term friend and political rival, John Ada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and Adams exchange tons of letters with each 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as Jefferson and John Adams both die on the same day: July 4, 1826.  It was the 50</a:t>
            </a:r>
            <a:r>
              <a:rPr b="0" lang="en-US" sz="3200" spc="-1" strike="noStrike" baseline="30000">
                <a:solidFill>
                  <a:srgbClr val="000000"/>
                </a:solidFill>
                <a:latin typeface="Arial"/>
              </a:rPr>
              <a:t>th</a:t>
            </a:r>
            <a:r>
              <a:rPr b="0" lang="en-US" sz="3200" spc="-1" strike="noStrike">
                <a:solidFill>
                  <a:srgbClr val="000000"/>
                </a:solidFill>
                <a:latin typeface="Arial"/>
              </a:rPr>
              <a:t> anniversary of the Declaration of Independence which both men help write.</a:t>
            </a:r>
            <a:endParaRPr b="0" lang="en-US" sz="32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Accomplishments Prior to becoming Presiden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first draft of the Declaration of Indepen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Statute of Virginia for Religious Free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the University of Virgin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d as an ambassador to Europe from the United States  </a:t>
            </a:r>
            <a:endParaRPr b="0" lang="en-US" sz="32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153280" cy="1219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cratic-Republican Candid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omas Jefferson and Aaron Bur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Picture 4" descr="thomas-jefferson-picture"/>
          <p:cNvPicPr/>
          <p:nvPr/>
        </p:nvPicPr>
        <p:blipFill>
          <a:blip r:embed="rId1"/>
          <a:stretch/>
        </p:blipFill>
        <p:spPr>
          <a:xfrm>
            <a:off x="1143000" y="2895480"/>
            <a:ext cx="3262320" cy="3138480"/>
          </a:xfrm>
          <a:prstGeom prst="rect">
            <a:avLst/>
          </a:prstGeom>
          <a:ln w="0">
            <a:noFill/>
          </a:ln>
        </p:spPr>
      </p:pic>
      <p:pic>
        <p:nvPicPr>
          <p:cNvPr id="64" name="Picture 6" descr="aaronburr-sm"/>
          <p:cNvPicPr/>
          <p:nvPr/>
        </p:nvPicPr>
        <p:blipFill>
          <a:blip r:embed="rId2"/>
          <a:stretch/>
        </p:blipFill>
        <p:spPr>
          <a:xfrm>
            <a:off x="5715000" y="2895480"/>
            <a:ext cx="2349360" cy="312444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153280" cy="1143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ist Candid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ohn Adams and Charles C. Pinckne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Picture 4" descr="JohnAdams"/>
          <p:cNvPicPr/>
          <p:nvPr/>
        </p:nvPicPr>
        <p:blipFill>
          <a:blip r:embed="rId1"/>
          <a:stretch/>
        </p:blipFill>
        <p:spPr>
          <a:xfrm>
            <a:off x="1263600" y="2895480"/>
            <a:ext cx="2743200" cy="3200400"/>
          </a:xfrm>
          <a:prstGeom prst="rect">
            <a:avLst/>
          </a:prstGeom>
          <a:ln w="0">
            <a:noFill/>
          </a:ln>
        </p:spPr>
      </p:pic>
      <p:pic>
        <p:nvPicPr>
          <p:cNvPr id="69" name="Picture 6" descr="CharlesCPinckney"/>
          <p:cNvPicPr/>
          <p:nvPr/>
        </p:nvPicPr>
        <p:blipFill>
          <a:blip r:embed="rId2"/>
          <a:stretch/>
        </p:blipFill>
        <p:spPr>
          <a:xfrm>
            <a:off x="5410080" y="2895480"/>
            <a:ext cx="2268720" cy="3200400"/>
          </a:xfrm>
          <a:prstGeom prst="rect">
            <a:avLst/>
          </a:prstGeom>
          <a:ln w="0">
            <a:noFill/>
          </a:ln>
        </p:spPr>
      </p:pic>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2" name="PlaceHolder 2"/>
          <p:cNvSpPr>
            <a:spLocks noGrp="1"/>
          </p:cNvSpPr>
          <p:nvPr>
            <p:ph/>
          </p:nvPr>
        </p:nvSpPr>
        <p:spPr>
          <a:xfrm>
            <a:off x="456840" y="1599840"/>
            <a:ext cx="8381880" cy="1523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ms would have won re-election, perhaps easily, had Alexander Hamilton not split the Federalist Party </a:t>
            </a:r>
            <a:endParaRPr b="0" lang="en-US" sz="2800" spc="-1" strike="noStrike">
              <a:solidFill>
                <a:srgbClr val="000000"/>
              </a:solidFill>
              <a:latin typeface="Arial"/>
            </a:endParaRPr>
          </a:p>
        </p:txBody>
      </p:sp>
      <p:pic>
        <p:nvPicPr>
          <p:cNvPr id="73" name="Picture 4" descr="300px-Alexander_Hamilton"/>
          <p:cNvPicPr/>
          <p:nvPr/>
        </p:nvPicPr>
        <p:blipFill>
          <a:blip r:embed="rId1"/>
          <a:stretch/>
        </p:blipFill>
        <p:spPr>
          <a:xfrm>
            <a:off x="3479760" y="2971800"/>
            <a:ext cx="2540160" cy="358128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the Democratic-Republicans won the 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winning candidates, Jefferson and Burr, received 73 electoral v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ion was settled the House of Representatives after 35 v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ilton swings the election to Jefferson and angers Burr</a:t>
            </a:r>
            <a:endParaRPr b="0" lang="en-US"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ssed up election pointed out the need for a Constitutional amendment regarding the Presidential election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2</a:t>
            </a:r>
            <a:r>
              <a:rPr b="0" lang="en-US" sz="3200" spc="-1" strike="noStrike" baseline="30000">
                <a:solidFill>
                  <a:srgbClr val="000000"/>
                </a:solidFill>
                <a:latin typeface="Arial"/>
              </a:rPr>
              <a:t>th</a:t>
            </a:r>
            <a:r>
              <a:rPr b="0" lang="en-US" sz="3200" spc="-1" strike="noStrike">
                <a:solidFill>
                  <a:srgbClr val="000000"/>
                </a:solidFill>
                <a:latin typeface="Arial"/>
              </a:rPr>
              <a:t> Amendment modified the Constitution so that the President and the Vice-President are elected using separate ballots.</a:t>
            </a:r>
            <a:endParaRPr b="0" lang="en-US" sz="32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20:45:06Z</dcterms:created>
  <dc:creator>Jeff Stephenson</dc:creator>
  <dc:description/>
  <dc:language>en-US</dc:language>
  <cp:lastModifiedBy>Legion</cp:lastModifiedBy>
  <dcterms:modified xsi:type="dcterms:W3CDTF">2017-07-06T06:41:49Z</dcterms:modified>
  <cp:revision>11</cp:revision>
  <dc:subject/>
  <dc:title>PowerPoint Presentation  -  Thomas Jefferson</dc:title>
</cp:coreProperties>
</file>