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11D8-5BA0-4141-A983-20B6AF887F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astern tribes mostly lived in long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would live in on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ravel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bes lived near water for transportation purpo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s were their sole domesticated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bout travel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Fash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s in the clothes were closely tied to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odland Fash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was very frequent between the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. Cristi -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 and Arrow, pipe are Najav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 head rattle and pipe are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came from the man’s rib and turned into wo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woman have say at meetings because they run th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rs. Cristi -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north into Can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south to the G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– warri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, Chocktaw, Chickasaw, Creek – Southeastern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– Florida tri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 were deer-hunters and farm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and used all of the deer they hu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was also a major part of their die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 -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 grew beans, corn, pumpkin, squash and tobacc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also harvested these crops and prepared the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ried berries, corn, fish, meat and squash for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made the pots for cooking out of red or black cl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 - Wo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boy was 13 they went on a Vision Qu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Ki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live in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pular house was a wigw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either covered with bark, grasses or lea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et up in villages of 200-400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id they live in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18D-F0A2-434E-92B1-2DABBB8F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6C6-A9E8-44B5-B912-7868BD47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37E-52E7-493E-B82F-046CAD15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95C-48D1-43D7-8399-5ED6DC0E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DE8A-C877-4A50-809E-ED7B58B8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A250-C911-42B8-91B5-DC1D94DF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61E3-FC22-4081-BF03-A22126C0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F561-C2D7-4965-BF34-4DBEC9C7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7401-AE99-43D0-81F4-8A8D0267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EBED-F866-4AE5-8C05-1F8EF2B2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176F-FF24-44F1-9ABF-869259F3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0D5-63C0-480E-BE5F-0D6F2AA0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5088-5E9C-4E6C-B938-908A85F3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E216-D122-4E68-B8A1-25EFF5FA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345E-AD31-46E7-A379-65724CFE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679B-24C6-468A-BC08-F6E25323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52B9-B23E-4AC8-B0D1-81E094CF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979-8282-4057-A8CA-08A8E545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8E9-AD02-4897-97FC-CA8212BC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F0F-E8DB-4662-AD21-1F173D72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A62-0F4A-43ED-9530-2BEFCB8C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7DF-95AD-4382-8B46-6B2360B5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F94-EDE3-4342-AAD8-C2B4991A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2E9-FE4C-4846-BD10-4EAFAA1E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C2F9-AA59-4E28-9CAF-000367EB9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0A71-BA11-4056-B4C2-DCA4A2734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mK8dIyPwAcXOJzbkF;_ylu=X3oDMTByNDQwdDU1BHBvcwMxNQRzZWMDc3IEdnRpZANJMDg2XzEwOA--/SIG=1gk9bijb0/EXP=1221098854/**http%3A//images.search.yahoo.com/images/view%3Fback=http%253A%252F%252Fimages.search.yahoo.com%252Fsearch%252Fimages%253Fp%253Diroquois%252Bindians%2526fr%253Dyfp-t-100%2526ei%253Dutf-8%2526x%253Dwrt%26w=211%26h=151%26imgurl=www.aaanativearts.com%252Firoquois_longhouse.jpg%26rurl=http%253A%252F%252Fwww.aaanativearts.com%252Firoquois_nation.htm%26size=14.6kB%26name=iroquois_longhouse.jpg%26p=iroquois%2Bindians%26type=JPG%26oid=65b0f236275a393a%26no=15%26tt=885%26sigr=11g62un92%26sigi=11cj2c0hr%26sigb=12rmc393v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ds.yahoo.com/_ylt=A9G_bHMsLMdIeWQBQ.GJzbkF;_ylu=X3oDMTByNDQwdDU1BHBvcwMxNQRzZWMDc3IEdnRpZANJMDg2XzEwOA--/SIG=1hu6755st/EXP=1221098924/**http%3A//images.search.yahoo.com/images/view%3Fback=http%253A%252F%252Fimages.search.yahoo.com%252Fsearch%252Fimages%253Fp%253Diroquois%252Bindians%252Blonghouse%2526fr%253Dyfp-t-100%2526ei%253Dutf-8%2526x%253Dwrt%26w=500%26h=422%26imgurl=www.nysm.nysed.gov%252FIroquoisVillage%252Fimages%252Ffigure3interiorlg.gif%26rurl=http%253A%252F%252Fwww.bigorrin.org%252Firoquois_kids.htm%26size=80kB%26name=figure3interiorlg.gif%26p=iroquois%2Bindians%2Blonghouse%26type=gif%26oid=39ec2309ba4271be%26no=15%26tt=21%26sigr=119fcb6i2%26sigi=11vjhhvf4%26sigb=135m186h8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qCMsdImPsAgDKJzbkF;_ylu=X3oDMTBybWQwaXUxBHBvcwMxMQRzZWMDc3IEdnRpZANJMDg2XzEwOA--/SIG=1ihrrf254/EXP=1221100546/**http%3A//images.search.yahoo.com/images/view%3Fback=http%253A%252F%252Fimages.search.yahoo.com%252Fsearch%252Fimages%253F_adv_prop%253Dimage%2526fr%253Dyfp-t-100%2526va%253Dwoodland%252Bindian%252Bcanoe%2526sz%253Dall%26w=400%26h=300%26imgurl=www.virginiaplaces.org%252Fnativeamerican%252Fgraphics%252Fhenricuscanoe.jpg%26rurl=http%253A%252F%252Fwww.virginiaplaces.org%252Fnativeamerican%252F6_archai.html%26size=56.5kB%26name=henricuscanoe.jpg%26p=woodland%2Bindian%2Bcanoe%26type=JPG%26oid=fd8c1f90c793fad6%26no=11%26tt=33%26sigr=11qhr231j%26sigi=120fkmmcj%26sigb=139mmt49h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tLsdIM_EAY2mJzbkF;_ylu=X3oDMTBxNGFtOGxpBHBvcwMxBHNlYwNzcgR2dGlkA0kwODZfMTA4/SIG=1g44d0nvi/EXP=1221099629/**http%3A//images.search.yahoo.com/images/view%3Fback=http%253A%252F%252Fimages.search.yahoo.com%252Fsearch%252Fimages%253Fp%253Dcherokee%252Bindians%2526fr%253Dyfp-t-100%2526ei%253Dutf-8%2526x%253Dwrt%26w=1087%26h=1500%26imgurl=library.thinkquest.org%252FJ002188F%252Fchief2.jpg%26rurl=http%253A%252F%252Flibrary.thinkquest.org%252FJ002188F%26size=223.3kB%26name=chief2.jpg%26p=cherokee%2Bindians%26type=JPG%26oid=5096aacf1d105386%26no=1%26tt=5,421%26sigr=116kgmpcp%26sigi=11af8vm7i%26sigb=12rpl39o3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Nordamerikanische_Kulturareale_en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PoL8dIeWQBPKKJzbkF;_ylu=X3oDMTBxOThsYTZ0BHBvcwMyBHNlYwNzcgR2dGlkA0kwODZfMTA4/SIG=1l8e83ma7/EXP=1221099880/**http%3A//images.search.yahoo.com/images/view%3Fback=http%253A%252F%252Fimages.search.yahoo.com%252Fsearch%252Fimages%253Fp%253Dindian%252Bbow%252Band%252Barrow%2526ni%253D20%2526ei%253DUTF-8%2526fr%253Dyfp-t-100%2526fr2%253Dtab-web%2526xargs%253D0%2526pstart%253D1%2526b%253D1%26w=150%26h=222%26imgurl=www.old-picture.com%252Findians%252Fthumbnails%252FIndian-Holding-Bow-Arrow-th.jpg%26rurl=http%253A%252F%252Fwww.old-picture.com%252Findians%252FIndian-in-Bear-Fur-Costume.htm%26size=10.6kB%26name=Indian-Holding-Bow-Arrow-th.jpg%26p=indian%2Bbow%2Band%2Barrow%26type=JPG%26oid=1626b876200b1b20%26no=2%26tt=563%26sigr=121sen44a%26sigi=126astrvt%26sigb=140bikae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rds.yahoo.com/_ylt=A9G_bF4YMMdIYCcBU5yJzbkF;_ylu=X3oDMTBxaW9zM2M4BHBvcwM0BHNlYwNzcgR2dGlkA0kwODZfMTA4/SIG=1igiaql6q/EXP=1221099928/**http%3A//images.search.yahoo.com/images/view%3Fback=http%253A%252F%252Fimages.search.yahoo.com%252Fsearch%252Fimages%253Fp%253Dindian%252Bspear%252Bfishing%2526fr%253Dyfp-t-100%2526ei%253Dutf-8%2526x%253Dwrt%26w=150%26h=232%26imgurl=www.old-picture.com%252Findians%252Fthumbnails%252FIndian-Fishing-with-Net-th.jpg%26rurl=http%253A%252F%252Fwww.old-picture.com%252Ffishing-boating-index-001.htm%26size=8.9kB%26name=Indian-Fishing-with-Net-th.jpg%26p=indian%2Bspear%2Bfishing%26type=JPG%26oid=66413400f34a12dc%26no=4%26tt=37%26sigr=11oeb3eu9%26sigi=125tqc39v%26sigb=12v0je8tj" TargetMode="External"/><Relationship Id="rId4" Type="http://schemas.openxmlformats.org/officeDocument/2006/relationships/image" Target="../media/image3.jpeg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0nM8dIQnQAcOCJzbkF;_ylu=X3oDMTBxOThsYTZ0BHBvcwMyBHNlYwNzcgR2dGlkA0kwODZfMTA4/SIG=1jvn2pl6b/EXP=1221100711/**http%3A//images.search.yahoo.com/images/view%3Fback=http%253A%252F%252Fimages.search.yahoo.com%252Fsearch%252Fimages%253F_adv_prop%253Dimage%2526fr%253Dyfp-t-100%2526va%253Dindian%252Blacrosse%252Bsticks%2526sz%253Dall%26w=450%26h=639%26imgurl=www.antiqueskis.com%252Fimage.php%253Ftable%253Dproducts%2526amp%253Bid%253D101%2526amp%253Bkey%253DIDnum%2526amp%253Bfield%253Dlargeimage%26rurl=http%253A%252F%252Fwww.antiqueskis.com%252Fitempop.php%253Fid%253D101%26size=39.9kB%26name=image.php%26p=indian%2Blacrosse%2Bsticks%26type=JPG%26oid=c80737309a995674%26no=2%26tt=16%26sigr=11d45osla%26sigi=12q68sc0i%26sigb=13asmgqo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JYLMdIl1UBhjGJzbkF;_ylu=X3oDMTBxNGFtOGxpBHBvcwMxBHNlYwNzcgR2dGlkA0kwODZfMTA4/SIG=1h3fo8c6k/EXP=1221098968/**http%3A//images.search.yahoo.com/images/view%3Fback=http%253A%252F%252Fimages.search.yahoo.com%252Fsearch%252Fimages%253Fp%253Dwigwam%2526fr%253Dyfp-t-100%2526ei%253Dutf-8%2526x%253Dwrt%26w=401%26h=272%26imgurl=www.turtletrack.org%252FIssues02%252FCo11302002%252FArt%252Fwigwam.jpg%26rurl=http%253A%252F%252Fwww.turtletrack.org%252FIssues02%252FCo11302002%252FCO_11302002_Museum.htm%26size=24.9kB%26name=wigwam.jpg%26p=wigwam%26type=JPG%26oid=5eba36528aa3ff88%26no=1%26tt=72,995%26sigr=125b5patp%26sigi=11mg8v21b%26sigb=12hpcshj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ds.yahoo.com/_ylt=A9G_bHJYLMdIl1UBijGJzbkF;_ylu=X3oDMTBxMjE4MGZiBHBvcwM1BHNlYwNzcgR2dGlkA0kwODZfMTA4/SIG=1fo983san/EXP=1221098968/**http%3A//images.search.yahoo.com/images/view%3Fback=http%253A%252F%252Fimages.search.yahoo.com%252Fsearch%252Fimages%253Fp%253Dwigwam%2526fr%253Dyfp-t-100%2526ei%253Dutf-8%2526x%253Dwrt%26w=450%26h=337%26imgurl=www.researchcasting.ca%252Fimages%252Fwigwam.jpg%26rurl=http%253A%252F%252Fwww.researchcasting.ca%252Finteractive%252520wigwam.htm%26size=42kB%26name=wigwam.jpg%26p=wigwam%26type=JPG%26oid=253551657a92d500%26no=5%26tt=72,995%26sigr=11m7nq7hr%26sigi=118j9ah6i%26sigb=12hpcshj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Woodland India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191120"/>
            <a:ext cx="2743200" cy="196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3429000"/>
            <a:ext cx="3581280" cy="3013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about travel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8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521240"/>
            <a:ext cx="3124080" cy="23367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oodland Fash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48440" y="3962520"/>
            <a:ext cx="2095560" cy="2895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Go to fullsize image"/>
          <p:cNvPicPr/>
          <p:nvPr/>
        </p:nvPicPr>
        <p:blipFill>
          <a:blip r:embed="rId3"/>
          <a:stretch/>
        </p:blipFill>
        <p:spPr>
          <a:xfrm>
            <a:off x="7091280" y="609480"/>
            <a:ext cx="2052720" cy="3171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wdlndshirtsmal"/>
          <p:cNvPicPr/>
          <p:nvPr/>
        </p:nvPicPr>
        <p:blipFill>
          <a:blip r:embed="rId4"/>
          <a:stretch/>
        </p:blipFill>
        <p:spPr>
          <a:xfrm>
            <a:off x="380880" y="0"/>
            <a:ext cx="3810240" cy="30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wdlndapronssmal"/>
          <p:cNvPicPr/>
          <p:nvPr/>
        </p:nvPicPr>
        <p:blipFill>
          <a:blip r:embed="rId5"/>
          <a:stretch/>
        </p:blipFill>
        <p:spPr>
          <a:xfrm>
            <a:off x="4191120" y="3200400"/>
            <a:ext cx="2749320" cy="3471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wdlndvestsmal"/>
          <p:cNvPicPr/>
          <p:nvPr/>
        </p:nvPicPr>
        <p:blipFill>
          <a:blip r:embed="rId6"/>
          <a:stretch/>
        </p:blipFill>
        <p:spPr>
          <a:xfrm>
            <a:off x="228600" y="3505320"/>
            <a:ext cx="3809880" cy="27241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ar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Iroquois Five Nations c. 1650"/>
          <p:cNvPicPr/>
          <p:nvPr/>
        </p:nvPicPr>
        <p:blipFill>
          <a:blip r:embed="rId1"/>
          <a:stretch/>
        </p:blipFill>
        <p:spPr>
          <a:xfrm>
            <a:off x="1752480" y="609480"/>
            <a:ext cx="6629400" cy="57182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rs. Cristi - Cherok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Image:Nordamerikanische Kulturareale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0102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Line 7"/>
          <p:cNvSpPr/>
          <p:nvPr/>
        </p:nvSpPr>
        <p:spPr>
          <a:xfrm flipH="1">
            <a:off x="4495680" y="2514600"/>
            <a:ext cx="2286000" cy="1600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 flipH="1" flipV="1">
            <a:off x="4419720" y="5486400"/>
            <a:ext cx="266688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629400" y="1676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918480" y="685800"/>
            <a:ext cx="192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537240" y="1790640"/>
            <a:ext cx="22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553080" y="17524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934320" y="5410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Woodland trib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76520"/>
            <a:ext cx="2192040" cy="32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1371600"/>
            <a:ext cx="2271960" cy="351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love the earth and she will provide...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352680" y="1828800"/>
            <a:ext cx="2381400" cy="291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 - Wo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Ki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629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13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2362320"/>
            <a:ext cx="1882800" cy="26762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did they live in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6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962520"/>
            <a:ext cx="3276720" cy="220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971800" cy="2206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1:33:20Z</dcterms:created>
  <dc:creator>Christine J. Goff</dc:creator>
  <dc:description/>
  <dc:language>en-US</dc:language>
  <cp:lastModifiedBy>Legion</cp:lastModifiedBy>
  <dcterms:modified xsi:type="dcterms:W3CDTF">2017-07-06T06:38:19Z</dcterms:modified>
  <cp:revision>9</cp:revision>
  <dc:subject/>
  <dc:title>The Woodland Indians</dc:title>
</cp:coreProperties>
</file>