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554E-FC86-4783-9162-E53B839ECF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 Do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 Do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sive experi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ggles, bench mat, tongs, bunsen, lighter and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put magnesium in fl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sive experi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ggles, bench mat, tongs, bunsen, lighter and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put magnesium in fl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nergy is being rel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agnesium is burned, energy is released as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 new substance being form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substance forms, it is wh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new substance lighter or heavi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is new substance is heavier as there are two different elements in the substance, they are magnesium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nergy is being rel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agnesium is burned, energy is released as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 new substance being form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substance forms, it is wh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new substance lighter or heavi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is new substance is heavier as there are two different elements in the substance, they are magnesium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lements join to make a compound, energy is released and a new substance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which means ‘energy released’ is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endothermic me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lements join to make a compound, energy is released and a new substance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which means ‘energy released’ is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endothermic me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ng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ng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identical elements combine then the name doesn’t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e.g. oxygen + oxygen 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identical elements combine then the name doesn’t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e.g. oxygen + oxygen 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elements join the name ends with ____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agnesium + oxyg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elements join the name ends with ____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agnesium + oxyg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045F-2C55-4464-9A54-740AB3F4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131B-0977-404B-BD49-E4157FD9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0AD8-703C-48DE-AB69-F065DA2F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DC3B-E233-4022-83D8-1925F65D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05E8-7F25-4CA5-A234-A75E8351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2F9A-EFEF-46E3-BF14-512324EA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F520-C57F-496E-8405-014228EA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B975-3712-403C-B3AC-7B85C021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0FB-82ED-469E-81C7-6B040116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BC30-3802-410B-B78B-A1A627F9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E0BE-729C-47B4-90DE-04C97373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ED03-515B-44F3-B803-1CD83607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D866-E62B-4BFA-A3B0-E69EB573C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make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ss Do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xplosive experi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ggles, bench mat, tongs, bunsen, lighter and magnes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REFULLY put magnesium in fl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skull-crossbones-646"/>
          <p:cNvPicPr/>
          <p:nvPr/>
        </p:nvPicPr>
        <p:blipFill>
          <a:blip r:embed="rId1"/>
          <a:stretch/>
        </p:blipFill>
        <p:spPr>
          <a:xfrm>
            <a:off x="457200" y="1600200"/>
            <a:ext cx="3886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09480" y="1143000"/>
            <a:ext cx="77724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energy is being relea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When magnesium is burned, energy is released as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ere a new substance being form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A new substance forms, it is wh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is new substance lighter or heavi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-This new substance is heavier as there are two different elements in the substance, they are magnesium and oxy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85800" y="228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00"/>
                </a:solidFill>
                <a:latin typeface="Arial"/>
              </a:rPr>
              <a:t>Making a comp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make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When elements join to make a compound, energy is released and a new substance 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A word which means ‘energy released’ is </a:t>
            </a:r>
            <a:r>
              <a:rPr b="1" lang="en-GB" sz="3200" spc="-1" strike="noStrike">
                <a:solidFill>
                  <a:srgbClr val="99cc00"/>
                </a:solidFill>
                <a:latin typeface="Arial"/>
              </a:rPr>
              <a:t>exothermic</a:t>
            </a: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do you think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dothermic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mea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ing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and symbols that you should kn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838080" y="1981080"/>
            <a:ext cx="723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4920" y="2133720"/>
            <a:ext cx="2743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He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Lith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Beryl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Bo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Car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181480" y="2057400"/>
            <a:ext cx="2743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Fluo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Ne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Alumi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Sil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Phosp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743200" y="2133720"/>
            <a:ext cx="685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7924680" y="2057400"/>
            <a:ext cx="9144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533520" y="380880"/>
            <a:ext cx="8153280" cy="15958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f two identical elements combine then the name doesn’t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.e.g. oxygen + oxygen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4"/>
          <p:cNvGrpSpPr/>
          <p:nvPr/>
        </p:nvGrpSpPr>
        <p:grpSpPr>
          <a:xfrm>
            <a:off x="533520" y="2133720"/>
            <a:ext cx="8229600" cy="3351600"/>
            <a:chOff x="533520" y="2133720"/>
            <a:chExt cx="8229600" cy="3351600"/>
          </a:xfrm>
        </p:grpSpPr>
        <p:sp>
          <p:nvSpPr>
            <p:cNvPr id="67" name="Text Box 5"/>
            <p:cNvSpPr/>
            <p:nvPr/>
          </p:nvSpPr>
          <p:spPr>
            <a:xfrm>
              <a:off x="533520" y="2133720"/>
              <a:ext cx="8229600" cy="33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This happens with the following elements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N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"/>
            <p:cNvSpPr/>
            <p:nvPr/>
          </p:nvSpPr>
          <p:spPr>
            <a:xfrm>
              <a:off x="5105520" y="3208680"/>
              <a:ext cx="3657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7"/>
          <p:cNvGrpSpPr/>
          <p:nvPr/>
        </p:nvGrpSpPr>
        <p:grpSpPr>
          <a:xfrm>
            <a:off x="380880" y="4876920"/>
            <a:ext cx="7619760" cy="1677960"/>
            <a:chOff x="380880" y="4876920"/>
            <a:chExt cx="7619760" cy="1677960"/>
          </a:xfrm>
        </p:grpSpPr>
        <p:sp>
          <p:nvSpPr>
            <p:cNvPr id="70" name="Text Box 8"/>
            <p:cNvSpPr/>
            <p:nvPr/>
          </p:nvSpPr>
          <p:spPr>
            <a:xfrm>
              <a:off x="380880" y="4876920"/>
              <a:ext cx="464796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ffffff"/>
                  </a:solidFill>
                  <a:latin typeface="Comic Sans MS"/>
                </a:rPr>
                <a:t>These elements always go around in pairs.  For example, hydrogen looks like this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9"/>
            <p:cNvGrpSpPr/>
            <p:nvPr/>
          </p:nvGrpSpPr>
          <p:grpSpPr>
            <a:xfrm>
              <a:off x="5638680" y="5105520"/>
              <a:ext cx="2361960" cy="762120"/>
              <a:chOff x="5638680" y="5105520"/>
              <a:chExt cx="2361960" cy="762120"/>
            </a:xfrm>
          </p:grpSpPr>
          <p:sp>
            <p:nvSpPr>
              <p:cNvPr id="72" name="Line 10"/>
              <p:cNvSpPr/>
              <p:nvPr/>
            </p:nvSpPr>
            <p:spPr>
              <a:xfrm>
                <a:off x="6019560" y="5486400"/>
                <a:ext cx="1523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11"/>
              <p:cNvSpPr/>
              <p:nvPr/>
            </p:nvSpPr>
            <p:spPr>
              <a:xfrm>
                <a:off x="5638680" y="510552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12"/>
              <p:cNvSpPr/>
              <p:nvPr/>
            </p:nvSpPr>
            <p:spPr>
              <a:xfrm>
                <a:off x="7238880" y="510552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6"/>
          <p:cNvGrpSpPr/>
          <p:nvPr/>
        </p:nvGrpSpPr>
        <p:grpSpPr>
          <a:xfrm>
            <a:off x="380880" y="4191120"/>
            <a:ext cx="8229600" cy="2301120"/>
            <a:chOff x="380880" y="4191120"/>
            <a:chExt cx="8229600" cy="2301120"/>
          </a:xfrm>
        </p:grpSpPr>
        <p:sp>
          <p:nvSpPr>
            <p:cNvPr id="76" name="Text Box 7"/>
            <p:cNvSpPr/>
            <p:nvPr/>
          </p:nvSpPr>
          <p:spPr>
            <a:xfrm>
              <a:off x="380880" y="4191120"/>
              <a:ext cx="4191120" cy="23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Sodium + chlori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Magnesium + fluori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6095880" y="4191120"/>
              <a:ext cx="2514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Rectangle 10"/>
          <p:cNvSpPr/>
          <p:nvPr/>
        </p:nvSpPr>
        <p:spPr>
          <a:xfrm>
            <a:off x="685800" y="10666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en two elements join the name ends with ____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.g. Magnesium + oxygen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agnesium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609480" y="838080"/>
            <a:ext cx="7925040" cy="259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4343400" y="2438280"/>
            <a:ext cx="9144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3"/>
          <p:cNvGrpSpPr/>
          <p:nvPr/>
        </p:nvGrpSpPr>
        <p:grpSpPr>
          <a:xfrm>
            <a:off x="533520" y="609480"/>
            <a:ext cx="8153280" cy="1937880"/>
            <a:chOff x="533520" y="609480"/>
            <a:chExt cx="8153280" cy="1937880"/>
          </a:xfrm>
        </p:grpSpPr>
        <p:sp>
          <p:nvSpPr>
            <p:cNvPr id="82" name="Text Box 4"/>
            <p:cNvSpPr/>
            <p:nvPr/>
          </p:nvSpPr>
          <p:spPr>
            <a:xfrm>
              <a:off x="533520" y="609480"/>
              <a:ext cx="8153280" cy="1937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one of them is oxygen the ending is _____ite or 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________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e.g. Copper + sulphur + oxygen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Copper sulph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5"/>
            <p:cNvSpPr/>
            <p:nvPr/>
          </p:nvSpPr>
          <p:spPr>
            <a:xfrm>
              <a:off x="5410080" y="22096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6"/>
          <p:cNvGrpSpPr/>
          <p:nvPr/>
        </p:nvGrpSpPr>
        <p:grpSpPr>
          <a:xfrm>
            <a:off x="457200" y="3124080"/>
            <a:ext cx="8229600" cy="2785320"/>
            <a:chOff x="457200" y="3124080"/>
            <a:chExt cx="8229600" cy="2785320"/>
          </a:xfrm>
        </p:grpSpPr>
        <p:sp>
          <p:nvSpPr>
            <p:cNvPr id="85" name="Text Box 7"/>
            <p:cNvSpPr/>
            <p:nvPr/>
          </p:nvSpPr>
          <p:spPr>
            <a:xfrm>
              <a:off x="457200" y="3124080"/>
              <a:ext cx="5334120" cy="27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dium + sulphur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6172200" y="3124080"/>
              <a:ext cx="2514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29:18Z</dcterms:created>
  <dc:creator>CIC1</dc:creator>
  <dc:description/>
  <dc:language>en-US</dc:language>
  <cp:lastModifiedBy>RomaK</cp:lastModifiedBy>
  <dcterms:modified xsi:type="dcterms:W3CDTF">2015-09-02T05:55:16Z</dcterms:modified>
  <cp:revision>15</cp:revision>
  <dc:subject/>
  <dc:title>Naming Compounds cations and anions</dc:title>
</cp:coreProperties>
</file>