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C121-462A-4279-9A4D-8C54758A70C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Rise and Fall of the Populist Party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67-1896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se and Fall of the Populist Par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67-189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rmers’ Problem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er prices for crop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rmers had no cash . . .went further into debt. . . foreclosed on mortgag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ilroads charged outrageous prices to ship crops (no regulation!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’ 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prices for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had no cash . . .went further into debt. . . foreclosed on mortg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lroads charged outrageous prices to ship crops (no regulation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rmers’ Demand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ulate the railroad companies! (stop them from charging such high rate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ke cash more available (back the dollar with silver, not gold, so dollar will be worth les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litical demands: single term for President and Vice-President; secret ballot; popular election of Senato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get industrial workers to support them: 8-hour workday; restrict immig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’ Deman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te the railroad companies! (stop them from charging such high ra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cash more available (back the dollar with silver, not gold, so dollar will be worth le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al demands: single term for President and Vice-President; secret ballot; popular election of Se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et industrial workers to support them: 8-hour workday; restrict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 Groups Representing Farmers’ Intere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67:  The Patrons of Husbandry (The Grange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80s:  Farmers’ Alliance and Colored Farmers’ National Allia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92:  Birth of the Populist, or People’s Part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Groups Representing Farmers’ Inter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67:  The Patrons of Husbandry (The Gran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0s:  Farmers’ Alliance and Colored Farmers’ National Al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92:  Birth of the Populist, or People’s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92 Presidential Election:  Populist Candidate won over a million votes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92 Presidential Election:  Populist Candidate won over a million vot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96 Ele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pulists decide to improve their chances by supporting a Democratic candidate: William Jennings Bryan, who agreed to support the Silver-backed dolla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96 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ists decide to improve their chances by supporting a Democratic candidate: William Jennings Bryan, who agreed to support the Silver-backed doll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96 Presidential Election:  Bryan loses but carries most of the South and Wes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96 Presidential Election:  Bryan loses but carries most of the South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A162-BA14-4686-A430-9C64650FE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767C-A1A1-4FC6-A539-9140F8C8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128B-3677-4C10-802E-A97647199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3F90-2C1F-4FC2-A530-8640F6054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E957-984E-4FE4-A9C0-5D299825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D933-08E4-4967-A413-44F14F1C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737A-A623-41EF-9EA3-9A507B97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7FBD-AA94-4904-9AC9-DEF11A69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3789-90C2-4F92-A1D9-25764809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E04B-C072-458D-A247-F818EC94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5AEF-03E7-4060-9EBB-6B750E95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99B4-84F7-45F1-BE8E-E019971A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F5DC-34B1-4524-8A5A-7B1F7C16BA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86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ise and Fall of the Populist Par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867-189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rmers’ Proble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 prices for cr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rmers had no cash . . .went further into debt. . . foreclosed on mortg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ilroads charged outrageous prices to ship crops (no regulation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rmers’ Demand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e the railroad companies! (stop them from charging such high ra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cash more available (back the dollar with silver, not gold, so dollar will be worth l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tical demands: single term for President and Vice-President; secret ballot; popular election of Sen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et industrial workers to support them: 8-hour workday; restrict im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 Groups Representing Farmers’ Intere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67:  The Patrons of Husbandry (The Gran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80s:  Farmers’ Alliance and Colored Farmers’ National All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92:  Birth of the Populist, or People’s Pa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map 1892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9244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609480" y="3808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92 Presidential Election:  Populist Candidate won over a million votes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896 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ulists decide to improve their chances by supporting a Democratic candidate: William Jennings Bryan, who agreed to support the Silver-backed dol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Object 5"/>
          <p:cNvGraphicFramePr/>
          <p:nvPr/>
        </p:nvGraphicFramePr>
        <p:xfrm>
          <a:off x="2133720" y="2971800"/>
          <a:ext cx="5630760" cy="346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971800"/>
                    <a:ext cx="5630760" cy="34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map 1896"/>
          <p:cNvPicPr/>
          <p:nvPr/>
        </p:nvPicPr>
        <p:blipFill>
          <a:blip r:embed="rId1"/>
          <a:stretch/>
        </p:blipFill>
        <p:spPr>
          <a:xfrm>
            <a:off x="0" y="1506600"/>
            <a:ext cx="9144000" cy="49608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609480" y="3808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96 Presidential Election:  Bryan loses but carries most of the South and W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4:38:46Z</dcterms:created>
  <dc:creator>Abby Reisman</dc:creator>
  <dc:description/>
  <dc:language>en-US</dc:language>
  <cp:lastModifiedBy>Legion</cp:lastModifiedBy>
  <dcterms:modified xsi:type="dcterms:W3CDTF">2017-07-05T13:24:08Z</dcterms:modified>
  <cp:revision>19</cp:revision>
  <dc:subject/>
  <dc:title>PowerPoint Presentation</dc:title>
</cp:coreProperties>
</file>