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8C6C-9497-49AD-90C4-3807F319A77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443-2E4D-4DA6-9FA5-4664E1B6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EE7-330D-4B44-8FA6-52BF59FA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086-4371-4E5F-88D4-9E700C9E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EF6-992C-437E-AD95-68865B5E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954-F80C-4240-93AD-7E0468C3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D30-527F-4AC6-9FD9-6B875942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AA5-C147-4C4A-8196-811273CD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979-359B-4D15-B2EF-2D8DC49B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F4A-0BF8-4B45-9CD1-3D325A25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5B4-B377-4DE5-A837-6FEB48CD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4B7-04E0-4A3D-B827-EAFB4645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CFC-C71A-4C1C-85B5-2377B565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52EA-38F6-4E41-8DD6-A5A8D6766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Legion</cp:lastModifiedBy>
  <dcterms:modified xsi:type="dcterms:W3CDTF">2017-07-05T13:24:08Z</dcterms:modified>
  <cp:revision>19</cp:revision>
  <dc:subject/>
  <dc:title>PowerPoint Presentation</dc:title>
</cp:coreProperties>
</file>